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812-3100-4ABD-9BEE-E503CD2C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BA9-B527-4054-951B-ED996D5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B73-7297-4FB4-A0FD-41F17760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08E-9994-4F91-9243-C2C13F6E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8D9F-E6E3-4A2F-8602-CFAF1968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7F7-642D-4B20-88E8-72330C9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C90-7320-4845-8A86-CA59B3D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3D36-3A89-4CA6-AC44-D225312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E7A-39BC-44A8-92CF-2DAF91A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8C55-C77D-4D7E-A08E-BAAEB66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55BD-D695-4A51-A298-04DEBCF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BEA-F733-4ADB-9A03-81AFF7C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F855-DA07-4BF5-81EA-BC450948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C9DA-487C-45E7-9E87-C06AC2E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47E6-0326-4C8F-BEE2-C5DABB5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7B16-3EDC-43AB-BB13-4CA4F672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899B-5110-4035-927B-EE5CA21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EC3-5609-450C-8BE4-D11E2076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B62-4403-4954-8275-7F55ADC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F9B-BC52-4815-9A9B-AB2BB08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5AC-340C-454D-9975-07F3E08C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2C8-1E39-4A28-B30B-A2146F1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C29-8A03-4F55-8725-33B5376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68-93E2-44BE-9287-C139741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5BC-D513-46A9-844E-E2BFE7EC898E}" type="slidenum"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cember 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9C1-AAE1-4D1D-930B-5B446C43AE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-OPS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thentication Prof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Genov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F team ES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rence Berkeley Nation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uthentication pro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edera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A36-C889-4358-A1AE-2F17BE88AE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uthentication Profil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uthentication services will fragment the current global trust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we must allow for innovations in Authenticatio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PKI procrustean bed no longer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 draft GGF informational do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D2C-8B13-4BDF-80C7-4F1ED4078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uthentication Profile what is in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ervices must provide basic information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ance of authentication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membership and operational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 model that Relying parties can t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B5A-830A-4BB2-BA67-60282BEB6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Federation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definition -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ation and repository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s and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nd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D10-CB27-4A24-B8AB-030F923895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Federations that can be profil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ederation with common Auth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PS - Site Integrated Prox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 exam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SSL support - Host certificat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F - RADIUS Authentication Fa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Credential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324-D7C8-4B2B-BE59-806DCDAE50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of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guidance material being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name to reflect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 Federations for Gr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Federation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Federation set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used by the Americas Grid PMA for char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800-CB07-4D3A-A674-A18BD2077C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0:37:25Z</dcterms:created>
  <dc:creator>TonyG</dc:creator>
  <dc:description/>
  <dc:language>en-US</dc:language>
  <cp:lastModifiedBy>Tony</cp:lastModifiedBy>
  <dcterms:modified xsi:type="dcterms:W3CDTF">2005-03-11T00:35:46Z</dcterms:modified>
  <cp:revision>27</cp:revision>
  <dc:subject/>
  <dc:title>PKI Service changes</dc:title>
</cp:coreProperties>
</file>