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eugridpma-02v03trozo2" descr="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791320" y="6597720"/>
            <a:ext cx="3097080" cy="260280"/>
            <a:chOff x="5791320" y="6597720"/>
            <a:chExt cx="3097080" cy="260280"/>
          </a:xfrm>
        </p:grpSpPr>
        <p:sp>
          <p:nvSpPr>
            <p:cNvPr id="3" name=""/>
            <p:cNvSpPr/>
            <p:nvPr/>
          </p:nvSpPr>
          <p:spPr>
            <a:xfrm>
              <a:off x="5791320" y="6597720"/>
              <a:ext cx="309708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91320" y="6597720"/>
              <a:ext cx="30970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IGF meeting, March 15 2005 - </a:t>
              </a:r>
              <a:fld id="{E333C01C-A4C6-4895-9C1C-5F2EC845E50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chair@eugridpma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eugridpma-02v02" descr="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49" name="eugridpma-02v03" descr=""/>
          <p:cNvPicPr/>
          <p:nvPr/>
        </p:nvPicPr>
        <p:blipFill>
          <a:blip r:embed="rId2"/>
          <a:stretch/>
        </p:blipFill>
        <p:spPr>
          <a:xfrm>
            <a:off x="1541520" y="118584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5120" y="3762360"/>
            <a:ext cx="8067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tribution Repository Structure</a:t>
            </a:r>
            <a:br>
              <a:rPr sz="3000"/>
            </a:br>
            <a:br>
              <a:rPr sz="3000"/>
            </a:br>
            <a:r>
              <a:rPr b="0" lang="en-GB" sz="2200" spc="-1" strike="noStrike">
                <a:solidFill>
                  <a:srgbClr val="000066"/>
                </a:solidFill>
                <a:latin typeface="Lucida Sans"/>
              </a:rPr>
              <a:t>David Groep, 2005.03.15</a:t>
            </a:r>
            <a:endParaRPr b="1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573120" y="230040"/>
            <a:ext cx="80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Lucida Sans"/>
              </a:rPr>
              <a:t>http://www.eugridpm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aming conven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Authority will have an alias of 4-16 cha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have a shortn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“eugridpma”, “apgridpma”, “tagpma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rofile will have a shortname for use in RPM specialisation and for the –with-profile= configure opti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lassic”: traditional, secured PKI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ps”: Site Integrated Proxy Servers, k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cs”: secured Active Certs Stores, NERSC-sty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xperimental”: testing and experimental authoritie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f any kind that need distribu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est”: internal testing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irroring require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mirror all others &amp; the 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eb site / directory nam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ttp://www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.pmaname.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rg/distribution/mirror/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 frequency: once dai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so mirror yourself for consistency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o “/distribution/mirror” will be same everywhe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of trust anchor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PMA distributes a set of trust anchors for the community of all accredited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though published via a secure web site, RPs are invited to cross-check the trust anchors against TACAR &amp;c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en using common auth profiles, RPs are likely to install all accredited authorities from all PM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ed simple, common mechanis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upport both simple tar-based install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nd RPM/yum/apt (and debian?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item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e 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ncluding meta-data like CRL 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” meta-RPMS for accredited author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ar 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combined tarball with configure/install scrip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urrent layout (one profile only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current -&gt; 0.2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1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2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  /cabundle-eugridpma-accredited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ca_policy_eugridpma-0.27-1.noarch.rp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headers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ed structure (multiple profile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current -&gt; eugridpma/1.0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accredited/RPM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NAME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acs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bundle-eugridpma-accredited.tar.g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apgrid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pgridpma/current/accredited/ca_policy_apgridpma-classic-0.3-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tag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tagpma/current/accredited/ca_policy_tagpma-sips-1.2-1.noarch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eugridpma/current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current/accredited/RPMS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ca_policy_igf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eu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ap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) ./configure --prefix=/etc/security/grid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--with-profile=acs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make install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sing the RPM repositor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ing all PMA 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current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positories mirrored under one root allows YUM/APT updates from a single sour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f the “current” is mirrored and old files removed, manual installation is also unambiguo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ing ensures getting always the latest from every PM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 all “classic” CAs with a single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-classi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e an “overall” policy file that includes all profiles: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RPM dependenc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-2.3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authname = 2.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3.4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sips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acs = 3.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eu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ap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tag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sips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acs = 1.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A package cont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quir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ust anchor: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loca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rl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space defini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signing_polic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ptional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RT location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a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web page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ackage dependencies (RPM onl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or a hierarchical PKI the RPM name of the parent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etadata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.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c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with: alias, full name, AuthProfile, email addresses, PDS, CP/CPS link, all as “attribute=value” pai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ar/Configure based installa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will download three tar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uns ./configure three tim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but same format for all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ix=path [default: /etc/grid-security/certificat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ith-profile=authprofilenam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[default: all profil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 Groep</cp:lastModifiedBy>
  <dcterms:modified xsi:type="dcterms:W3CDTF">2005-03-13T06:57:38Z</dcterms:modified>
  <cp:revision>118</cp:revision>
  <dc:subject/>
  <dc:title>European Grid Policy Management Authority</dc:title>
</cp:coreProperties>
</file>