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BCB-906E-4D55-9EFF-65CB1597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171-4EE5-4C2F-92A0-49394FA3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32E-DAD7-48BB-88D9-8F4AEE91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04E-E1B7-4890-A3CE-BD7ED08F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F0D-4830-44A9-B554-A6086838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45ED-1602-447F-82E6-35D759A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F6F9-760B-4F35-BF99-1B3A65E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39B7-DDFB-414B-B6C0-9870EB6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7D4-CE72-4D4A-8DD8-5788A5C6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078B-7263-41C3-B06A-E69420D2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1BE6-ECD9-4DA7-AF5B-C18E5B3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3AA-C2C0-4F82-A1D3-6D55D17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1133-CD8C-43D1-8D5C-031C53E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7E9-B479-4455-8FE8-D46C83E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B9B8-B924-467F-A70C-CEA96297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0796-B6AF-4869-A236-E0B2E62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3A5-B84F-4D7B-AB74-8AAB7816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0AC-DA03-47F1-A898-6016E76F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8E0-86FE-4113-AE28-B250CA43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0D8-C32F-4B8C-B669-95030FA2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BD0-57F4-4800-8F5C-4DEBB175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95E-C723-49C9-AE89-9003AA6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FA6-E4E8-4D84-91DA-8B5D6AB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FA6-6505-4598-BF84-801527C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2C3-9609-4383-96E2-DC30491F79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F42-1613-48FF-8082-18B1AB34E0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ridpma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tional Grid Fe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up in March 2003 – the Tokyo accord. </a:t>
            </a:r>
            <a:r>
              <a:rPr b="0" lang="en-US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ridPMA.or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 trust peering between The Americas, European and Asian Pacific commun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olicy Management Autho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GEE: Enabling Grids for E-science in Euro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Policy Management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Grid: National Institute of Advanced Industrial Science and Techn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mericas Grid PMA – 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ada and USA (DO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s the establishment of top level CA regist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uste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arty repositories need for establishment of tru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ot CA certificates, CA repositories and CRL publishing poi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MA registry – de facto  (CNRS: French National Center for Scientific Resear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CA registry (AP PM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ENA TACAR (TERENA Academic CA Reposit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Global Grid Forum for publishing Standards and community best pract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5:45Z</dcterms:created>
  <dc:creator>Tony</dc:creator>
  <dc:description/>
  <dc:language>en-US</dc:language>
  <cp:lastModifiedBy>Tony</cp:lastModifiedBy>
  <dcterms:modified xsi:type="dcterms:W3CDTF">2005-01-28T09:36:11Z</dcterms:modified>
  <cp:revision>1</cp:revision>
  <dc:subject/>
  <dc:title>International Grid Federation</dc:title>
</cp:coreProperties>
</file>