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E27A-5FBB-4E9B-B7CF-9D0A2776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EB64-70AD-4B6A-B407-3C21791F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13ED-3D24-4267-9F62-30D955F5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FE0B-CD84-4490-8CE3-FDCCA4DE9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F5A3-70CA-4622-8E8D-7FB5F8CA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9F90-09F6-4856-9C06-6860980F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977F-32DA-429E-9DE0-9BDE2DB6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8F8F-3701-4349-97D7-E72961F1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7253-F73A-44A4-9F2C-A0F474BC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07FB-E691-4CCE-9D7D-7D51C85F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E1A6-242C-4B29-9EEB-1BD556CD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B39C-E8D9-49B5-A8C6-49A4F409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1814-3647-4287-A53B-D66E08917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86600" y="0"/>
            <a:ext cx="2057400" cy="1173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G Request to Regional P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GF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15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Cowles &amp; Dane Sk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reditation Pro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e or develop accepted standard pro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re approximate parity in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peer re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 for and arbitrate overl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 only non-overlapping CA signing policy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our participation as a relying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ying parties able to make known needs and raise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on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e information about accredited 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methods for relying parties to obtain automatic information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to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of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 Certif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to policies &amp; cont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other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ith standards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p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st remains decision of resource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nd to encourage reliance on IGF member accred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significant value as role of common service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accept this requested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8:03:05Z</dcterms:created>
  <dc:creator>Robert Cowles</dc:creator>
  <dc:description/>
  <dc:language>en-US</dc:language>
  <cp:lastModifiedBy>Robert Cowles</cp:lastModifiedBy>
  <dcterms:modified xsi:type="dcterms:W3CDTF">2005-03-15T08:33:48Z</dcterms:modified>
  <cp:revision>1</cp:revision>
  <dc:subject/>
  <dc:title>OSG Request to Regional PMA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96807805</vt:r8>
  </property>
  <property fmtid="{D5CDD505-2E9C-101B-9397-08002B2CF9AE}" pid="3" name="_AuthorEmail">
    <vt:lpwstr>rdc@slac.stanford.edu</vt:lpwstr>
  </property>
  <property fmtid="{D5CDD505-2E9C-101B-9397-08002B2CF9AE}" pid="4" name="_AuthorEmailDisplayName">
    <vt:lpwstr>Cowles, Robert D.</vt:lpwstr>
  </property>
  <property fmtid="{D5CDD505-2E9C-101B-9397-08002B2CF9AE}" pid="5" name="_EmailSubject">
    <vt:lpwstr>OSG Request to Regional PMAs.ppt</vt:lpwstr>
  </property>
  <property fmtid="{D5CDD505-2E9C-101B-9397-08002B2CF9AE}" pid="6" name="_NewReviewCycle">
    <vt:lpwstr/>
  </property>
</Properties>
</file>