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9.png" ContentType="image/png"/>
  <Override PartName="/ppt/media/image12.png" ContentType="image/png"/>
  <Override PartName="/ppt/embeddings/oleObject1.bin" ContentType="application/vnd.openxmlformats-officedocument.oleObject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8497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94920" y="3836160"/>
            <a:ext cx="8497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9492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4948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68080" y="105228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1240" y="105228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94920" y="383616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68080" y="383616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1240" y="383616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94920" y="1052280"/>
            <a:ext cx="849780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8497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00000" y="43920"/>
            <a:ext cx="82440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9492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94920" y="1052280"/>
            <a:ext cx="849780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4948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94920" y="3836160"/>
            <a:ext cx="8497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8497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94920" y="3836160"/>
            <a:ext cx="8497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9492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4948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68080" y="105228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41240" y="105228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94920" y="383616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68080" y="383616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41240" y="383616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94920" y="1052280"/>
            <a:ext cx="849780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8497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8497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900000" y="43920"/>
            <a:ext cx="82440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9492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74948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394920" y="3836160"/>
            <a:ext cx="8497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8497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94920" y="3836160"/>
            <a:ext cx="8497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9492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74948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268080" y="105228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141240" y="105228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394920" y="383616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268080" y="383616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141240" y="383616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394920" y="1052280"/>
            <a:ext cx="849780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8497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900000" y="43920"/>
            <a:ext cx="82440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39492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4948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394920" y="3836160"/>
            <a:ext cx="8497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8497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94920" y="3836160"/>
            <a:ext cx="8497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39492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4948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68080" y="105228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41240" y="105228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394920" y="383616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68080" y="383616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41240" y="383616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94920" y="1052280"/>
            <a:ext cx="849780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8497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900000" y="43920"/>
            <a:ext cx="82440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9492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4948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94920" y="3836160"/>
            <a:ext cx="8497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8497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94920" y="3836160"/>
            <a:ext cx="8497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9492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4948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00000" y="43920"/>
            <a:ext cx="82440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68080" y="105228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41240" y="105228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94920" y="383616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68080" y="383616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41240" y="383616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394920" y="1052280"/>
            <a:ext cx="849780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8497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900000" y="43920"/>
            <a:ext cx="82440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39492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74948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394920" y="3836160"/>
            <a:ext cx="8497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9492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8497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94920" y="3836160"/>
            <a:ext cx="8497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39492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74948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68080" y="105228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141240" y="105228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394920" y="383616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68080" y="383616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141240" y="383616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66AC68-6F8D-4DA6-B1AE-751590429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394920" y="1052280"/>
            <a:ext cx="849780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35649-5F5B-4944-AC92-397E470AC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8497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97136C-48F9-422C-AC71-2F89CD016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3194A-A281-468D-9919-302D418B3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39C7B-0E93-46C9-B955-BBB04131E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900000" y="43920"/>
            <a:ext cx="82440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C6202E-EB33-401B-9E45-15A2336C1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39492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6264D5-D938-4B18-9AF8-07466FBC9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4948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4948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69F5FF-66E6-408C-A89D-F475452A4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394920" y="3836160"/>
            <a:ext cx="8497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7FB310-FA62-4551-963C-E9770124F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8497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94920" y="3836160"/>
            <a:ext cx="8497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1BF646-37BE-490F-BA97-C3C1B8FB8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39492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4948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65B980-1D72-4B01-B65D-01A3D7E37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68080" y="105228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41240" y="105228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394920" y="383616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68080" y="383616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41240" y="383616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A06019-639F-445A-A966-B23DA8BCB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394920" y="1052280"/>
            <a:ext cx="849780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8497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94920" y="3836160"/>
            <a:ext cx="8497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900000" y="43920"/>
            <a:ext cx="82440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39492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74948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94920" y="3836160"/>
            <a:ext cx="8497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8497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94920" y="3836160"/>
            <a:ext cx="8497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39492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74948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68080" y="105228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141240" y="105228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394920" y="383616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68080" y="383616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141240" y="383616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oleObject" Target="../embeddings/oleObject1.bin"/><Relationship Id="rId10" Type="http://schemas.openxmlformats.org/officeDocument/2006/relationships/image" Target="../media/image6.png"/><Relationship Id="rId11" Type="http://schemas.openxmlformats.org/officeDocument/2006/relationships/image" Target="../media/image7.jpeg"/><Relationship Id="rId12" Type="http://schemas.openxmlformats.org/officeDocument/2006/relationships/image" Target="../media/image8.png"/><Relationship Id="rId13" Type="http://schemas.openxmlformats.org/officeDocument/2006/relationships/image" Target="../media/image9.png"/><Relationship Id="rId14" Type="http://schemas.openxmlformats.org/officeDocument/2006/relationships/image" Target="../media/image10.png"/><Relationship Id="rId15" Type="http://schemas.openxmlformats.org/officeDocument/2006/relationships/slideLayout" Target="../slideLayouts/slideLayout1.xml"/><Relationship Id="rId16" Type="http://schemas.openxmlformats.org/officeDocument/2006/relationships/slideLayout" Target="../slideLayouts/slideLayout2.xml"/><Relationship Id="rId17" Type="http://schemas.openxmlformats.org/officeDocument/2006/relationships/slideLayout" Target="../slideLayouts/slideLayout3.xml"/><Relationship Id="rId18" Type="http://schemas.openxmlformats.org/officeDocument/2006/relationships/slideLayout" Target="../slideLayouts/slideLayout4.xml"/><Relationship Id="rId19" Type="http://schemas.openxmlformats.org/officeDocument/2006/relationships/slideLayout" Target="../slideLayouts/slideLayout5.xml"/><Relationship Id="rId20" Type="http://schemas.openxmlformats.org/officeDocument/2006/relationships/slideLayout" Target="../slideLayouts/slideLayout6.xml"/><Relationship Id="rId21" Type="http://schemas.openxmlformats.org/officeDocument/2006/relationships/slideLayout" Target="../slideLayouts/slideLayout7.xml"/><Relationship Id="rId22" Type="http://schemas.openxmlformats.org/officeDocument/2006/relationships/slideLayout" Target="../slideLayouts/slideLayout8.xml"/><Relationship Id="rId23" Type="http://schemas.openxmlformats.org/officeDocument/2006/relationships/slideLayout" Target="../slideLayouts/slideLayout9.xml"/><Relationship Id="rId24" Type="http://schemas.openxmlformats.org/officeDocument/2006/relationships/slideLayout" Target="../slideLayouts/slideLayout10.xml"/><Relationship Id="rId25" Type="http://schemas.openxmlformats.org/officeDocument/2006/relationships/slideLayout" Target="../slideLayouts/slideLayout11.xml"/><Relationship Id="rId2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oleObject" Target="../embeddings/oleObject1.bin"/><Relationship Id="rId10" Type="http://schemas.openxmlformats.org/officeDocument/2006/relationships/image" Target="../media/image6.png"/><Relationship Id="rId11" Type="http://schemas.openxmlformats.org/officeDocument/2006/relationships/image" Target="../media/image7.jpeg"/><Relationship Id="rId12" Type="http://schemas.openxmlformats.org/officeDocument/2006/relationships/image" Target="../media/image8.png"/><Relationship Id="rId13" Type="http://schemas.openxmlformats.org/officeDocument/2006/relationships/image" Target="../media/image9.png"/><Relationship Id="rId14" Type="http://schemas.openxmlformats.org/officeDocument/2006/relationships/image" Target="../media/image10.png"/><Relationship Id="rId15" Type="http://schemas.openxmlformats.org/officeDocument/2006/relationships/slideLayout" Target="../slideLayouts/slideLayout25.xml"/><Relationship Id="rId16" Type="http://schemas.openxmlformats.org/officeDocument/2006/relationships/slideLayout" Target="../slideLayouts/slideLayout26.xml"/><Relationship Id="rId17" Type="http://schemas.openxmlformats.org/officeDocument/2006/relationships/slideLayout" Target="../slideLayouts/slideLayout27.xml"/><Relationship Id="rId18" Type="http://schemas.openxmlformats.org/officeDocument/2006/relationships/slideLayout" Target="../slideLayouts/slideLayout28.xml"/><Relationship Id="rId19" Type="http://schemas.openxmlformats.org/officeDocument/2006/relationships/slideLayout" Target="../slideLayouts/slideLayout29.xml"/><Relationship Id="rId20" Type="http://schemas.openxmlformats.org/officeDocument/2006/relationships/slideLayout" Target="../slideLayouts/slideLayout30.xml"/><Relationship Id="rId21" Type="http://schemas.openxmlformats.org/officeDocument/2006/relationships/slideLayout" Target="../slideLayouts/slideLayout31.xml"/><Relationship Id="rId22" Type="http://schemas.openxmlformats.org/officeDocument/2006/relationships/slideLayout" Target="../slideLayouts/slideLayout32.xml"/><Relationship Id="rId23" Type="http://schemas.openxmlformats.org/officeDocument/2006/relationships/slideLayout" Target="../slideLayouts/slideLayout33.xml"/><Relationship Id="rId24" Type="http://schemas.openxmlformats.org/officeDocument/2006/relationships/slideLayout" Target="../slideLayouts/slideLayout34.xml"/><Relationship Id="rId25" Type="http://schemas.openxmlformats.org/officeDocument/2006/relationships/slideLayout" Target="../slideLayouts/slideLayout35.xml"/><Relationship Id="rId2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oleObject" Target="../embeddings/oleObject1.bin"/><Relationship Id="rId10" Type="http://schemas.openxmlformats.org/officeDocument/2006/relationships/image" Target="../media/image6.png"/><Relationship Id="rId11" Type="http://schemas.openxmlformats.org/officeDocument/2006/relationships/image" Target="../media/image7.jpeg"/><Relationship Id="rId12" Type="http://schemas.openxmlformats.org/officeDocument/2006/relationships/image" Target="../media/image8.png"/><Relationship Id="rId13" Type="http://schemas.openxmlformats.org/officeDocument/2006/relationships/image" Target="../media/image9.png"/><Relationship Id="rId14" Type="http://schemas.openxmlformats.org/officeDocument/2006/relationships/slideLayout" Target="../slideLayouts/slideLayout49.xml"/><Relationship Id="rId15" Type="http://schemas.openxmlformats.org/officeDocument/2006/relationships/slideLayout" Target="../slideLayouts/slideLayout50.xml"/><Relationship Id="rId16" Type="http://schemas.openxmlformats.org/officeDocument/2006/relationships/slideLayout" Target="../slideLayouts/slideLayout51.xml"/><Relationship Id="rId17" Type="http://schemas.openxmlformats.org/officeDocument/2006/relationships/slideLayout" Target="../slideLayouts/slideLayout52.xml"/><Relationship Id="rId18" Type="http://schemas.openxmlformats.org/officeDocument/2006/relationships/slideLayout" Target="../slideLayouts/slideLayout53.xml"/><Relationship Id="rId19" Type="http://schemas.openxmlformats.org/officeDocument/2006/relationships/slideLayout" Target="../slideLayouts/slideLayout54.xml"/><Relationship Id="rId20" Type="http://schemas.openxmlformats.org/officeDocument/2006/relationships/slideLayout" Target="../slideLayouts/slideLayout55.xml"/><Relationship Id="rId21" Type="http://schemas.openxmlformats.org/officeDocument/2006/relationships/slideLayout" Target="../slideLayouts/slideLayout56.xml"/><Relationship Id="rId22" Type="http://schemas.openxmlformats.org/officeDocument/2006/relationships/slideLayout" Target="../slideLayouts/slideLayout57.xml"/><Relationship Id="rId23" Type="http://schemas.openxmlformats.org/officeDocument/2006/relationships/slideLayout" Target="../slideLayouts/slideLayout58.xml"/><Relationship Id="rId24" Type="http://schemas.openxmlformats.org/officeDocument/2006/relationships/slideLayout" Target="../slideLayouts/slideLayout59.xml"/><Relationship Id="rId2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7.jpeg"/><Relationship Id="rId10" Type="http://schemas.openxmlformats.org/officeDocument/2006/relationships/slideLayout" Target="../slideLayouts/slideLayout73.xml"/><Relationship Id="rId11" Type="http://schemas.openxmlformats.org/officeDocument/2006/relationships/slideLayout" Target="../slideLayouts/slideLayout74.xml"/><Relationship Id="rId12" Type="http://schemas.openxmlformats.org/officeDocument/2006/relationships/slideLayout" Target="../slideLayouts/slideLayout75.xml"/><Relationship Id="rId13" Type="http://schemas.openxmlformats.org/officeDocument/2006/relationships/slideLayout" Target="../slideLayouts/slideLayout76.xml"/><Relationship Id="rId14" Type="http://schemas.openxmlformats.org/officeDocument/2006/relationships/slideLayout" Target="../slideLayouts/slideLayout77.xml"/><Relationship Id="rId15" Type="http://schemas.openxmlformats.org/officeDocument/2006/relationships/slideLayout" Target="../slideLayouts/slideLayout78.xml"/><Relationship Id="rId16" Type="http://schemas.openxmlformats.org/officeDocument/2006/relationships/slideLayout" Target="../slideLayouts/slideLayout79.xml"/><Relationship Id="rId17" Type="http://schemas.openxmlformats.org/officeDocument/2006/relationships/slideLayout" Target="../slideLayouts/slideLayout80.xml"/><Relationship Id="rId18" Type="http://schemas.openxmlformats.org/officeDocument/2006/relationships/slideLayout" Target="../slideLayouts/slideLayout81.xml"/><Relationship Id="rId19" Type="http://schemas.openxmlformats.org/officeDocument/2006/relationships/slideLayout" Target="../slideLayouts/slideLayout82.xml"/><Relationship Id="rId20" Type="http://schemas.openxmlformats.org/officeDocument/2006/relationships/slideLayout" Target="../slideLayouts/slideLayout83.xml"/><Relationship Id="rId21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7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94920" y="1052280"/>
            <a:ext cx="8497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"/>
          <p:cNvSpPr/>
          <p:nvPr/>
        </p:nvSpPr>
        <p:spPr>
          <a:xfrm>
            <a:off x="0" y="907920"/>
            <a:ext cx="9144000" cy="73080"/>
          </a:xfrm>
          <a:prstGeom prst="rect">
            <a:avLst/>
          </a:prstGeom>
          <a:gradFill rotWithShape="0">
            <a:gsLst>
              <a:gs pos="0">
                <a:srgbClr val="333399">
                  <a:alpha val="80392"/>
                </a:srgbClr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" name=""/>
          <p:cNvGraphicFramePr/>
          <p:nvPr/>
        </p:nvGraphicFramePr>
        <p:xfrm>
          <a:off x="0" y="6313320"/>
          <a:ext cx="1306440" cy="544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0" y="6313320"/>
                    <a:ext cx="1306440" cy="54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" name="" descr=""/>
          <p:cNvPicPr/>
          <p:nvPr/>
        </p:nvPicPr>
        <p:blipFill>
          <a:blip r:embed="rId11"/>
          <a:stretch/>
        </p:blipFill>
        <p:spPr>
          <a:xfrm>
            <a:off x="8110440" y="6485040"/>
            <a:ext cx="1033560" cy="3729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12"/>
          <a:stretch/>
        </p:blipFill>
        <p:spPr>
          <a:xfrm>
            <a:off x="1476360" y="6362640"/>
            <a:ext cx="1871640" cy="4953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13"/>
          <a:stretch/>
        </p:blipFill>
        <p:spPr>
          <a:xfrm>
            <a:off x="6851520" y="6373800"/>
            <a:ext cx="1105200" cy="4842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14"/>
          <a:stretch/>
        </p:blipFill>
        <p:spPr>
          <a:xfrm>
            <a:off x="0" y="0"/>
            <a:ext cx="825480" cy="981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5"/>
    <p:sldLayoutId id="2147483650" r:id="rId16"/>
    <p:sldLayoutId id="2147483651" r:id="rId17"/>
    <p:sldLayoutId id="2147483652" r:id="rId18"/>
    <p:sldLayoutId id="2147483653" r:id="rId19"/>
    <p:sldLayoutId id="2147483654" r:id="rId20"/>
    <p:sldLayoutId id="2147483655" r:id="rId21"/>
    <p:sldLayoutId id="2147483656" r:id="rId22"/>
    <p:sldLayoutId id="2147483657" r:id="rId23"/>
    <p:sldLayoutId id="2147483658" r:id="rId24"/>
    <p:sldLayoutId id="2147483659" r:id="rId25"/>
    <p:sldLayoutId id="2147483660" r:id="rId2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907920"/>
            <a:ext cx="9144000" cy="73080"/>
          </a:xfrm>
          <a:prstGeom prst="rect">
            <a:avLst/>
          </a:prstGeom>
          <a:gradFill rotWithShape="0">
            <a:gsLst>
              <a:gs pos="0">
                <a:srgbClr val="333399">
                  <a:alpha val="80392"/>
                </a:srgbClr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25560" y="5950080"/>
          <a:ext cx="1639800" cy="684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560" y="5950080"/>
                    <a:ext cx="1639800" cy="68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7846920" y="6167520"/>
            <a:ext cx="1297080" cy="4683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ffffff"/>
                </a:solidFill>
                <a:latin typeface="Arial"/>
              </a:rPr>
              <a:t>National Institute of Advanced Industrial Science and Techn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0" y="0"/>
            <a:ext cx="825480" cy="981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body"/>
          </p:nvPr>
        </p:nvSpPr>
        <p:spPr>
          <a:xfrm>
            <a:off x="394920" y="907560"/>
            <a:ext cx="84978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"/>
          <p:cNvSpPr/>
          <p:nvPr/>
        </p:nvSpPr>
        <p:spPr>
          <a:xfrm>
            <a:off x="0" y="907920"/>
            <a:ext cx="9144000" cy="73080"/>
          </a:xfrm>
          <a:prstGeom prst="rect">
            <a:avLst/>
          </a:prstGeom>
          <a:gradFill rotWithShape="0">
            <a:gsLst>
              <a:gs pos="0">
                <a:srgbClr val="333399">
                  <a:alpha val="80392"/>
                </a:srgbClr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468360" y="44280"/>
            <a:ext cx="8362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0" y="6313320"/>
          <a:ext cx="1306440" cy="544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0" y="6313320"/>
                    <a:ext cx="1306440" cy="54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4" name="" descr=""/>
          <p:cNvPicPr/>
          <p:nvPr/>
        </p:nvPicPr>
        <p:blipFill>
          <a:blip r:embed="rId11"/>
          <a:stretch/>
        </p:blipFill>
        <p:spPr>
          <a:xfrm>
            <a:off x="8110440" y="6485040"/>
            <a:ext cx="1033560" cy="3729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12"/>
          <a:stretch/>
        </p:blipFill>
        <p:spPr>
          <a:xfrm>
            <a:off x="1476360" y="6362640"/>
            <a:ext cx="1871640" cy="4953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13"/>
          <a:stretch/>
        </p:blipFill>
        <p:spPr>
          <a:xfrm>
            <a:off x="6851520" y="6373800"/>
            <a:ext cx="1105200" cy="4842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14"/>
          <a:stretch/>
        </p:blipFill>
        <p:spPr>
          <a:xfrm>
            <a:off x="0" y="0"/>
            <a:ext cx="825480" cy="981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5"/>
    <p:sldLayoutId id="2147483676" r:id="rId16"/>
    <p:sldLayoutId id="2147483677" r:id="rId17"/>
    <p:sldLayoutId id="2147483678" r:id="rId18"/>
    <p:sldLayoutId id="2147483679" r:id="rId19"/>
    <p:sldLayoutId id="2147483680" r:id="rId20"/>
    <p:sldLayoutId id="2147483681" r:id="rId21"/>
    <p:sldLayoutId id="2147483682" r:id="rId22"/>
    <p:sldLayoutId id="2147483683" r:id="rId23"/>
    <p:sldLayoutId id="2147483684" r:id="rId24"/>
    <p:sldLayoutId id="2147483685" r:id="rId25"/>
    <p:sldLayoutId id="2147483686" r:id="rId2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692280"/>
            <a:ext cx="9144000" cy="72720"/>
          </a:xfrm>
          <a:prstGeom prst="rect">
            <a:avLst/>
          </a:prstGeom>
          <a:gradFill rotWithShape="0">
            <a:gsLst>
              <a:gs pos="0">
                <a:srgbClr val="333399">
                  <a:alpha val="80392"/>
                </a:srgbClr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25560" y="5950080"/>
          <a:ext cx="1639800" cy="684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560" y="5950080"/>
                    <a:ext cx="1639800" cy="68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7846920" y="6167520"/>
            <a:ext cx="1297080" cy="468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ffffff"/>
                </a:solidFill>
                <a:latin typeface="Arial"/>
              </a:rPr>
              <a:t>National Institute of Advanced Industrial Science and Techn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body"/>
          </p:nvPr>
        </p:nvSpPr>
        <p:spPr>
          <a:xfrm>
            <a:off x="394920" y="907560"/>
            <a:ext cx="84978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692280"/>
            <a:ext cx="9144000" cy="72720"/>
          </a:xfrm>
          <a:prstGeom prst="rect">
            <a:avLst/>
          </a:prstGeom>
          <a:gradFill rotWithShape="0">
            <a:gsLst>
              <a:gs pos="0">
                <a:srgbClr val="333399">
                  <a:alpha val="80392"/>
                </a:srgbClr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title"/>
          </p:nvPr>
        </p:nvSpPr>
        <p:spPr>
          <a:xfrm>
            <a:off x="468360" y="44280"/>
            <a:ext cx="8362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0" y="6313320"/>
          <a:ext cx="1306440" cy="544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0" y="6313320"/>
                    <a:ext cx="1306440" cy="54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1" name="" descr=""/>
          <p:cNvPicPr/>
          <p:nvPr/>
        </p:nvPicPr>
        <p:blipFill>
          <a:blip r:embed="rId11"/>
          <a:stretch/>
        </p:blipFill>
        <p:spPr>
          <a:xfrm>
            <a:off x="8110440" y="6485040"/>
            <a:ext cx="1033560" cy="37296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12"/>
          <a:stretch/>
        </p:blipFill>
        <p:spPr>
          <a:xfrm>
            <a:off x="1476360" y="6362640"/>
            <a:ext cx="1871640" cy="49536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13"/>
          <a:stretch/>
        </p:blipFill>
        <p:spPr>
          <a:xfrm>
            <a:off x="6851520" y="6373800"/>
            <a:ext cx="1105200" cy="484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4"/>
    <p:sldLayoutId id="2147483702" r:id="rId15"/>
    <p:sldLayoutId id="2147483703" r:id="rId16"/>
    <p:sldLayoutId id="2147483704" r:id="rId17"/>
    <p:sldLayoutId id="2147483705" r:id="rId18"/>
    <p:sldLayoutId id="2147483706" r:id="rId19"/>
    <p:sldLayoutId id="2147483707" r:id="rId20"/>
    <p:sldLayoutId id="2147483708" r:id="rId21"/>
    <p:sldLayoutId id="2147483709" r:id="rId22"/>
    <p:sldLayoutId id="2147483710" r:id="rId23"/>
    <p:sldLayoutId id="2147483711" r:id="rId24"/>
    <p:sldLayoutId id="2147483712" r:id="rId2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692280"/>
            <a:ext cx="9144000" cy="72720"/>
          </a:xfrm>
          <a:prstGeom prst="rect">
            <a:avLst/>
          </a:prstGeom>
          <a:gradFill rotWithShape="0">
            <a:gsLst>
              <a:gs pos="0">
                <a:srgbClr val="333399">
                  <a:alpha val="80392"/>
                </a:srgbClr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25560" y="5950080"/>
          <a:ext cx="1639800" cy="684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560" y="5950080"/>
                    <a:ext cx="1639800" cy="68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24" name="" descr=""/>
          <p:cNvPicPr/>
          <p:nvPr/>
        </p:nvPicPr>
        <p:blipFill>
          <a:blip r:embed="rId4"/>
          <a:stretch/>
        </p:blipFill>
        <p:spPr>
          <a:xfrm>
            <a:off x="7846920" y="6167520"/>
            <a:ext cx="1297080" cy="46836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ffffff"/>
                </a:solidFill>
                <a:latin typeface="Arial"/>
              </a:rPr>
              <a:t>National Institute of Advanced Industrial Science and Techn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394920" y="1009800"/>
            <a:ext cx="8497800" cy="51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0" y="853920"/>
            <a:ext cx="9144000" cy="73080"/>
          </a:xfrm>
          <a:prstGeom prst="rect">
            <a:avLst/>
          </a:prstGeom>
          <a:gradFill rotWithShape="0">
            <a:gsLst>
              <a:gs pos="0">
                <a:srgbClr val="333399">
                  <a:alpha val="80392"/>
                </a:srgbClr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title"/>
          </p:nvPr>
        </p:nvSpPr>
        <p:spPr>
          <a:xfrm>
            <a:off x="468360" y="164880"/>
            <a:ext cx="83628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"/>
          </p:nvPr>
        </p:nvSpPr>
        <p:spPr>
          <a:xfrm>
            <a:off x="1692360" y="6381360"/>
            <a:ext cx="213336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sldNum" idx="2"/>
          </p:nvPr>
        </p:nvSpPr>
        <p:spPr>
          <a:xfrm>
            <a:off x="8089920" y="-360"/>
            <a:ext cx="10540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3386C-2F59-436F-A0CE-7FBFDD8E96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9"/>
          <a:stretch/>
        </p:blipFill>
        <p:spPr>
          <a:xfrm>
            <a:off x="7846920" y="6167520"/>
            <a:ext cx="1297080" cy="46836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5"/>
          <p:cNvSpPr>
            <a:spLocks noGrp="1"/>
          </p:cNvSpPr>
          <p:nvPr>
            <p:ph type="ftr" idx="3"/>
          </p:nvPr>
        </p:nvSpPr>
        <p:spPr>
          <a:xfrm>
            <a:off x="3924000" y="6381360"/>
            <a:ext cx="28954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6360" y="6696000"/>
            <a:ext cx="9144000" cy="18900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ja-JP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ja-JP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ja-JP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ja-JP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ja-JP" sz="1400" spc="-1" strike="noStrike">
                <a:solidFill>
                  <a:srgbClr val="ffffff"/>
                </a:solidFill>
                <a:latin typeface="Arial"/>
              </a:rPr>
              <a:t>All rights reserved,20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10"/>
    <p:sldLayoutId id="2147483728" r:id="rId11"/>
    <p:sldLayoutId id="2147483729" r:id="rId12"/>
    <p:sldLayoutId id="2147483730" r:id="rId13"/>
    <p:sldLayoutId id="2147483731" r:id="rId14"/>
    <p:sldLayoutId id="2147483732" r:id="rId15"/>
    <p:sldLayoutId id="2147483733" r:id="rId16"/>
    <p:sldLayoutId id="2147483734" r:id="rId17"/>
    <p:sldLayoutId id="2147483735" r:id="rId18"/>
    <p:sldLayoutId id="2147483736" r:id="rId19"/>
    <p:sldLayoutId id="2147483737" r:id="rId20"/>
    <p:sldLayoutId id="2147483738" r:id="rId21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0" y="981000"/>
            <a:ext cx="9144000" cy="73080"/>
          </a:xfrm>
          <a:prstGeom prst="rect">
            <a:avLst/>
          </a:prstGeom>
          <a:gradFill rotWithShape="0">
            <a:gsLst>
              <a:gs pos="0">
                <a:srgbClr val="333399">
                  <a:alpha val="80392"/>
                </a:srgbClr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7846920" y="6167520"/>
            <a:ext cx="1297080" cy="46836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34920" y="6669000"/>
            <a:ext cx="9144000" cy="18900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ja-JP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ja-JP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ja-JP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ja-JP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ja-JP" sz="1400" spc="-1" strike="noStrike">
                <a:solidFill>
                  <a:srgbClr val="ffffff"/>
                </a:solidFill>
                <a:latin typeface="Arial"/>
              </a:rPr>
              <a:t>All rights reserved, 20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3"/>
          <a:stretch/>
        </p:blipFill>
        <p:spPr>
          <a:xfrm>
            <a:off x="25560" y="5950080"/>
            <a:ext cx="1639800" cy="684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2.png"/><Relationship Id="rId4" Type="http://schemas.openxmlformats.org/officeDocument/2006/relationships/image" Target="../media/image2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12.png"/><Relationship Id="rId8" Type="http://schemas.openxmlformats.org/officeDocument/2006/relationships/image" Target="../media/image2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2.png"/><Relationship Id="rId4" Type="http://schemas.openxmlformats.org/officeDocument/2006/relationships/image" Target="../media/image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1.png"/><Relationship Id="rId14" Type="http://schemas.openxmlformats.org/officeDocument/2006/relationships/image" Target="../media/image2.png"/><Relationship Id="rId15" Type="http://schemas.openxmlformats.org/officeDocument/2006/relationships/image" Target="../media/image1.png"/><Relationship Id="rId16" Type="http://schemas.openxmlformats.org/officeDocument/2006/relationships/image" Target="../media/image2.png"/><Relationship Id="rId1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0" y="1628640"/>
            <a:ext cx="91440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Comic Sans MS"/>
              </a:rPr>
              <a:t>Status and plans of the APGrid PM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1115640" y="3429000"/>
            <a:ext cx="6985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Comic Sans MS"/>
              </a:rPr>
              <a:t>Yoshio Tanaka (yoshio.tanaka@aist.go.jp)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Comic Sans MS"/>
              </a:rPr>
              <a:t>Grid Technology Research Center,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Comic Sans MS"/>
              </a:rPr>
              <a:t>AIST,</a:t>
            </a:r>
            <a:r>
              <a:rPr b="1" lang="ja-JP" sz="2400" spc="-1" strike="noStrike">
                <a:solidFill>
                  <a:srgbClr val="000000"/>
                </a:solidFill>
                <a:latin typeface="Comic Sans MS"/>
              </a:rPr>
              <a:t> Japan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</a:rPr>
              <a:t>APGrid PMA: Asia Pacific Grid PM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84978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SzPct val="11991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Comic Sans MS"/>
              </a:rPr>
              <a:t>General Policy Management Authority in Asia Pacific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Comic Sans MS"/>
              </a:rPr>
              <a:t>Launched on June 1</a:t>
            </a:r>
            <a:r>
              <a:rPr b="1" lang="ja-JP" sz="2400" spc="-1" strike="noStrike" baseline="30000">
                <a:solidFill>
                  <a:srgbClr val="000000"/>
                </a:solidFill>
                <a:latin typeface="Comic Sans MS"/>
              </a:rPr>
              <a:t>st</a:t>
            </a:r>
            <a:r>
              <a:rPr b="1" lang="ja-JP" sz="2400" spc="-1" strike="noStrike">
                <a:solidFill>
                  <a:srgbClr val="000000"/>
                </a:solidFill>
                <a:latin typeface="Comic Sans MS"/>
              </a:rPr>
              <a:t>, 2004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Comic Sans MS"/>
              </a:rPr>
              <a:t>Defines minimum CA requirements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Comic Sans MS"/>
              </a:rPr>
              <a:t>APGrid PMA approved that we accept two levels of CA: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omic Sans MS"/>
              </a:rPr>
              <a:t>Experimental-level C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buSzPct val="123432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omic Sans MS"/>
              </a:rPr>
              <a:t>Alternative of the Globus C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buSzPct val="123432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omic Sans MS"/>
              </a:rPr>
              <a:t>Can be trusted within A-P communiti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SzPct val="11991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omic Sans MS"/>
              </a:rPr>
              <a:t>Production-level C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buSzPct val="123432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omic Sans MS"/>
              </a:rPr>
              <a:t>Strict management is necessar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buSzPct val="123432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omic Sans MS"/>
              </a:rPr>
              <a:t>Expected to be trusted by international communiti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omic Sans MS"/>
              </a:rPr>
              <a:t>Members and CA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52" name=""/>
          <p:cNvGraphicFramePr/>
          <p:nvPr/>
        </p:nvGraphicFramePr>
        <p:xfrm>
          <a:off x="108000" y="1200240"/>
          <a:ext cx="8964720" cy="5124240"/>
        </p:xfrm>
        <a:graphic>
          <a:graphicData uri="http://schemas.openxmlformats.org/drawingml/2006/table">
            <a:tbl>
              <a:tblPr/>
              <a:tblGrid>
                <a:gridCol w="1793880"/>
                <a:gridCol w="2309760"/>
                <a:gridCol w="1800360"/>
                <a:gridCol w="1873080"/>
                <a:gridCol w="1187640"/>
              </a:tblGrid>
              <a:tr h="40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ffil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roduction 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xperimental 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ere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IST / Jap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Yoshio Tanak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 ope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 ope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y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SCC / Taiw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ric Y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 ope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y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KISTI / Kore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ae-Hyuck Kwa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 ope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 ope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y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AS / Chi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Kai N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P under revie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 ope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HEP / Chi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onxing Su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P under revie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II / Singap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Kishore Sakhark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 pl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 ope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 (ye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CHC / Taiw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ulian Yu-Chung Ch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lann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 ope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y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saka U / Jap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usumu D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lann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 ope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y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DSC / US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son Kat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 pl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KU / HongKo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hen Lin, Elai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 pl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 ope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 of Hyd / In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run Agarw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 pl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 ope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SM / Malays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oon Yai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 pl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 ope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PAC / Austral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avid Abrams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lann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 ope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8497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Comic Sans MS"/>
              </a:rPr>
              <a:t>Many members were inactive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omic Sans MS"/>
              </a:rPr>
              <a:t>could not have motivation for active particip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omic Sans MS"/>
              </a:rPr>
              <a:t>satisfy with using experimental CA (simple CA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omic Sans MS"/>
              </a:rPr>
              <a:t>non experts of PKI/Security and have less interests for the securi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Comic Sans MS"/>
              </a:rPr>
              <a:t>Situation is going to be changed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omic Sans MS"/>
              </a:rPr>
              <a:t>Some CAs have a plan for launching a production-level C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omic Sans MS"/>
              </a:rPr>
              <a:t>IHEP / China, CAS / China, NCHC / Taiwan, VPAC / Australi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omic Sans MS"/>
              </a:rPr>
              <a:t>U. of Tsukuba is involved in Lattice QC Grid project and it expects NAREGI CA to be trusted by European and American CA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omic Sans MS"/>
              </a:rPr>
              <a:t>APGrid PMA should be able to help thi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lan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8497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omic Sans MS"/>
              </a:rPr>
              <a:t>Change membership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omic Sans MS"/>
              </a:rPr>
              <a:t>General membershi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omic Sans MS"/>
              </a:rPr>
              <a:t>has no voting righ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omic Sans MS"/>
              </a:rPr>
              <a:t>Ex officio membershi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omic Sans MS"/>
              </a:rPr>
              <a:t>has voting righ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omic Sans MS"/>
              </a:rPr>
              <a:t>has obligation for commitmen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omic Sans MS"/>
              </a:rPr>
              <a:t>representatives of production-level CA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omic Sans MS"/>
              </a:rPr>
              <a:t>representatives of experimental-level CAs in request basi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omic Sans MS"/>
              </a:rPr>
              <a:t>Invite representatives of relying parties to the APGrid PMA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omic Sans MS"/>
              </a:rPr>
              <a:t>Change accreditation procedure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omic Sans MS"/>
              </a:rPr>
              <a:t>Now: voting using email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omic Sans MS"/>
              </a:rPr>
              <a:t>Plan: have regular face-to-face meeting / VTC (regular meeting and request-basi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omic Sans MS"/>
              </a:rPr>
              <a:t>Define procedures for re-certify CAs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omic Sans MS"/>
              </a:rPr>
              <a:t>peer-audit or PMA (chair) will audit all CA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omic Sans MS"/>
              </a:rPr>
              <a:t>Should establish formal relationship with the other PMAs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omic Sans MS"/>
              </a:rPr>
              <a:t>ASCC, IHEP should belong to only APGrid PM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8497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Comic Sans MS"/>
              </a:rPr>
              <a:t>APGrid PMA has two main objectives: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omic Sans MS"/>
              </a:rPr>
              <a:t>be responsible as a regional PMA in Asia Pacifi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omic Sans MS"/>
              </a:rPr>
              <a:t>define minimum CA requiremen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omic Sans MS"/>
              </a:rPr>
              <a:t>accredit and audit CA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omic Sans MS"/>
              </a:rPr>
              <a:t>support CAs in Asia Pacifi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omic Sans MS"/>
              </a:rPr>
              <a:t>help / give advice to launch CA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omic Sans MS"/>
              </a:rPr>
              <a:t>inform the current status and future direction about our efforts (IGF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Comic Sans MS"/>
              </a:rPr>
              <a:t>It was less active, but the situation is going to be improved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omic Sans MS"/>
              </a:rPr>
              <a:t>Re-organize the PM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omic Sans MS"/>
              </a:rPr>
              <a:t>Changed the accreditation procedur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omic Sans MS"/>
              </a:rPr>
              <a:t>Will have face-to-face meet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omic Sans MS"/>
              </a:rPr>
              <a:t>Will do audi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5T02:50:34Z</dcterms:created>
  <dc:creator>Yoshio</dc:creator>
  <dc:description/>
  <dc:language>en-US</dc:language>
  <cp:lastModifiedBy>Yoshio</cp:lastModifiedBy>
  <dcterms:modified xsi:type="dcterms:W3CDTF">2005-03-14T15:54:41Z</dcterms:modified>
  <cp:revision>102</cp:revision>
  <dc:subject/>
  <dc:title>スライド 1</dc:title>
</cp:coreProperties>
</file>