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D9EF-FD55-4E8D-9675-3F09AECE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3011-F897-4738-BB42-B668CE0F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088CF-8492-4F6D-8304-BB01BD3D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9FF9-F387-4E86-B06B-B0F34802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9DAC-9D2D-4A9C-A3F8-15D97EE7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F801-5F03-40DA-B43C-E1B9DB9F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3EF2A-E0F3-4AF2-ADB0-BEA6C71B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BFAC-0066-4133-9E54-70F61016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1C3D3-8796-4764-9B52-BB5B1E61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74099-69F1-4F3C-A763-6E94A7E1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2C5F-04FD-4821-8D94-DF458988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CC823-643F-4EDE-A0EC-D74107FE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394920" y="1009800"/>
            <a:ext cx="8497800" cy="51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53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68360" y="164880"/>
            <a:ext cx="83628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"/>
          </p:nvPr>
        </p:nvSpPr>
        <p:spPr>
          <a:xfrm>
            <a:off x="1692360" y="6381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2"/>
          </p:nvPr>
        </p:nvSpPr>
        <p:spPr>
          <a:xfrm>
            <a:off x="8089920" y="-360"/>
            <a:ext cx="10540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102D-1227-49E9-85D6-4F26C7AAF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5"/>
          <p:cNvSpPr>
            <a:spLocks noGrp="1"/>
          </p:cNvSpPr>
          <p:nvPr>
            <p:ph type="ftr" idx="3"/>
          </p:nvPr>
        </p:nvSpPr>
        <p:spPr>
          <a:xfrm>
            <a:off x="3924000" y="6381360"/>
            <a:ext cx="2895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360" y="6696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98100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492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5560" y="5950080"/>
            <a:ext cx="163980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hyperlink" Target="http://www.cica.ca/" TargetMode="External"/><Relationship Id="rId8" Type="http://schemas.openxmlformats.org/officeDocument/2006/relationships/hyperlink" Target="http://www.aicpa.org/" TargetMode="External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posals for audi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15640" y="34290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Yoshio Tanaka (yoshio.tanaka@aist.go.jp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Grid Technology Research Center,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IST,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 Japa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we accredit/certify/audit authoriti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omic Sans MS"/>
              </a:rPr>
              <a:t>A regional PMA shoul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accredit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re-certify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coordinate peer-review (peer-audit) of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How a CA is audit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omic Sans MS"/>
              </a:rPr>
              <a:t>criteria for aud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audit proc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Should PMA be audit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posed audit item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NAREGI PKI WG has subjectively selected criteria for auditing Grid CA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based 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ICPA/CICA WebTrust</a:t>
            </a:r>
            <a:r>
              <a:rPr b="0" lang="ja-JP" sz="2000" spc="-1" strike="noStrike" baseline="30000">
                <a:solidFill>
                  <a:srgbClr val="000000"/>
                </a:solidFill>
                <a:latin typeface="Comic Sans MS"/>
                <a:ea typeface=""/>
              </a:rPr>
              <a:t>SM/TM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 Program for Certification Autho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minimum CA requirements of APGrid PMA and EUGrid 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Web Trus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ebTrust is a seal awarded to web sites that consistently adhere to certain business standards established by the Canadian Institute of Chartered Accountants (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CICA.ca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) and the American Institute of Certified Public Accountants (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AICPA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In the program, “Web Trust Principles and Criteria for  Certification Authorities” lists criteria for C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may too much for Grid C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Criteria in the WebTrust</a:t>
            </a:r>
            <a:r>
              <a:rPr b="0" lang="ja-JP" sz="3600" spc="-1" strike="noStrike" baseline="30000">
                <a:solidFill>
                  <a:srgbClr val="000000"/>
                </a:solidFill>
                <a:latin typeface="Comic Sans MS"/>
                <a:ea typeface=""/>
              </a:rPr>
              <a:t>SM/T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iple 1: CA Business Practices Disclosu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ertification authority discloses its key and certificate life cycle management business and information privacy practices and provides its services in accordance with its disclosed pract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iple 2: Service Integrity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ertification authority maintains effective controls to provide reasonable assurance tha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scriber information was properly authenticated (for the registration activities performed by ABC-CA)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ntegrity of keys and certificates it manages is established and protected throughout their life cyc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Criteria in the WebTrust</a:t>
            </a:r>
            <a:r>
              <a:rPr b="0" lang="ja-JP" sz="3200" spc="-1" strike="noStrike" baseline="30000">
                <a:solidFill>
                  <a:srgbClr val="000000"/>
                </a:solidFill>
                <a:latin typeface="Comic Sans MS"/>
                <a:ea typeface=""/>
              </a:rPr>
              <a:t>SM/TM 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(cont’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inciple 3: CA Environmental Control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ertification authority maintains effective controls to provide reasonable assurance tha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scriber and relying party information is restricted to authorized individuals and protected from uses not specified in the CA's business practices disclosure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inuity of key and certificate life cycle management operations is maintained;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 systems development, maintenance, and operation are properly authorized and performed to maintain CA systems integrit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ns and proposa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IST GRID CA will be audited by NAREGI CA according to the proposed criteria for audit in March 29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evaluate its appropriate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PGrid PMA will audit production-level CAs based on the proposed criteri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The proposed criteria for audit can be a starting point to establish common criteria for Grid CA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ill circulate the proposed criteria to the CAOPs 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may provide documents if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comments and discussions are welc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02:50:34Z</dcterms:created>
  <dc:creator>Yoshio</dc:creator>
  <dc:description/>
  <dc:language>en-US</dc:language>
  <cp:lastModifiedBy>Yoshio</cp:lastModifiedBy>
  <dcterms:modified xsi:type="dcterms:W3CDTF">2005-03-15T03:46:35Z</dcterms:modified>
  <cp:revision>102</cp:revision>
  <dc:subject/>
  <dc:title>スライド 1</dc:title>
</cp:coreProperties>
</file>