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DB3-2F7B-4ECB-9C9E-20D195F6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A0E-7441-45EB-AAD3-1D9A4E42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BCD-9CC2-4EED-8BFB-E415EDC2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47E-FBC5-40F3-BDC6-164C73A6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5DD-39B0-403B-BEF7-940CE097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CBB-9C9F-48EC-B208-CBDD8B74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187-3675-4C85-9D57-2B7405F5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C6A-726D-40CE-8CF0-5CAC5C6A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56F-C872-419F-AE9C-F525713F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FAB-1645-4FD2-A4C7-B7DC84CE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58B-D587-46F1-AB08-933D283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0C3-BB5A-4CD7-B257-DA33F8FA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ggf.org/default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ggf.org/default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ff6633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649"/>
              </a:spcBef>
              <a:buClr>
                <a:srgbClr val="ff66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9C9C-CFB7-4C15-A19D-86D3A6BC02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928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33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6633"/>
              </a:solidFill>
              <a:latin typeface="Verdana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9280" cy="1314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451"/>
              </a:spcBef>
              <a:buClr>
                <a:srgbClr val="ff6633"/>
              </a:buClr>
              <a:buSzPct val="7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51"/>
              </a:spcBef>
              <a:buClr>
                <a:srgbClr val="ff6633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33"/>
                </a:solidFill>
                <a:latin typeface="Verdana"/>
              </a:rPr>
              <a:t>OCSP Requirements</a:t>
            </a:r>
            <a:endParaRPr b="0" lang="en-US" sz="4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c479d"/>
                </a:solidFill>
                <a:latin typeface="Verdana"/>
              </a:rPr>
              <a:t>GGF13</a:t>
            </a: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Refreshener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OCSP = Online Certificate Status Protocol (RFC2560)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Removes(?) burden of CRL distribution and update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Clients still have to do path validation!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Lightweight request/response (HTTP)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Changes since last time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Document “finish” applied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sing sections ad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re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s based on (marginal)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Last week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comments from Sp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8280" y="1844640"/>
            <a:ext cx="4761000" cy="398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97360" y="3067200"/>
            <a:ext cx="890640" cy="129852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995480"/>
            <a:ext cx="1645920" cy="7779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6000" y="3027240"/>
            <a:ext cx="1644480" cy="7797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875120" y="1341360"/>
            <a:ext cx="2144880" cy="2111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875120" y="2421000"/>
            <a:ext cx="2144880" cy="11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645000"/>
            <a:ext cx="147024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horiz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5229360"/>
            <a:ext cx="2160720" cy="936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4707000"/>
            <a:ext cx="1471680" cy="86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793520" y="5149800"/>
            <a:ext cx="1049400" cy="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8200" y="3519360"/>
            <a:ext cx="1471680" cy="86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793520" y="3941280"/>
            <a:ext cx="1049400" cy="855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5440" y="1876320"/>
            <a:ext cx="27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te/organ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000" y="3429000"/>
            <a:ext cx="208764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836640"/>
            <a:ext cx="1645920" cy="7779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59280" y="4149720"/>
            <a:ext cx="216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6000" y="458136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6000" y="4737240"/>
            <a:ext cx="164448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46800" y="4881600"/>
            <a:ext cx="164484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5025960"/>
            <a:ext cx="164448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517032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31324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5877000"/>
            <a:ext cx="1471680" cy="86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83664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iodic CRL downloa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CSP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7640" y="1413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7640" y="981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3067200"/>
            <a:ext cx="890640" cy="129852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4581360"/>
            <a:ext cx="151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4" idx="0"/>
            <a:endCxn id="113" idx="3"/>
          </p:cNvCxnSpPr>
          <p:nvPr/>
        </p:nvCxnSpPr>
        <p:spPr>
          <a:xfrm flipV="1" rot="16200000">
            <a:off x="3444480" y="4209120"/>
            <a:ext cx="216360" cy="52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14" idx="0"/>
            <a:endCxn id="88" idx="3"/>
          </p:cNvCxnSpPr>
          <p:nvPr/>
        </p:nvCxnSpPr>
        <p:spPr>
          <a:xfrm flipH="1" flipV="1" rot="5400000">
            <a:off x="3971880" y="4209480"/>
            <a:ext cx="216360" cy="52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Updated architecture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76560" y="990720"/>
            <a:ext cx="1981080" cy="2057400"/>
          </a:xfrm>
          <a:prstGeom prst="line">
            <a:avLst/>
          </a:prstGeom>
          <a:ln w="28440">
            <a:solidFill>
              <a:srgbClr val="47c164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881400">
            <a:off x="4497120" y="17506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c164"/>
                </a:solidFill>
                <a:latin typeface="Verdana"/>
              </a:rPr>
              <a:t>Push, Delta C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Outstanding issues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Signed requests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Stronger differentiation on suspension vs revocation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Use of OCSP response extensions to convey additional (validation) information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More wording on Delta CRLs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Notion of a caution period (RFC3125)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Moving forward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Address the Spanish contributions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Move towards WG last cal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Have document in public comment before GGF14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8:27:48Z</dcterms:created>
  <dc:creator>Olle Mulmo</dc:creator>
  <dc:description/>
  <dc:language>en-US</dc:language>
  <cp:lastModifiedBy>Olle Mulmo</cp:lastModifiedBy>
  <dcterms:modified xsi:type="dcterms:W3CDTF">2005-03-15T05:40:07Z</dcterms:modified>
  <cp:revision>32</cp:revision>
  <dc:subject/>
  <dc:title>OCSP Confessions</dc:title>
</cp:coreProperties>
</file>