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908-E4F8-47AD-B2AD-626EC1F2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F83-1881-4B41-BC8B-A1C03FD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783-0690-4F2D-B93D-6A36A6DD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EBC-F63B-4E40-8BCF-6B8E9F14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6A5-0EB2-484C-89E1-DE3EAE66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E19-5510-42E5-BB00-959E007F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A15-4CDC-4341-8BFF-E8432AF9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1CC-3598-4F1D-9154-59972552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6CD-BA09-45A7-902F-2D092B8C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14B-91B9-44FC-9D77-6434C4F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951-4A85-48F3-88B2-D20F8C1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6C3-24AD-48FE-BACE-D3FADE5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6FA8-412F-4760-B8BF-4D050A9A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CAOPS-WG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Document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5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CSP Requirements for OCSP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lle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ony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diting Topics for Grid CA’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Yoshio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CAOPS-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ristos Kanellopolous is now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s to Tony for his mad st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cond session, at 17:00-18:30 in Crystal Ballroom 3, that will concern itself with the International Gri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id Security Area meeting, 19:00-20:30 in Sapphire Ballroo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in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CSP Requirements for Grid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Olle, Mike, M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e editor queu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(kind o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PMA Model Charter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Bob, Tony, Peter, M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ertificates for Automated Client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Steve, M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A Common Naming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ertificate Extension Profile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David (out of retirement agai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05:06Z</dcterms:created>
  <dc:creator>Darcy Quesnel</dc:creator>
  <dc:description/>
  <dc:language>en-US</dc:language>
  <cp:lastModifiedBy>Darcy Quesnel</cp:lastModifiedBy>
  <dcterms:modified xsi:type="dcterms:W3CDTF">2005-03-15T06:19:00Z</dcterms:modified>
  <cp:revision>4</cp:revision>
  <dc:subject/>
  <dc:title>Agenda</dc:title>
</cp:coreProperties>
</file>