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505-2171-4713-8B72-5CF6B0C2022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C18B-751A-49E7-9B9C-82A861398D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0FDB-A3C8-4E82-98F4-61E08D5515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F133-76A2-4AF8-B5DF-F5B9359703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E435-E4A8-49F4-8DDA-86DBA38E48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808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1240" y="90756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808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1240" y="3766680"/>
            <a:ext cx="2736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44280"/>
            <a:ext cx="741672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376668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39960"/>
            <a:ext cx="741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907560"/>
            <a:ext cx="414684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6680"/>
            <a:ext cx="84978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5" descr="PMAlogo_large"/>
          <p:cNvPicPr/>
          <p:nvPr/>
        </p:nvPicPr>
        <p:blipFill>
          <a:blip r:embed="rId9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IGTF"/>
          <p:cNvPicPr/>
          <p:nvPr/>
        </p:nvPicPr>
        <p:blipFill>
          <a:blip r:embed="rId10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5" descr="PMAlogo_large"/>
          <p:cNvPicPr/>
          <p:nvPr/>
        </p:nvPicPr>
        <p:blipFill>
          <a:blip r:embed="rId9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TF"/>
          <p:cNvPicPr/>
          <p:nvPr/>
        </p:nvPicPr>
        <p:blipFill>
          <a:blip r:embed="rId10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IGTF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000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PMAlogo_large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GTF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7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s of the APGrid P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921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UGridPMA F2F@Copenhage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16000" y="386064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shio Tan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DAC, In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of a representat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v. of Hong K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2F meeting in Taipei, in April 8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785880"/>
            <a:ext cx="84978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ende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PGridPMA members except CNIC/Ch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vid and Dave from EUGrid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g from TAG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ob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GEE Security staffs from Cer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SzPct val="14523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ssible new members from South East Asian countrie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AGMA-UCSD CA was accredited as an IGTF-Classic AP compliant C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GO/Netrust (Singapore) and NCHC (Taiwan) CA was examined, but not accredit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agreed to strongly encourage new CAs to use Domain Component RDN for Issuer and Subject D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-depth report of self-audit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ST and ASG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siness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shio will continue to be the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GridPMA will have a deputy ch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PAM filter provided KEK for the APGridPMA 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3 + 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979200"/>
            <a:ext cx="4680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 Accredited CA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ST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AC (Australi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GCC (Taiw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IC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HEP (Chin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K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STI (Ko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REGI (Jap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TEC (Thaila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in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GMA-UCSD (U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14920" y="979560"/>
            <a:ext cx="4321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CA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 (Singap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aiw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iGrid (Thai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DAC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ong Kong (Ch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saka U. (Ja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. Hyderabad (In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SM (Malay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s on Debian OpenSSL Vulner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ly APAC Grid CA has issued suspicious certificat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user certs and 2 host cer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revoked (probably has been revoke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F2F Me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123560"/>
            <a:ext cx="8497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 Mid. Septemb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nue: Singapo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-located event: OGF2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David Groep</dc:creator>
  <dc:description/>
  <dc:language>en-US</dc:language>
  <cp:lastModifiedBy>Yoshio Tanaka</cp:lastModifiedBy>
  <dcterms:modified xsi:type="dcterms:W3CDTF">2008-05-26T09:49:58Z</dcterms:modified>
  <cp:revision>59</cp:revision>
  <dc:subject/>
  <dc:title>International Grid Trust Federation Session  GGF 18 Washington, DC, USA</dc:title>
</cp:coreProperties>
</file>