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B8D8-9FC7-407F-A1FA-DD41CA51A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77724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4197960"/>
            <a:ext cx="77724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A14F-3FA1-4112-A344-B205958D0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7040" y="220464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419796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7040" y="419796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112A-F98C-4316-9C8A-125C3E73E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25023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2204640"/>
            <a:ext cx="25023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0000" y="2204640"/>
            <a:ext cx="25023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4197960"/>
            <a:ext cx="25023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4197960"/>
            <a:ext cx="25023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0000" y="4197960"/>
            <a:ext cx="25023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FBFF-61A0-4218-8D81-9DB9723E2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835A-89A5-4223-BDE9-31289159E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8F7D-F1FF-461E-BE38-2BD1C1362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3792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7040" y="2204640"/>
            <a:ext cx="3792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0229-A9D5-46DA-ABAB-40BA7DAFC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9935-3DA5-4CA8-B05A-8D1335C57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4360" y="98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191F-2643-443F-BFF2-ACC86AF9E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7040" y="2204640"/>
            <a:ext cx="3792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419796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F797-0FE9-499F-882B-F7090CB7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3792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7040" y="220464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7040" y="419796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BE81-C335-451F-9176-F51B5860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7040" y="2204640"/>
            <a:ext cx="37926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4197960"/>
            <a:ext cx="77724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B0A7-BE0B-4D54-BEAF-585D1031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472040" indent="-210240">
              <a:spcBef>
                <a:spcPts val="7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1892520" indent="-21024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Gran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May 08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Grand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Gran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09CE-3FD6-4646-9CD5-37CD9E010DD6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" name="Picture 7" descr="SCI_PPT_templ4"/>
          <p:cNvPicPr/>
          <p:nvPr/>
        </p:nvPicPr>
        <p:blipFill>
          <a:blip r:embed="rId2"/>
          <a:stretch/>
        </p:blipFill>
        <p:spPr>
          <a:xfrm>
            <a:off x="0" y="0"/>
            <a:ext cx="7162920" cy="15177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gridpp2_logo"/>
          <p:cNvPicPr/>
          <p:nvPr/>
        </p:nvPicPr>
        <p:blipFill>
          <a:blip r:embed="rId3"/>
          <a:stretch/>
        </p:blipFill>
        <p:spPr>
          <a:xfrm>
            <a:off x="7020000" y="115920"/>
            <a:ext cx="1979640" cy="555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Authorization W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Update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David Kelse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EU Grid PMA, Copenhag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27 May 2008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5" name="Picture 4" descr="egee"/>
          <p:cNvPicPr/>
          <p:nvPr/>
        </p:nvPicPr>
        <p:blipFill>
          <a:blip r:embed="rId1"/>
          <a:stretch/>
        </p:blipFill>
        <p:spPr>
          <a:xfrm>
            <a:off x="324000" y="5373720"/>
            <a:ext cx="201924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LCGlogo"/>
          <p:cNvPicPr/>
          <p:nvPr/>
        </p:nvPicPr>
        <p:blipFill>
          <a:blip r:embed="rId2"/>
          <a:stretch/>
        </p:blipFill>
        <p:spPr>
          <a:xfrm>
            <a:off x="7524720" y="530064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Accreditat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Option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Existing IGTF PMA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Form new AuthZ PMA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Large Grids (EGEE, OSG etc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NGI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Or mix of some/all of thes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May 08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69FD8-AE7F-4239-B6A6-6CBA490223EE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Accreditation (2)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Lucida Grande"/>
              </a:rPr>
              <a:t>My personal preferences (not discussed yet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IGTF defines the standard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Others do accreditatio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With IGTF member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Important to have feedback into standard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Large Grids or Coordination (call it EGI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Accredit Global VO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And run AA services for them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Accredited by IGTF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May 08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9DA7B-9951-45BD-9696-4D53482588E0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Accreditation (3)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Every VO should have a home Gri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Runs the AA service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NGI AA service is accredited by IGTF or EGI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Accredits the VO procedure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Bootstrap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Prepare draft profiles (AA and VO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Accredit a small number of global VO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Feedback and improve profile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May 08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939D7-A705-4C04-B5CB-962AFCE0EE95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AC validat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Document from OSG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Lucida Grande"/>
              </a:rPr>
              <a:t>Attribute Certificate Validation in OSG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Mike H to say more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May 08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165FF-220E-4299-BF4F-3C194C3828E7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Meetings and plan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Work should start on the draft AA profil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Needs a small team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Then wider discussio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I propose to hold a workshop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Early autum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EGEE’08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Joint with EU Grid PMA Lisbon meeting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May 08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91415-717C-47D4-A0E1-76DEEE7C8FF0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4360" y="2204640"/>
            <a:ext cx="7772400" cy="3816360"/>
          </a:xfrm>
          <a:prstGeom prst="rect">
            <a:avLst/>
          </a:prstGeom>
          <a:ln w="0">
            <a:noFill/>
          </a:ln>
        </p:spPr>
      </p:pic>
      <p:sp>
        <p:nvSpPr>
          <p:cNvPr id="11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May 08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17B52-F8F8-46AB-89E1-54F41895974E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May 08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61EAB-D5EE-4272-A57E-C8F81554E70C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Grande"/>
              </a:rPr>
              <a:t>Mandate</a:t>
            </a:r>
            <a:endParaRPr b="0" lang="en-US" sz="4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Lucida Grande"/>
              </a:rPr>
              <a:t>EUGridPMA Working Group on Policy Management for Grid Authorisatio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Lucida Grande"/>
              </a:rPr>
              <a:t>Mandate and aim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To prepare recommendations on policy and global trust issues related to Grid Authorisation (AuthZ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The initial list of issues will include: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Minimum requirements and best practice for the operation of a Grid AuthZ attribute authority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Minimum requirements and best practice for Virtual Organisation user and service membership management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Accreditation of Attribute Authorities (AA)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Accreditation of Virtual Organisations and their membership management procedure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Mandate (2)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Repositories and distribution of accredited AA roots of trus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Technical details of attribute signing and trust validatio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To recommend how IGTF could handle the definition of AuthZ policy and related accreditation during the next 3 to 5 years, taking into account the move towards a sustainable EU Grid Infrastructure and constituent national Grid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May 08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EAB9B-9733-4D91-91F0-3A42BBCB8F91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Mailing list member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4000" y="2204640"/>
            <a:ext cx="38098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M Altunay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J Basney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V Ciaschini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R Cowle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G Garzoglio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D Groep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M Helm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E Imamagic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J Jensen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C Kanellopoulo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6520" y="2204640"/>
            <a:ext cx="38102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D Kelsey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O Koeroo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D Kouril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A McNab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D O’Callaghan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M Sova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Y Tanaka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C Triantafyllidi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W Weisz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J Wolfrat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May 08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71D5B-0578-4773-9D84-4EE49B4C47F8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Discussion on mandate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Several suggestions received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Lucida Grande"/>
              </a:rPr>
              <a:t>First mandate for this WG should be to set up a list of all known AuthZ tools for the Grid environment available and in development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Lucida Grande"/>
              </a:rPr>
              <a:t>To determine actual and near future best practice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Lucida Grande"/>
              </a:rPr>
              <a:t>Especially it should help to discern advantages and disadvantages of SAML assertions versus Attribute certificates versus attributes directly included in proxy certificates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Lucida Grande"/>
              </a:rPr>
              <a:t>This could guide us in the more theoretical aspects of the WG work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May 08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90AA6-D843-4E91-8931-A632B8A9548A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Discussion (2)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Lucida Grande"/>
              </a:rPr>
              <a:t>Policy implications for VOs and VO service providers are essentially the same whatever signing and attribute/assertion technology is use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Lucida Grande"/>
              </a:rPr>
              <a:t>Perhaps there is scope for an AAOPS in OGF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00b05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Lucida Grande"/>
              </a:rPr>
              <a:t>need for implementations that work, as opposed to blue sky protocol desig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May 08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8827B-0B50-43C3-AEFD-73F9961A57AA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Discussion (3)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7030a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030a0"/>
                </a:solidFill>
                <a:latin typeface="Lucida Grande"/>
              </a:rPr>
              <a:t>I agree that we may start with working on VOMS; however, staying implementation-independent, as much as possible, would help us in the long ru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22200" indent="-322200">
              <a:spcBef>
                <a:spcPts val="700"/>
              </a:spcBef>
              <a:buClr>
                <a:srgbClr val="00b05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Lucida Grande"/>
              </a:rPr>
              <a:t>How LoA of the underlying AuC assertions affect what AuZ can do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spcBef>
                <a:spcPts val="601"/>
              </a:spcBef>
              <a:buClr>
                <a:srgbClr val="00b05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Lucida Grande"/>
              </a:rPr>
              <a:t>This leads to a sort of risk assessment framework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spcBef>
                <a:spcPts val="601"/>
              </a:spcBef>
              <a:buClr>
                <a:srgbClr val="00b05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Lucida Grande"/>
              </a:rPr>
              <a:t>If I have a precious resource, I need high quality AuC assertions underneath it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22200" indent="-322200">
              <a:spcBef>
                <a:spcPts val="601"/>
              </a:spcBef>
              <a:buClr>
                <a:srgbClr val="00b05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May 08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A01D3-05DE-4133-8997-F8AB955E710E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Policy model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Lucida Grande"/>
              </a:rPr>
              <a:t>Attribute Authority Service Profil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Based on VOM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Can we make it technology independent?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This should be writte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VO procedure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JSPG working on two document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VO Registration Policy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VO Membership Management Policy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Probably don’t need another one!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May 08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888BB-20BF-4625-BB34-E174DF40B8BC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Grande"/>
              </a:rPr>
              <a:t>Scaling issue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4360" y="2204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Today in EGE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~200 VOs (mix of global, international, regional, national, local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# VOMS servers (how many?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Need to quantify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Future EGI/NGI worl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~35 to 40 Grids in Europ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EU Grid PMA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Accredits ~2 per meeting and reviews ~4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27 May 08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EU Grid PMA, Kelse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041B3-E34C-46E5-B5F2-C50679F3D48A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14:19:45Z</dcterms:created>
  <dc:creator>D Kelsey</dc:creator>
  <dc:description/>
  <dc:language>en-US</dc:language>
  <cp:lastModifiedBy>Kelsey</cp:lastModifiedBy>
  <dcterms:modified xsi:type="dcterms:W3CDTF">2008-06-04T14:00:04Z</dcterms:modified>
  <cp:revision>62</cp:revision>
  <dc:subject/>
  <dc:title>Grid Security</dc:title>
</cp:coreProperties>
</file>