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397E6-10E6-419B-BDFF-C3B36591E7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69A7-B426-4F86-BD4C-8D03614654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CF001-BD16-4436-BCC4-2F4CE74721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4496F-4ACB-456E-BE1A-4353BD5E0F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42FB8-F317-4375-9D21-BFA188563B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3632-F92D-48DF-8527-F53C28DEB6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32F5-6EEF-4DB4-8B0E-6D3C7CAE0B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1C06-5468-4771-9130-2254CACE73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B5A5-F91E-4939-A556-81429175DC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CDA8-0646-4816-B9DF-8716A7AAE6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400C1-F8AE-4458-B480-27F18CC881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5588-61D4-4090-AD96-5EE26141CF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742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3657600"/>
            <a:ext cx="7620120" cy="53352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txBody>
          <a:bodyPr lIns="50760" rIns="142200" tIns="50760" bIns="50760" anchor="t">
            <a:normAutofit fontScale="12000"/>
          </a:bodyPr>
          <a:p>
            <a:pPr marL="4680" indent="-4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280" indent="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360" indent="1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3080" indent="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90720" y="6477120"/>
            <a:ext cx="13716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07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451296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44B8-8815-4B68-B705-DF5CD8405838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Group 2"/>
          <p:cNvGrpSpPr/>
          <p:nvPr/>
        </p:nvGrpSpPr>
        <p:grpSpPr>
          <a:xfrm>
            <a:off x="0" y="1066680"/>
            <a:ext cx="9144000" cy="76320"/>
            <a:chOff x="0" y="1066680"/>
            <a:chExt cx="9144000" cy="76320"/>
          </a:xfrm>
        </p:grpSpPr>
        <p:sp>
          <p:nvSpPr>
            <p:cNvPr id="41" name="Rectangle 3"/>
            <p:cNvSpPr/>
            <p:nvPr/>
          </p:nvSpPr>
          <p:spPr>
            <a:xfrm>
              <a:off x="0" y="1066680"/>
              <a:ext cx="9144000" cy="76320"/>
            </a:xfrm>
            <a:prstGeom prst="rect">
              <a:avLst/>
            </a:prstGeom>
            <a:solidFill>
              <a:srgbClr val="5dad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"/>
            <p:cNvSpPr/>
            <p:nvPr/>
          </p:nvSpPr>
          <p:spPr>
            <a:xfrm>
              <a:off x="0" y="1066680"/>
              <a:ext cx="914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440" indent="11160">
              <a:spcBef>
                <a:spcPts val="700"/>
              </a:spcBef>
              <a:buClr>
                <a:srgbClr val="176d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6477120"/>
            <a:ext cx="13716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07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565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OPS-WG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520" y="3657600"/>
            <a:ext cx="7620120" cy="53352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ristos Kanellopoulos - Yoshio Tana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557000" y="4505400"/>
            <a:ext cx="2773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OPS-WG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th EUGridP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2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76C6-2378-4856-B0FD-04D442AAE664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CAOPS co-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ition to the Security Area as a Standard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 CAOPS - IGTF 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7B65-DC74-433B-8C64-B520FB3A1DFC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16DB-6B2E-49E2-B50F-C5D0A8EE2817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CAOPS co-chai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lcome Yoshio Tanaka as the new CAOPS co-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C149-B273-4142-830F-114FE45F6B45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0014-87F7-4D63-9A46-8662D543ACA4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OPS as a standards grou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be decided next week at OGF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group get better dissemination of the information to the user community, and get in CAOPS the opportunity to also publish recommendations-track documents and standard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group gets different oversight: from the security area in the standards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will need to update (actually: write) the group charter ag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 workshops and informational sessions are still possi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B5E3-654E-4890-8A2D-835914B0759C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01E1-69CE-4F65-AA96-166EE39B391E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 CAOPS - IGTF Workshop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Full day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mal CAOPS session (1 - 1,5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 of the day IGTF related discussion, food for thought both for IGTF &amp; CA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8AD1-EF43-4D33-A7D3-964131586431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E882-436C-4A54-9DF8-AE8B14F29927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st joint CAOPS - IGTF Worksho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GF 22, Boston, Feb 28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FBB2-259A-4F7C-AB2E-9D503B0FEA0B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866960" y="2158920"/>
            <a:ext cx="81039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08:30 - 09:00 nCiph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09:00 - 09:30  Kryp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09:30 - 10:00 Aladd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0:00 - 10:30 Safe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0:30 - 10:45 Q &amp; 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0:45 - 11:00 Coffee Brea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1:00 - 11:30 Private Key Prot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1:30 - 11:45 Certificate Renew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1:45 - 12:15 Higher Level CA Pro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2:15 - 13:15 Lun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3:15 - 13:30 Guidelines for Auditing C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3:30 - 14:00 Authentication Service Pro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4:00 - 14:30 Use Cases for Relying Party Enforced Namespace Constra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4:30 - 14:45 CP/CPS model templ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4:45 - 14:50 Election of new CAOPS co-chai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4:50 - 15:00 Coffee Brea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5:00 - 15:20 BalticGrid 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5:20 - 16:30 Robot Certifica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6:30 - 16:45 Coffee Brea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6:45 - 17:00 OpenCA + PRQP (PKI Resource Query Protoco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7:00 - 17:30 Identification in IGT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7:30 - 18:00 Distribution process docu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aco"/>
                <a:ea typeface="ＭＳ Ｐゴシック"/>
              </a:rPr>
              <a:t>18:00 - 18:15 Discussion on SLCS (Revocati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1181160" y="2070000"/>
            <a:ext cx="406440" cy="4648320"/>
          </a:xfrm>
          <a:custGeom>
            <a:avLst/>
            <a:gdLst>
              <a:gd name="textAreaLeft" fmla="*/ 55800 w 406440"/>
              <a:gd name="textAreaRight" fmla="*/ 350640 w 406440"/>
              <a:gd name="textAreaTop" fmla="*/ 55800 h 4648320"/>
              <a:gd name="textAreaBottom" fmla="*/ 4592520 h 4648320"/>
            </a:gdLst>
            <a:ahLst/>
            <a:rect l="textAreaLeft" t="textAreaTop" r="textAreaRight" b="textAreaBottom"/>
            <a:pathLst>
              <a:path w="21600" h="246833">
                <a:moveTo>
                  <a:pt x="10125" y="0"/>
                </a:moveTo>
                <a:arcTo wR="10125" hR="10125" stAng="16200000" swAng="-5400000"/>
                <a:lnTo>
                  <a:pt x="0" y="236708"/>
                </a:lnTo>
                <a:arcTo wR="10125" hR="10125" stAng="10800000" swAng="-5400000"/>
                <a:lnTo>
                  <a:pt x="11475" y="246833"/>
                </a:lnTo>
                <a:arcTo wR="10125" hR="10125" stAng="5400000" swAng="-5400000"/>
                <a:lnTo>
                  <a:pt x="21600" y="10125"/>
                </a:lnTo>
                <a:arcTo wR="10125" hR="10125" stAng="0" swAng="-5400000"/>
                <a:close/>
              </a:path>
            </a:pathLst>
          </a:custGeom>
          <a:solidFill>
            <a:srgbClr val="5dad4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 rot="16176000">
            <a:off x="1107360" y="2660760"/>
            <a:ext cx="446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S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 rot="16176000">
            <a:off x="1103040" y="3456000"/>
            <a:ext cx="45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GT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 rot="16176000">
            <a:off x="1023120" y="4381200"/>
            <a:ext cx="66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 rot="16176000">
            <a:off x="1103040" y="5538960"/>
            <a:ext cx="45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GT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1219320" y="5092560"/>
            <a:ext cx="330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1219320" y="3962520"/>
            <a:ext cx="330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1219320" y="3174840"/>
            <a:ext cx="330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4C79-0A5E-4A87-AC62-B3E2711660B2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nd joint CAOPS IGTF Worksho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GF 23, Barcelona, June 4th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Top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4B03-896C-45D4-BC43-E164D9188A03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7999-849F-4AE1-BBB3-C057DAF468F5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Documents currently under consideration by the CAOPS-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Audit Guidelines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(editor: Yoshio Tanak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Provide guidelines for auditing C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Auditing Check Li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Authentication Service Profile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(editors: Christos Kanellopoulos, David Groep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Definition of what and Authentication Profile 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Requirements for writing Authentication Profi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this acts as the document template for the Authentication Profiles used in the IGT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Relying Party Defined Namespace Policies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(editors: David Groep, Olle Mulmo, Von Welch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Identify the requirements on the expression of the namespace constraints policy and on the processing and interpretation semantics of the policy by the relying part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document the existing signing_policy file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discuss alternatives to thi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Stalled docu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3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OCSP requirements for Grids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i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(editors: Olle Mulmo, Mike Helm, Jesus Luna, Oscar Manso, Milan Sov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requirements on relying parties and responders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service architecture options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site caches, clearing house, high-level respond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4FB7-0667-4CB9-847E-F499E9EA5164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5219-74F1-4C31-A09E-FD1180423EC2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s (cont’d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Documents currently under consideration by the LoA-R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 </a:t>
            </a:r>
            <a:r>
              <a:rPr b="0" lang="en-US" sz="14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A gap analysis of current LoA definitions versus LoA requirements in e-Science/Grid context </a:t>
            </a:r>
            <a:r>
              <a:rPr b="0" i="1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(editor: Mike Jones, et.al.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give an overview of current LoA definitions and the related efforts, and identify gaps between these definitions and the potential use of LoA in the e-Science/Grid con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Stalled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•</a:t>
            </a:r>
            <a:r>
              <a:rPr b="0" lang="en-US" sz="1400" spc="-1" strike="noStrike">
                <a:solidFill>
                  <a:srgbClr val="0018e5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 </a:t>
            </a:r>
            <a:r>
              <a:rPr b="0" lang="en-US" sz="1400" spc="-1" strike="noStrike" u="sng">
                <a:solidFill>
                  <a:srgbClr val="0018e5"/>
                </a:solidFill>
                <a:uFillTx/>
                <a:latin typeface="Verdana"/>
                <a:ea typeface="ＭＳ Ｐゴシック"/>
              </a:rPr>
              <a:t>A risk analysis in relation to LoA and use case gathering in an e-Science context (Mike Hel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◦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333333"/>
                </a:solidFill>
                <a:latin typeface="Verdana"/>
                <a:ea typeface="ＭＳ Ｐゴシック"/>
              </a:rPr>
              <a:t>present a risk analysis from the prospective of relying parties (or service provid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17AF-FBF6-4F93-B1FF-D579127F5687}" type="slidenum">
              <a:rPr b="0" lang="en-US" sz="11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Groep</dc:creator>
  <dc:description/>
  <cp:keywords/>
  <dc:language>en-US</dc:language>
  <cp:lastModifiedBy>Yoshio Tanaka</cp:lastModifiedBy>
  <dcterms:modified xsi:type="dcterms:W3CDTF">2008-05-27T12:39:18Z</dcterms:modified>
  <cp:revision>2</cp:revision>
  <dc:subject/>
  <dc:title>Security Area Review December 2006</dc:title>
</cp:coreProperties>
</file>