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042-C769-4E50-B001-4FD05C24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A80-5754-4421-ACB5-3E71350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027-A1FE-47DA-8A1E-DFABE91F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21A-6296-4415-AF27-9BC1D2BE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57D-9CE4-4590-953C-AA60AE21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FA2-221B-470C-BCCB-8EBBF414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6FE-B7DE-4678-8A43-6D17B89B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C45-0168-42E8-99B2-3D28E341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370-40A6-42AF-A5F5-BCCB3DC6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F5A-FEAA-4AAB-B914-D89358D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F51-6B3A-4507-BD16-63E2A8EC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ED7-007B-4641-BDFC-0D5BFD2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798D-3F74-42E3-B903-D836D97E2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ernath@sunserv.kfki.hu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FKI RMKI CA Review</a:t>
            </a:r>
            <a:br>
              <a:rPr sz="4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UGridPMA May 26-28, Copenh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508280"/>
            <a:ext cx="57927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abolcs Herná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TA KFKI RM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nath@sunserv.kfk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ki.kfk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ckground &amp;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esent Status &amp; Futur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lf-assessment &amp;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ssons learned &amp;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scuss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Background &amp;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hy 2 CAs in Hung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Community needed the servic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NREN CA (NIIF) was planned, but no progress or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MKI had ~90% of LCG users &amp;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UGridPMA in Brussels, Sept. 200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KFKI RMKI CA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MA demanded community agreement to preempt a 2 CA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ec. 2004: Community agreement 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Hungarian grid community will endorse KFKI RMKI CA until the NIIF CA can setup an RA at KFKI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MA accepted the agreement, KFKI RMKI CA accr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tarted production in Jan.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cent progress in the setup of NIIF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Pres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liable operation on Debian/Ope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issued: 230 (6 for 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evoked: 126 (none compromi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Valid: 47 (14 user, 33 h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host: 145 (68 DNs, even less iden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user: 79 (50 DNs, even less ident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ll CRLs: 120 (1 overdue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IF RA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A secure admin interface deployed &amp; tested (based on toke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User web interface i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IdP for NIIF AAI Federation in deployment (for user preau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RA contract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IF RA in production later this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ll probably keep the CA for local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will rekey or extend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could produce new CP/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fter the NIIF RA is in production, will replace all grid c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ed to leave the club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. Self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ork in progress, preliminar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jor issues: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) CP/CPS is RFC 2527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7) Secure environment, access control &amp; log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9) Secure environment undocumented/unaudite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1) CA key protection B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0) Operational audit D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51) List of personnel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jor Issues: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2) Identity vetting (user) B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3) Identity vetting (host) A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4) FQDN ownership B/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10) Record archival in auditable form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5. Othe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sufficien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o long-term planning (was not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ssing operation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o many h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scheduled’ paper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.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ore is l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pecify everything as strict as 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write all operational documents befor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rational audit/review ASAP (before prod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paration of GRID namespace is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ccreditation profile version should be recorded on accred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udit guidelines updates for AP changes? (versions for each AP versio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parate audit guidelines for different AP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hank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53:10Z</dcterms:created>
  <dc:creator>Hernáth Szabolcs</dc:creator>
  <dc:description/>
  <dc:language>en-US</dc:language>
  <cp:lastModifiedBy>Hernáth Szabolcs</cp:lastModifiedBy>
  <dcterms:modified xsi:type="dcterms:W3CDTF">2008-05-28T07:43:03Z</dcterms:modified>
  <cp:revision>25</cp:revision>
  <dc:subject/>
  <dc:title>KFKI RMKI Grid Storage</dc:title>
</cp:coreProperties>
</file>