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1798280" y="-11796840"/>
            <a:ext cx="11793600" cy="124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-11798280" y="-11796840"/>
            <a:ext cx="11793600" cy="124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-11798280" y="-11796840"/>
            <a:ext cx="11793600" cy="124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141-174C-4EA1-8975-CB542BB8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630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5000760"/>
            <a:ext cx="77630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7D6-B2E6-4309-81E4-D44B14E0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5000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5000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F21-CDCA-4223-9B17-EC63F80A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560" y="3047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5320" y="3047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5000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560" y="5000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5320" y="5000760"/>
            <a:ext cx="24994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E7B-DF11-4916-8694-39107C25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047760"/>
            <a:ext cx="77630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425-3D40-4CD9-AD31-1FEAD6F6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630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F7F-EED7-446F-9422-4C76B8F1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910-FEAA-41FE-A7B8-EE07FD77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1600-D4E5-48C7-881E-A1817EAC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630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738-82E9-4D3B-BCF5-9812A80C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5000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2B3-4773-4A48-B845-9C9A0172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5000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FF2-E239-49EA-B384-BD41F649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3047760"/>
            <a:ext cx="378828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5000760"/>
            <a:ext cx="776304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77F-2BB6-4B52-88F9-7AB00A66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630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047760"/>
            <a:ext cx="77630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6002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57400" indent="-22860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44A0F-CB01-495F-83D1-E6704CC0EE0B}" type="slidenum">
              <a:rPr b="0" lang="en-GB" sz="1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obot Soap Box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Jens Jensen &lt;j.jensen @ rl ac uk&gt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Science and Technology Facilities Counci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EU GridPMA Meeting May 2008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644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ropos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Project-own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ccess to private key can be shar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ingle person responsib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Buck can be pass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Must inform CA when buck is pass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Look closer at use c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Risks, us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mens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89360" cy="37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In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Key Stor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ertificate Us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160" y="3048120"/>
            <a:ext cx="378936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ut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Us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 am a Robot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uthority chain, LoA, risk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644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rincip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Verified Subscriber inform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erified by CA/R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Non-verified Subscriber inform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sserted by Us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(How to) make things Verifi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hat's the risk of non-Verifi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Storag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e-Toke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hould now work with OpenSC+PC/SC + Aladdin driver cross platform (P Millar, DESY)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penSC PKCS#15 suppor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644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Key Storag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ssert stored on Key Toke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IPS certified Level 2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IPS certified Level 3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IPS certified Level 4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Not yet certified but in process of certific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Not certified, no process (?)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Robots Nam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5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Naming is in the D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Robots name themselves (Robot:)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Robots name their own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Warm and Fuzzy Robo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5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Log files show it's a robo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Log files show whose robot it wa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uthorisation by DN for robo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36840"/>
            <a:ext cx="776592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How to communic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5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Nam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.g. hierarchical scheme (Brian)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urrent hacky vers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I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Require middleware to parse OID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arrot?  Stick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3360" indent="-33336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761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xternal source, e.g. LDAP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644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ropos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644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03120" indent="-30312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How tightly do we need to manage usage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OMS, portal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Powerful clients vs weaker clien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3120" indent="-303120">
              <a:lnSpc>
                <a:spcPct val="82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How to move away from personal nam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onfus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annot be inherit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annot be shar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7080" indent="-250920">
              <a:lnSpc>
                <a:spcPct val="82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Project owned/manag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j47</cp:lastModifiedBy>
  <cp:revision>0</cp:revision>
  <dc:subject/>
  <dc:title>PowerPoint Presentation</dc:title>
</cp:coreProperties>
</file>