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B84DAD8-72C2-4002-BF82-81B9E1313AE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F32E544-91D1-45F7-B778-173C4C525C8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0F55C025-DA56-4C5A-AB27-58183472038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85002701-A012-45D6-87D6-1C3D0A8BF0F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480B7011-1131-4623-9B51-6D307C32A61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A90C680C-8E58-4D50-8FD5-69D8F789A84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5214CD8C-2D5B-4646-8148-6042BCFB623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ECEDF653-2F3E-41E4-909C-20D59008EE4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3858E41C-3C97-4B7E-B987-C2D47DA55EC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465E0A99-E297-46F7-9A93-176612FCB4A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E965EF32-D14D-4664-8AEA-841CD5229F6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84006681-0A3F-4766-8DFC-4C493AD3969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D4B0F7CB-10C3-4690-A91B-92A5D107729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14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October 6-8, 2008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Lisbon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04528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Welcome to Lisbon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Monda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68" name="Picture 3" descr=""/>
          <p:cNvPicPr/>
          <p:nvPr/>
        </p:nvPicPr>
        <p:blipFill>
          <a:blip r:embed="rId1"/>
          <a:stretch/>
        </p:blipFill>
        <p:spPr>
          <a:xfrm>
            <a:off x="0" y="1581120"/>
            <a:ext cx="9144000" cy="40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Tuesda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0" name="Picture 2" descr=""/>
          <p:cNvPicPr/>
          <p:nvPr/>
        </p:nvPicPr>
        <p:blipFill>
          <a:blip r:embed="rId1"/>
          <a:stretch/>
        </p:blipFill>
        <p:spPr>
          <a:xfrm>
            <a:off x="528480" y="1566720"/>
            <a:ext cx="8087040" cy="37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Wednesda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2" name="Picture 2" descr=""/>
          <p:cNvPicPr/>
          <p:nvPr/>
        </p:nvPicPr>
        <p:blipFill>
          <a:blip r:embed="rId1"/>
          <a:stretch/>
        </p:blipFill>
        <p:spPr>
          <a:xfrm>
            <a:off x="0" y="2043000"/>
            <a:ext cx="9144000" cy="256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Agenda now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Note taker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Minutes from last meet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hanks to Mike and Ja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ntroduction round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08-10-07T08:23:11Z</dcterms:modified>
  <cp:revision>468</cp:revision>
  <dc:subject/>
  <dc:title>European Grid Policy Management Authority</dc:title>
</cp:coreProperties>
</file>