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C744189-83F2-4A07-A361-624FB577DE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B611AAB-1399-4751-8412-33516218C9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B90D0C6-9781-418A-A093-0561CE97495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A08CD78F-F6C9-4BAF-83C7-9FA037289FD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A14775F-ECD1-4EE1-8008-BE69A84A564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20B3F13-10AE-4E22-ABE2-A05CBAC81C1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E7850E6-2A02-41BA-A8A6-4C07726743B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12844C3-9417-4BCD-BD59-8B0F219F121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72CE399-E3F1-4F15-86DA-8397407AC43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016F01B-60D6-409A-99C4-EECBF7F35E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635D6C4-8D15-4FBA-8947-3475F65B69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8AB2707-0606-44A8-B626-5455D9D77AA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56A8C08-0C1E-470A-9AC3-9199D921229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RL NEXT UPDAT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RL Fac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129528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.0  - d1737728 /C=SG/O=Netrust Certificate Authority 1/OU=Netrust CA1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2.0  - 1d879c6c /DC=ch/DC=cern/CN=CERN Truste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7.0  - 9b59ecad /DC=cz/DC=cesnet-ca/CN=CESNE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8.0  - cc800af0 /C=HU/O=NIIF/OU=Certificate Authorities/CN=NIIF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eebc7717 /C=CH/O=Switch - .../CN=SWITCH Server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47d3d1a0 /C=CH/O=Switch - .../CN=SWITCH Personal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4.0  - 9b95bbf2 /C=US/O=National Center for S.A./OU=Certificate Authorities/CN=CACL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1691b9ba /C=TR/O=TRGrid/CN=TR-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2418a3f3 /DC=bg/DC=acad/CN=BG.ACA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1.0  - 55994d72 /C=RU/O=RDIG/CN=Russian Data-Intensive 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5.0  - 03aa0ecb /C=BE/O=BELNET/OU=BEGrid/CN=BEGrid CA/emailAddress=gridca@belnet.be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0  - 28a58577 /C=GR/O=HellasGrid/OU=Certification A.../CN=HellasGrid Root CA 2006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5  - d254cc30 /DC=ch/DC=cern/CN=CERN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5.0  - 566bf40f /C=EE/O=Grid/CN=Estonian Gri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6.0  - cf4ba8c8 /C=FR/O=CNRS/CN=CNRS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548.0  - d0b701c0 /C=CH/O=Switch - .../CN=SWITCHgrid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731.0  - 98ef0ee5 /C=UK/O=eScienceRoot/OU=Authority/CN=UK e-Science Root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assic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7 and 30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7 day CRLs implies continuous issuan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811080" y="1185840"/>
            <a:ext cx="8101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SLCS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3 days and ∞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768240" y="1311120"/>
            <a:ext cx="80488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ssues see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trust CRL of 1 day triggers many warning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MA warnings of actual invalidity are comm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navailability fo CRL is on average 20% at any 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RN TCA CRL of 2 days hardly causes any actu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warning once every few month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SNET CRL of 7 days causes no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 30 day CRLs give incident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rmonize period between SLCS and Classic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3 days before expir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nly for on-line auto-generated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ly generated CRLs and CRLs for off-line CAs stay at 7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x life time for Classis AP stays at 30 days for issuing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1:40Z</dcterms:modified>
  <cp:revision>467</cp:revision>
  <dc:subject/>
  <dc:title>European Grid Policy Management Authority</dc:title>
</cp:coreProperties>
</file>