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911-B3F0-487F-8C40-202175BE5A4B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9561-E941-421C-B077-E588EA2D657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DDCD-811D-4CA0-8948-70937486984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70C1-DD22-47EC-9B79-898FEF1A6C4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E3CA-8681-4C56-953C-02BC5A1667C5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C467-8E9B-4706-B025-32256F6A8DF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CF6-0E41-4F5C-86A0-EFC631119DB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228-A31F-43BD-92EF-54EC3481EB0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8EF1-8CF2-41AE-A585-622FFE884D5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23F2-8BA0-48BE-BC1F-E1C83C239EE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1FF-A6E2-4CC1-9900-9A25F26D426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EC37-9966-447C-B917-8BBA90DDA00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356BB-0C46-40FD-A564-C2A92A94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64A68-037E-455A-9266-30D2CB6B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EA9A1-7B9E-48AD-A83F-771493A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E0BFD-C249-4530-A827-1910254D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6F24B-BAE7-4F22-BB91-D22AFD1E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1FDA1-2211-4EAC-BCC3-F026CC2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601EC-DF23-4662-957C-B2D2ED3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86CCF-4A2A-404B-BCE3-6349AC1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84250-88C0-461B-B389-C022E18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FC1A0-9578-4523-9F34-34D90FD3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C9D8-DDB1-444A-8953-48D0BE79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42DD-768D-45F3-84DC-4676322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3827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5" descr="IGTF-logo-300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0E8-DA70-4A38-8431-A6499A4ACBDC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IGTF-logo-large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0C4C-D6C4-4E65-99B8-AC62C9011023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4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Meet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Update from TAGPMA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Jim Basn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isbon, Portug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October 6-8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WordArt 5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rter (v 2.5 approval pen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active Membership – impacts quor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wo year term of office for elected p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accred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uditing: Discussions on going, should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IST 800-5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btru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ther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1:2005; ISO/IEC 17799: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CP/CPS template : Minimum requirements and best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7th TAGPMA F2F in Oakland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F2F in Merida, Venezu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as postponed due to expected lack of attend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ovember 6-8, 200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Tu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tod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ULA – Venezuel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The image “http://www.lib.utexas.edu/maps/americas/americas_pol96.jpg” cannot be displayed, because it contains errors."/>
          <p:cNvPicPr/>
          <p:nvPr/>
        </p:nvPicPr>
        <p:blipFill>
          <a:blip r:embed="rId22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1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Classic, 1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5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lassic, 2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eru and 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re-)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was no longer willing to host TAGPMA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ut ESnet undergoing large services overha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sruption to TAGPMA services in terms of availability and quality – Ap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ving/moved TAGPMA domain name, mailing lists and website to ESnet, as and when fea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TAGPMA information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secure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har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sion 2.4 of the Charter has been appr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etter reflects how the TAGPMA ope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 year Membership: Letter of introduction/renew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ies the representative (POC) to the soliciting In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ffirmed commitment by Institution to TAGPMA participation (F2F meetings, document development and review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xtended inactivity will imply resig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Original Version 1.1, 15/11/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two pronged revision process (Version 2.0 ser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rought up to date and in line with alterations made to the other profil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licy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Lowered HSM operating mode to Level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wo recent security incidents posed the question of whether or not CRLs SHOULD be made a requirement/o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version is 2.1, 18/08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s ar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th exception for very short-lived certific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ow short is short? Current consensus is 1 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though approved by both EU and AP GridPMAs, awaiting acceptance from existing SLCS CA opera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CSA 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WITCH ?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Jim Basney</cp:lastModifiedBy>
  <dcterms:modified xsi:type="dcterms:W3CDTF">2008-10-03T20:23:00Z</dcterms:modified>
  <cp:revision>93</cp:revision>
  <dc:subject>TAGPMA@OGF24 2008</dc:subject>
  <dc:title>TAGPMA Updates</dc:title>
</cp:coreProperties>
</file>