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149312-1052-4BEE-B220-26CADFBA30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4012C-ED67-4C74-830C-0B1901550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15C5F-5011-4F83-95EF-4FB4AF03C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EE339-1DE7-4144-8DCF-D0F2786F8E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8B36C-C4AB-42BA-A3B1-5C212E44B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A6662-5EC0-4239-A3EB-45C7B64FF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234A6-E221-4B2D-857D-6D475F3B1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D3EDB-8393-45AC-8F9A-8655A745A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68372-49BE-48FF-96B0-31DBBD8D9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76881-B06F-45A3-82D9-82A3C25E3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ED720-2D2F-4137-B41C-D7C238329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C86F8-59E4-41AA-94B2-A313E62AB2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9F767B-1403-4B15-BBDD-9C1994779AB6}"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62EF24-A114-4487-BFBB-C105552200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TF RAT</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Mission: The International Grid Trust Federation (IGTF) Risk Assessment Team (RAT) is responsible for assessing risk and setting time and deadlines for response and action for concerns and vulnerabiliti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e RAT has formed!</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ttp://tagpma.es.net/wiki/bin/view/IGTF-R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gtf-rat@eugridpma.org</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Membe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PGridPMA: Yoshio Tanaka, Jinny Chie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UGridPMA: Jens Jensen, Willy Weisz, David Groep</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AGPMA: Jim Basney, Vinod Rebello, Jim Marstell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TF RAT Procedure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e IGTF RAT operates by consensus. To react quickly and effectively, the group must have the ability to quickly reach consensus. We take the Apache Voting Process as a guide. Specifically, consensus is reached if there are three positive votes and no negative votes. Any official action requires that we reach consensus in this manne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e IGTF RAT contacts CA operators via the email address in the .info file of the IGTF distribution. IGTF members are expected to monitor this address. The RAT expects responses from IGTF members within one business day.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TF RAT Communications Test</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http://tagpma.es.net/wiki/bin/view/IGTF-RAT/20080813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oal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Verify CA contact email addres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Verify one business day response time</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Result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57 (75% of 76) CAs responded within one da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60 (79% of 76) CAs responded within two day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73 (96% of 76) CAs responded within one week.</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76 (100%) CAs responded within one month.</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Contact addresses have been updated.</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When should we do it again?</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TF RAT</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nex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isk Analysi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munications test twice per ye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08:18:34Z</dcterms:created>
  <dc:creator>Jim Basney</dc:creator>
  <dc:description/>
  <dc:language>en-US</dc:language>
  <cp:lastModifiedBy>Jim Basney</cp:lastModifiedBy>
  <dcterms:modified xsi:type="dcterms:W3CDTF">2008-10-06T09:32:27Z</dcterms:modified>
  <cp:revision>2</cp:revision>
  <dc:subject/>
  <dc:title>IGTF RAT</dc:title>
</cp:coreProperties>
</file>