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70C9-A037-4CE9-AFC1-8F553EBC7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589C-F8DB-4225-8511-0EA351EB4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744E-89D3-44F5-BC4E-80ECB6956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96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40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96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40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1692-D43D-4950-AC83-D01485CE0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400" y="256680"/>
            <a:ext cx="8334360" cy="28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DE5F-078A-4520-8149-F52EA20BC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596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840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596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840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6E2E-9359-4287-9089-EF038AEFA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2BF4-1246-4023-BFF4-CD16521C3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6FC9-958A-456D-B7D2-0A852C598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00" y="256680"/>
            <a:ext cx="8334360" cy="28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6B5D-1236-4C85-87EA-CFAC2B587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9B85-FC74-4D4E-86F2-1B787B59C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B100-3ED4-4D23-A8D3-55EA10A64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0592-026B-4B63-AE2E-9E78D3C2B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9320" indent="-187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198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8000" y="6391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38BD-B224-434E-AC72-1D69DC286B9A}" type="slidenum">
              <a:rPr b="0" lang="en-GB" sz="14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5440" y="63882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47d"/>
                </a:solidFill>
                <a:latin typeface="Arial"/>
              </a:rPr>
              <a:t>© 2008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33520" y="6384960"/>
            <a:ext cx="252360" cy="30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9108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47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50000" anchor="b">
            <a:noAutofit/>
          </a:bodyPr>
          <a:p>
            <a:pPr marL="426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65520" y="3809880"/>
            <a:ext cx="4187880" cy="120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10044" t="15722" r="14065" b="61081"/>
          <a:stretch/>
        </p:blipFill>
        <p:spPr>
          <a:xfrm>
            <a:off x="0" y="175248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6040"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algn="ctr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976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2892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28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28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50000" anchor="b">
            <a:noAutofit/>
          </a:bodyPr>
          <a:p>
            <a:pPr marL="426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QuoVadis accreditation with EuGridPMA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61800"/>
            <a:ext cx="9144000" cy="41436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76600" y="5524560"/>
            <a:ext cx="43624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47d"/>
                </a:solidFill>
                <a:latin typeface="Arial"/>
              </a:rPr>
              <a:t>Alessandro Us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47d"/>
                </a:solidFill>
                <a:latin typeface="Arial"/>
              </a:rPr>
              <a:t>alessandro.usai@switch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exten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Certificate Polic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y: 1.3.6.1.4.1.8024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y: 1.2.840.113612.5.2.2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Key Usage: cri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ture, Key Encipher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Authority Key Identifi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id:42:E6:13:39:8B:3A:41:66:EA:40:C1:0B:81:CE:10:F7:DA:71:74:B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Subject Key Identifi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A:5E:63:A9:B3:10:3B:CF:45:60:59:ED:61:59:DE:8B:A4:9A:BE:C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CRL Distribution Poi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I:http://crl.quovadisglobal.com/qvgica.c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ity Information Acces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 Issuers - URI:http://trust.quovadisglobal.com/qvgica.c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Extended Key Usag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S Web Server Authentication, TLS Web Client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Subject Alternative Na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S:server.switch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ture Algorithm: sha1WithRSAEncry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BEGIN CERTIFICATE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END CERTIFICATE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2652-EF56-457C-99C0-AC184715F8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47d"/>
                </a:solidFill>
                <a:latin typeface="Arial"/>
              </a:rPr>
              <a:t>Issuing CA Certificate</a:t>
            </a:r>
            <a:endParaRPr b="1" lang="en-US" sz="46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ertificat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ersion: 3 (0x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ial Number: 13 (0x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gnature Algorithm: sha1WithRSAEncryp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ssuer: C=BM, O=QuoVadis Limited, CN=QuoVadis Root Certification Author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 Before: Aug 26 17:01:51 2008 GM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 After : Aug 24 17:01:51 2018 GM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ject: C=BM, O=QuoVadis Limited, CN=QuoVadis Grid Issuing 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or ICA?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ject Public Key Inf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ublic Key Algorithm: rsaEncryp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SA Public Key: (2048 bi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ulus (2048 bit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4014-CA5C-4B3F-8F73-ACCE4B93EF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nent: 65537 (0x10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extens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Basic Constraints: 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: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Key Usage: 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ificate Sign, CRL 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Authority Key Identifie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id:AD:0B:3E:70:61:2D:D2:8F:F0:E7:4F:DD:1D:DF:F1:32:70:CD:D6: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Subject Key Identifie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2:E6:13:39:8B:3A:41:66:EA:40:C1:0B:81:CE:10:F7:DA:71:74:B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CRL Distribution Point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I:http://crl.quovadisglobal.com/qvrca.c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y Information Acc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 Issuers - URI:http://trust.quovadisglobal.com/qvrca.c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ture Algorithm: sha1WithRSAEncry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BEGIN CERTIFICATE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END CERTIFICATE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B7B6-4CAC-40CB-A3D0-D8EF2EC1D4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47d"/>
                </a:solidFill>
                <a:latin typeface="Arial"/>
              </a:rPr>
              <a:t>Switch Requirements/feedback</a:t>
            </a:r>
            <a:endParaRPr b="1" lang="en-US" sz="4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lifetime of at least ten years for the Issuing 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Entities and Server certificates lifetime of no more than 13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further certificate policies extension for the Issuing CA certificate must not  include a U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mediate certificate with a key longer than 2048 bits (CA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suing CA CRL lifetime will be of at least 7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CSP (online certificate status protocol)  responder URI in the Grid certificates, at least initi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DFD2-15DD-4FC4-970B-2252AAA411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34360" cy="74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47d"/>
                </a:solidFill>
                <a:latin typeface="Arial"/>
              </a:rPr>
              <a:t>What will change?</a:t>
            </a:r>
            <a:endParaRPr b="1" lang="en-US" sz="38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ssSign hierarchy cumbersome e.g. we will not need a safe in a bank anymore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hassle as we will NOT have the email field in the certificates D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3886200"/>
            <a:ext cx="50292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LCS CA is not affected by the transi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s management will remain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5680" y="2971800"/>
            <a:ext cx="490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47d"/>
                </a:solidFill>
                <a:latin typeface="Arial"/>
              </a:rPr>
              <a:t>What will not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6B69-6F1A-4544-90CE-C604E3157E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5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247d"/>
                </a:solidFill>
                <a:latin typeface="Arial"/>
              </a:rPr>
              <a:t>QuoVadis timeline</a:t>
            </a:r>
            <a:endParaRPr b="1" lang="en-US" sz="45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oVadis CP/CPS and Issuing C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process for the Issuing CA and update of the CP/CPS will be roughly as follow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raft of the initial proposed updates to the CP/CPS over the next few week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greement with QuoVadis on the technical specifications for the issuing CA and the end user/device certificates (this includes OIDs et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ild of the issuing CA and first tests:  as an estimate the issuing CA should be able to be built by the end of the yea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al updates to the CP/CPS and formal approve by the QuoVadis PMA (dependent on the building of the issuing CA, but quick in princip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mission of the CP/CPS for approval by the EUGridP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93D2-71F6-4F1B-9F83-DF1A615BD2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EUGridPMA Accreditation Timeline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start with the current CP/CPS review?Any volunteers for the review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the real review when the CP/CPS document is approved by QuoVa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e would like to be accredited by May 2009 the latest in Zurich, but if possible by January 2009 at the EUGridPMA meeting in Cypru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representative of QuoVadis might attend the meeting in Cyprus, if this is deemed usefu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BE9D-84C4-4787-B212-B35FEF9EB0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47d"/>
                </a:solidFill>
                <a:latin typeface="Arial"/>
              </a:rPr>
              <a:t>So who are they (where are you going:)?</a:t>
            </a:r>
            <a:endParaRPr b="1" lang="en-US" sz="3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was founded in 1999 with backing from a venture capital affiliate of the Zurich Financial Services Group. The company later underwent a management buyout and subsequent private equity investment from ABRY Part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Vadis is a member of the CA/Browser Forum, and contributed to the creation of standards for the Extended Validation Certificate.QuoVadis is based in Berm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offices in Switzerland, UK, Holland, New Zealand;they will also open a second data centre in Zurich in November this y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609E-F539-47FB-8EA7-425A991012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7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247d"/>
                </a:solidFill>
                <a:latin typeface="Arial"/>
              </a:rPr>
              <a:t>QuoVadis current business profile</a:t>
            </a:r>
            <a:endParaRPr b="1" lang="en-US" sz="39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189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oVadis’ accreditations (yearly audits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alified Certification Practice Statement (CSP)  in Netherlands granted by the Independent Post and Telecommunications Authority (OPTA), based on a certification by the British Standards Institute (BSI) using the TTP.NL Scheme for Certification Authoriti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alified CSP in Switzerland granted by BAKOM (Bundesamt für Kommunikation I.e.The Federal Office of Communication OFCOM) based on a certification from KPMG using ETSI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uropean Telecommunications Standards Institute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S 101 456 and other related standard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thorised CSP in Bermuda based on that country’s Electronic Transactions Ac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Trust for Certification Authorities, and WebTrust for Extended Validation (by Ernst &amp; Young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6C46-1E53-4293-97FC-46DB676666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47d"/>
                </a:solidFill>
                <a:latin typeface="Arial"/>
              </a:rPr>
              <a:t>QuoVadis as a CA</a:t>
            </a:r>
            <a:endParaRPr b="1" lang="en-US" sz="46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currently have three root CAs (one CP/CPS for CA 1 and 3 and a separate one for CA 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 will be linked to the root 1 CA (the one with 2048 bit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es the CP/CPS look lik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http://www.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quovadisglobal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.bm/~/media/Files/Repository/QV_RCA1_RCA3_CPCPS_V4_5.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ash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ant points to noti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ardware, security procedures and auditing comply with the EuGridPMA requirements, In particula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M for Issuing CA to provide at least FISP Level 3 and/or EAL 4 security standards in both the generation and maintenance in all Root and Issuing CA private ke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controls, procedural controls, personnel controls, audit logging procedures, records archival, key changeover, compromise and disaster re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52BE-33DE-491C-A40F-B0E342F7E9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The QuoVadis CA certificate hierarchy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95280"/>
            <a:ext cx="2743200" cy="99072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oVadis Root Certification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48 bits, 2001–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09960" y="2895480"/>
            <a:ext cx="2057400" cy="60984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a3abb1"/>
                </a:solidFill>
                <a:latin typeface="Arial"/>
              </a:rPr>
              <a:t>QV Schweiz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2048 bits, 2006–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4191120"/>
            <a:ext cx="1676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 standard user certificates (1/2/3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3" idx="2"/>
            <a:endCxn id="94" idx="0"/>
          </p:cNvCxnSpPr>
          <p:nvPr/>
        </p:nvCxnSpPr>
        <p:spPr>
          <a:xfrm>
            <a:off x="4038120" y="2295000"/>
            <a:ext cx="1080" cy="59112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4038120" y="3504960"/>
            <a:ext cx="1080" cy="68652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848200" y="1409760"/>
            <a:ext cx="2476800" cy="76212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marL="193680" indent="-1936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a3abb1"/>
                </a:solidFill>
                <a:latin typeface="Arial"/>
              </a:rPr>
              <a:t>QuoVadis Root C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4096 bits, 2006–20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895480"/>
            <a:ext cx="3047760" cy="60984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3abb1"/>
                </a:solidFill>
                <a:latin typeface="Arial"/>
              </a:rPr>
              <a:t>QuoVadis Global SSL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2048 bits, 2007–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8" idx="2"/>
            <a:endCxn id="99" idx="0"/>
          </p:cNvCxnSpPr>
          <p:nvPr/>
        </p:nvCxnSpPr>
        <p:spPr>
          <a:xfrm>
            <a:off x="7086240" y="2181240"/>
            <a:ext cx="1080" cy="70524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257800" y="4191120"/>
            <a:ext cx="175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 Business SSL server certificates (1/2/3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41911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EV SSL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server certificates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(1/2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9" idx="2"/>
            <a:endCxn id="101" idx="0"/>
          </p:cNvCxnSpPr>
          <p:nvPr/>
        </p:nvCxnSpPr>
        <p:spPr>
          <a:xfrm flipH="1">
            <a:off x="6133680" y="3514320"/>
            <a:ext cx="953280" cy="67716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9" idx="2"/>
            <a:endCxn id="102" idx="0"/>
          </p:cNvCxnSpPr>
          <p:nvPr/>
        </p:nvCxnSpPr>
        <p:spPr>
          <a:xfrm>
            <a:off x="7086600" y="3514320"/>
            <a:ext cx="991440" cy="67716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3" idx="3"/>
            <a:endCxn id="98" idx="1"/>
          </p:cNvCxnSpPr>
          <p:nvPr/>
        </p:nvCxnSpPr>
        <p:spPr>
          <a:xfrm>
            <a:off x="5419800" y="1790280"/>
            <a:ext cx="419760" cy="108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prstDash val="dash"/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228600" y="2895480"/>
            <a:ext cx="2286000" cy="609840"/>
          </a:xfrm>
          <a:prstGeom prst="rect">
            <a:avLst/>
          </a:prstGeom>
          <a:solidFill>
            <a:srgbClr val="00ff00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oVadis Grid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48 bits, 2008–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3" idx="1"/>
            <a:endCxn id="106" idx="0"/>
          </p:cNvCxnSpPr>
          <p:nvPr/>
        </p:nvCxnSpPr>
        <p:spPr>
          <a:xfrm flipV="1" rot="10800000">
            <a:off x="1370880" y="1789560"/>
            <a:ext cx="1286640" cy="1096200"/>
          </a:xfrm>
          <a:prstGeom prst="bent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533520" y="4191120"/>
            <a:ext cx="1676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QuoVadis Grid user and server certificates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1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6" idx="2"/>
            <a:endCxn id="108" idx="0"/>
          </p:cNvCxnSpPr>
          <p:nvPr/>
        </p:nvCxnSpPr>
        <p:spPr>
          <a:xfrm>
            <a:off x="1371240" y="3514320"/>
            <a:ext cx="1080" cy="6771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1BC3-54BE-499B-8BA6-61B757D00B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47d"/>
                </a:solidFill>
                <a:latin typeface="Arial"/>
              </a:rPr>
              <a:t>What will the grid certificates look like?</a:t>
            </a:r>
            <a:endParaRPr b="1" lang="en-US" sz="3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ice In particular that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common prefix for all Grid cert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C=com, DC=quovadisglobal, DC=gri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prefix for SWITCH user cert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C=com, DC=quovadisglobal, DC=grid, DC=switch, OU=us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prefix for SWITCH server cert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C=com, DC=quovadisglobal, DC=grid, DC=switch, OU=hos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3280" y="1682640"/>
            <a:ext cx="40698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Certificate exam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st certific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suing CA Certificate exam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10E2-7C39-4B09-853D-D3E89A8320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47d"/>
                </a:solidFill>
                <a:latin typeface="Arial"/>
              </a:rPr>
              <a:t>EE Certificate</a:t>
            </a:r>
            <a:endParaRPr b="1" lang="en-US" sz="4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ertificat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at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ersion: 3 (0x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rial Number: 31 (0x1f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gnature Algorithm: sha1WithRSAEncryp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ssuer: C=BM, O=QuoVadis Limited, CN=QuoVadis Grid Issuing 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alid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ot Before: Aug 26 08:41:25 2008 GM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ot After : Aug 26 08:41:25 2009 GM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ubject: DC=com, DC=quovadisglobal, DC=grid, DC=switch, DC=users, O=SWITCH, CN=Alessandro Usa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ubject Public Key Inf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ublic Key Algorithm: rsaEncryp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SA Public Key: (2048 bi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odulus (2048 bit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xponent: 65537 (0x1000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FA4D-95B3-435C-9774-99BE6493C7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exten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Certificate Polic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licy: 1.3.6.1.4.1.8024.0.1              -&gt; ROOT CA 1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licy: 1.2.840.113612.5.2.2.1.4      -&gt; IGTF Classic 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Key Usage: cri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gital Signature, Key Encipher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Extended Key Usag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LS Web Client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Subject Alternative Na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ail:alessandro.usai@switch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Subject Key Identifi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A:5E:63:A9:B3:10:3B:CF:45:60:59:ED:61:59:DE:8B:A4:9A:BE:C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Authority Key Identifi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id:42:E6:13:39:8B:3A:41:66:EA:40:C1:0B:81:CE:10:F7:DA:71:74:B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CRL Distribution Poi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RI:http://crl.quovadisglobal.com/qvgica.c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hority Information Acces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 Issuers - URI:http://trust.quovadisglobal.com/qvgica.c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ture Algorithm: sha1WithRSAEncry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BEGIN CERTIFICATE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END CERTIFICATE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A148-36AD-4056-8290-8E2BB2E88F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92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247d"/>
                </a:solidFill>
                <a:latin typeface="Arial"/>
              </a:rPr>
              <a:t>Host Certificate</a:t>
            </a:r>
            <a:endParaRPr b="1" lang="en-US" sz="5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: 3 (0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Number: 33 (0x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 Algorithm: sha1WithRSA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r: C=BM, O=QuoVadis Limited, CN=QuoVadis Grid Issuing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Before: Aug 27 08:33:18 2008 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fter : Aug 27 08:33:18 2009 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: DC=com, DC=quovadisglobal, DC=grid, DC=switch, DC=hos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=SWITCH, CN=server.switch.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Public Key Inf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 Algorithm: rsa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A Public Key: (2048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us (2048 bi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onent: 65537 (0x1000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7700-CE3D-4D8C-B7B5-7DE764A742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ssandro Usai</cp:lastModifiedBy>
  <dcterms:modified xsi:type="dcterms:W3CDTF">2008-10-05T12:28:46Z</dcterms:modified>
  <cp:revision>32</cp:revision>
  <dc:subject/>
  <dc:title>QuoVadis accreditation with EuGridPMA</dc:title>
</cp:coreProperties>
</file>