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00A59-C5A7-4F5E-9952-5F910F6CE3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5557-314E-448C-99BE-E30A2AEEC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3FB5-474C-40E7-A46B-46DC00E3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E3BE-926C-4F3C-A097-8737416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FCBB-D80B-4E0F-B55F-17F570E02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DC6F-C9BA-4A3A-9945-C25966F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CEA6-D9B9-4D88-A579-CC3B2C8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4EDB-3E23-4C87-94A0-C359FF5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D980-6724-4BA2-8124-173B6EBB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D202-7F60-45FC-AB1C-C47E60DD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6DB0-40B4-43C3-A45C-7ED1915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186B-D89D-41F7-BA26-C133E694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AE07-E8C4-4BA7-A9D1-0550DE03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15920"/>
            <a:ext cx="8856720" cy="792000"/>
            <a:chOff x="108000" y="115920"/>
            <a:chExt cx="8856720" cy="792000"/>
          </a:xfrm>
        </p:grpSpPr>
        <p:sp>
          <p:nvSpPr>
            <p:cNvPr id="1" name=""/>
            <p:cNvSpPr/>
            <p:nvPr/>
          </p:nvSpPr>
          <p:spPr>
            <a:xfrm>
              <a:off x="108000" y="115920"/>
              <a:ext cx="8856720" cy="792000"/>
            </a:xfrm>
            <a:prstGeom prst="rect">
              <a:avLst/>
            </a:prstGeom>
            <a:solidFill>
              <a:srgbClr val="52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216072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solidFill>
            <a:srgbClr val="5262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solidFill>
            <a:srgbClr val="dce4e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642240" indent="-24444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94320" indent="-19872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35468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71936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18669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33cc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rebuchet MS"/>
              </a:rPr>
              <a:t>6-8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61440" y="6460920"/>
            <a:ext cx="498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3333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4225-D37C-403A-876A-F592CA9CC975}" type="slidenum">
              <a:rPr b="0" lang="en-US" sz="1400" spc="-1" strike="noStrike">
                <a:solidFill>
                  <a:srgbClr val="3333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03640" y="5835600"/>
            <a:ext cx="504036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62485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Your university or experiment logo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8360" indent="-28116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55736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97640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84360" cy="100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916280"/>
            <a:ext cx="9144000" cy="4321080"/>
          </a:xfrm>
          <a:prstGeom prst="rect">
            <a:avLst/>
          </a:prstGeom>
          <a:solidFill>
            <a:srgbClr val="c0dec7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6240" y="214200"/>
            <a:ext cx="374652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5640" y="90360"/>
            <a:ext cx="612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GTF CP/CPS Template Working Party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gradFill rotWithShape="0">
            <a:gsLst>
              <a:gs pos="0">
                <a:srgbClr val="171746">
                  <a:alpha val="79215"/>
                </a:srgbClr>
              </a:gs>
              <a:gs pos="50000">
                <a:srgbClr val="333399"/>
              </a:gs>
              <a:gs pos="100000">
                <a:srgbClr val="171746">
                  <a:alpha val="79215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pdate I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ens Jense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U GridPMA Lisbon 6-8 Oct 200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ision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track changes (N Wals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Sun tool to automatically updat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bars.xs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e Meta-attrs (non-DocBook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/choi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plemented via attrs - or separate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f separate, inspired by ASN.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3900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ep n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cument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F and other publishe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 PKI particip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6200" y="1714680"/>
            <a:ext cx="39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: use DocBook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note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tip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important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caution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warning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e semantics not specified by Doc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ote/&gt; - general annotation (3647 text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tip/&gt; - suggestion to 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important/&gt; - note for 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aution/&gt; - suggestion to CA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warning/&gt; - strong suggestion to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similar in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ustomise l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in WordML (Microsoft Word) lim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56000" y="152280"/>
            <a:ext cx="273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928880"/>
            <a:ext cx="1857240" cy="11430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790720" y="2219400"/>
            <a:ext cx="857160" cy="1428480"/>
          </a:xfrm>
          <a:prstGeom prst="pi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200016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928880"/>
            <a:ext cx="185724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040" y="4143240"/>
            <a:ext cx="171468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5788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2896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4308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715000"/>
            <a:ext cx="171432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”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040" y="5715000"/>
            <a:ext cx="17146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172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920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3469320" y="397440"/>
            <a:ext cx="500040" cy="6715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05480 h 6715440"/>
              <a:gd name="textAreaBottom" fmla="*/ 6609960 h 671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4"/>
                  <a:pt x="10800" y="1087"/>
                </a:cubicBezTo>
                <a:lnTo>
                  <a:pt x="10800" y="9713"/>
                </a:lnTo>
                <a:cubicBezTo>
                  <a:pt x="10800" y="10257"/>
                  <a:pt x="5400" y="10800"/>
                  <a:pt x="0" y="10800"/>
                </a:cubicBezTo>
                <a:cubicBezTo>
                  <a:pt x="5400" y="10800"/>
                  <a:pt x="10800" y="11344"/>
                  <a:pt x="10800" y="11887"/>
                </a:cubicBezTo>
                <a:lnTo>
                  <a:pt x="10800" y="20513"/>
                </a:lnTo>
                <a:cubicBezTo>
                  <a:pt x="10800" y="2105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30880" y="2214720"/>
            <a:ext cx="2768400" cy="1191240"/>
          </a:xfrm>
          <a:prstGeom prst="rect">
            <a:avLst/>
          </a:prstGeom>
          <a:noFill/>
          <a:ln w="3492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ext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to avoid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ly experimental stu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 (selectivel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ntic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o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substitute for real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al review and presentation at PMA will catch most non-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o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sibly, experience will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-in-on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de/document transl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150012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 careful about IPR and Copy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sign copyright to the OGF/IGT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“ownership”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ean(ish) room implem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write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existing tex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nown to be written by contrib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original source of contribution if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FC 3647 converted to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ropped the explanations but they could be added ba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conversions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annot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n change how it’s done as long as it’s done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file from IGTF cert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56000" y="92160"/>
            <a:ext cx="273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unteer contributors to contribute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O’Callaghan (TC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Groep (NIKH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Helm (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 Jensen (R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Rebello (UF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Sova (C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 Teder (EE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Velichkevych (NTU-KPI Kie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ään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n (NB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760" y="2928960"/>
            <a:ext cx="257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CAs to impleme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exi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pects of documen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(Currently) use “role” attribute to track “role” of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Documented in </a:t>
            </a:r>
            <a:r>
              <a:rPr b="0" i="1" lang="en-US" sz="1800" spc="-1" strike="noStrike">
                <a:solidFill>
                  <a:srgbClr val="009999"/>
                </a:solidFill>
                <a:latin typeface="Trebuchet MS"/>
              </a:rPr>
              <a:t>relevant</a:t>
            </a: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 section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cp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e = end entity issuing CA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cl = classic profile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Subdivide into feature sect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.g. suspension, certificate modification, renewal, rekey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ot using notes/warnings/cau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could conver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se “id” attribute to track original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ensure unique in documen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eed to build/stretch existing hierarchical role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.g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.2.2.a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0E85-E308-46C8-A3D4-D74790844E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5DBFB-7544-4ACA-9B7D-BA51ADAF9D53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verview (this page)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‏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view of presentation from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Apologies to people who already saw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a general audienc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ing NGS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stuff since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es GridPP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CA managers and suchlik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Confused? – stupid limitations of OpenOffice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document itsel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xt step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E6E2-A72F-4071-96DD-6D1C33F62E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FBF84-4776-417E-81E9-8D589C877623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ustomising blessed tex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uilt-in entiti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inor customisations of bless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Without un-blessing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For things like CA nam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or disable feature sets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ditional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xperimenta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B483-9404-4A6F-BA03-C92CCC3B82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C81E5-6F14-4054-A8E9-EB0B9B2EA5F0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riting and reviewin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ed added text and blessed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ault (empty) paras to “No stipulation.”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 chang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deleted text by maintaining revis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ase of edi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vert between DocBook and Word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Need Word “template” for header/footer?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Limited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Highly experimental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dapt existing XSLT for XHTML or WordML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226E-8FF2-437F-A3CE-1F9BAB723C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3DE47-8FF9-4C31-BFBE-7E4039A8909D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blishing documen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raft → Fi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explanations, drop minreq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approved text and add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markup (or don't add it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.g. run XSLT filters to drop minreq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Output as valid docbook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hen docbook can be converted to HT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EBB1-AF8D-470A-B4D6-79A86179F5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7F692-1A8A-429B-BEB5-9BAF7402F250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peed up accreditation of new CAs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oo much ba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ot enough goo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Known good stuff – can automate more stuf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GTF-blessed, documenting best practi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existing CAs to chang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You'd do this only if there are benefit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Or the PMA orders you to use it!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Use this to improve existing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512C-033C-431B-BD2B-6C24B38286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FBF58-E6BE-4847-8F1B-7CBAB1050ADC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2143080"/>
            <a:ext cx="21430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81560" y="2193840"/>
            <a:ext cx="24685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00880" y="2143080"/>
            <a:ext cx="21430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7680" y="25002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0840" y="257184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4960" y="357192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28880" y="357192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6240" y="5072040"/>
            <a:ext cx="2143440" cy="1214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7429320" y="3438360"/>
            <a:ext cx="571320" cy="92880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1960" y="37148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4143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 rot="16200000">
            <a:off x="7000920" y="4784760"/>
            <a:ext cx="1428480" cy="71424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8680" y="50720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implified ver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PMA have a more detail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/edited by J Marsteller (PS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85768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1720" y="285768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14800" y="30002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86080" y="3429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760" y="2143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rt can take many iterations (10 is not unheard 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7840" y="41432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take yea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2960" y="514368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3240" y="4929120"/>
            <a:ext cx="40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 comments not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 needs several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it for their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040" y="1785960"/>
            <a:ext cx="8229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elop template and “safe”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oning is done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ten bad stuff is cloned, 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ress IGTF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asier to write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 old hands, easier to convert to 3647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wer errors, contra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icker 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vanced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able review checklist (reviewer must check) and comments (manager must addres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intenance of IGTF-compliant CP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 with new IGTF regul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Not automatically of course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3571920"/>
            <a:ext cx="2357640" cy="12859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5286240"/>
            <a:ext cx="2357280" cy="12859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0800" y="3571920"/>
            <a:ext cx="235728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57760"/>
            <a:ext cx="1928880" cy="13572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203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9800" y="5429160"/>
            <a:ext cx="2412000" cy="916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 every 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late written in DocBook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utput to many forma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mewhat limited markup?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eds XML editor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used Emacs with n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llows RFC 36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s Jensen</dc:creator>
  <dc:description/>
  <dc:language>en-US</dc:language>
  <cp:lastModifiedBy/>
  <cp:revision>0</cp:revision>
  <dc:subject/>
  <dc:title>Slide 1</dc:title>
</cp:coreProperties>
</file>