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ED72-FF0F-44EE-AC47-FF0E54A9D9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15BD-7F9F-49B4-8668-33490205BF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B879-E3B5-4D2F-BEBD-0E241025D1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CC79-CA74-4FC6-87FF-DE35F645A9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FD18-97F8-4AFE-ABED-4979A18B43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CEAA-9F2E-4A1E-9AF4-64F1FD9387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E3FE-26E1-4BB8-84D8-BD4D2D87C4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9E7B-FB55-4214-A94C-7D6ED1782A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9EF7-9333-4549-A7E0-8717B5212F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B4FC-7844-4850-AB84-8804398ADB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858A-2B60-48D8-9F2A-CA429E7A31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D60F-A7AE-4CFA-B663-994C867C5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742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3657600"/>
            <a:ext cx="7620120" cy="5335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lIns="50760" rIns="142200" tIns="50760" bIns="50760" anchor="t">
            <a:normAutofit fontScale="12000"/>
          </a:bodyPr>
          <a:p>
            <a:pPr marL="4680" indent="-4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280" indent="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360" indent="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080" indent="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90720" y="6477120"/>
            <a:ext cx="13716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51296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3D72-39EF-4008-B188-490E0B054CF4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Group 2"/>
          <p:cNvGrpSpPr/>
          <p:nvPr/>
        </p:nvGrpSpPr>
        <p:grpSpPr>
          <a:xfrm>
            <a:off x="0" y="1066680"/>
            <a:ext cx="9144000" cy="76320"/>
            <a:chOff x="0" y="1066680"/>
            <a:chExt cx="9144000" cy="76320"/>
          </a:xfrm>
        </p:grpSpPr>
        <p:sp>
          <p:nvSpPr>
            <p:cNvPr id="41" name="Rectangle 3"/>
            <p:cNvSpPr/>
            <p:nvPr/>
          </p:nvSpPr>
          <p:spPr>
            <a:xfrm>
              <a:off x="0" y="1066680"/>
              <a:ext cx="9144000" cy="76320"/>
            </a:xfrm>
            <a:prstGeom prst="rect">
              <a:avLst/>
            </a:prstGeom>
            <a:solidFill>
              <a:srgbClr val="5da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"/>
            <p:cNvSpPr/>
            <p:nvPr/>
          </p:nvSpPr>
          <p:spPr>
            <a:xfrm>
              <a:off x="0" y="1066680"/>
              <a:ext cx="914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440" indent="11160">
              <a:spcBef>
                <a:spcPts val="700"/>
              </a:spcBef>
              <a:buClr>
                <a:srgbClr val="176d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6477120"/>
            <a:ext cx="13716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forge.gridforum.org/sf/go/doc4856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565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520" y="3657600"/>
            <a:ext cx="7620120" cy="5335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ristos Kanellopou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528920" y="4505400"/>
            <a:ext cx="3936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GridPMA, Lisbon,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tober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B14F-140E-4745-9A9B-5EB18525792F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433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ge.gridforum.org/sf/go/doc48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3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344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the docu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s for defining an Authentication Service Profile that can be used by IdPs to provide compliant Authentica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344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an Authentication Service Pro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uthentication Service Profile provides a way for Grid Relying Parties (RP) to be able to identify and compare Authentication Services provided by Identity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dP can provide Authentication Services based upon one or more Authentication Service Profi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FC33-58BD-4230-AA63-F7A735F76C5F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8CD7-B869-4430-827C-7B713F7A7487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fo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who is responsible for the service and change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y the community that will be served by the Authentication Ser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y the scope of th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ystem architecture used to build the authentication service used by the Identity provider. How does the customer and management interface to the 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uthentication Service must describe how identity is managed and communicated in the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Authentication service must define Identity vetting rules, what each user does to prove the identity of the user, host or service identified as part of an organiz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ty revocation: how a person or system is removed from the serv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re a special Acceptable Use Policy that appl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2C10-E94F-401F-82D4-07DCB3782874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4FA5-19CA-4E57-8F8C-63D578BCE5FD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fo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OS for the authentication service: is 24/7 support or no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ouble ticket report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request and general customer sup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d contact information, problem reporting/resolution procedu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y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ach authentication service used by the identity service provider describe the: Software, network, server and physical security at the site of the authentication serv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describe: procedural controls, personnel security controls. Life cycle for security controls - How do you update/change security controls and keep the community inform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ation and Security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nformation must published and maintain by the Authentication ser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long information must be maintain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rights to read or use the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9FF4-597F-41CE-8EDF-741E7AB5503B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B927-4F81-48D3-AD92-01441B034BA9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fo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liability or warranties are supported by the service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ncial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pay for the servi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 financial responsibilities to your memb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audit each authentication service for compliance to your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conduct self audits or member audits or open to external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cy,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are your privacy rules, IP policies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omise and Disaster rec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handle exposed shared secrets or other compromised secre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facilities are in place to rebuild the service in the case of a disas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long would the service be out of commission if the service is compromised or damaged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3ADD-6F80-49B4-BA62-77A04E2EF58B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6:09:53Z</dcterms:created>
  <dc:creator>David Groep</dc:creator>
  <dc:description/>
  <cp:keywords/>
  <dc:language>en-US</dc:language>
  <cp:lastModifiedBy>Christos Kanellopoulos</cp:lastModifiedBy>
  <dcterms:modified xsi:type="dcterms:W3CDTF">2008-10-07T12:16:17Z</dcterms:modified>
  <cp:revision>186</cp:revision>
  <dc:subject/>
  <dc:title>Security Area Review December 2006</dc:title>
</cp:coreProperties>
</file>