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6202513-B35F-48E5-9D42-986B01A5B1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550A567-040B-4961-9726-DB15C70E7E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8AA186A-BDA4-4ACC-B0BF-6F2DC14027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35CCB97-D16B-4DEE-B4C6-42AA34F2F47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66F90B4-DB74-4C88-A052-830F1944CFD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6A899353-AE54-4EF9-B399-1428FDB42E2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FDC699C-7C38-4ED5-94C8-60952C403B1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3B5190D-FFB7-4834-89EE-8404E1C015D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F9D8BDB-1392-4328-A6C1-B18D3C0CA4E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533EB7F-1C66-4A24-9731-A9DFB85954C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8997417-E2D8-4178-B687-C64DB2D590C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284A422-1F97-4702-974C-C0BA2473917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7A6D59FF-D0EE-45EC-BFFF-1BD4E7CB0CE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GFD.125 AND POLICY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OMPLIANCE TESTING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 uniqueness 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RDN component ordering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ersion: must be v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? CA:FALSE? (openssl x509 –tex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only certSign, cRLSig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 (if present) has http URL in URI attribut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alidity period: between 3 and 20 years, warn if &lt;1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gnatureAlgorithm: must be SHA-1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 OIDs (should not be presen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check for weird attribu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rial number: warn if 0, error if &lt;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update: Did serial number chang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client cer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namespace unique? Does it match the meta-data?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RDN ordering correct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, CA:FAL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no serverAuth in personal cer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does it match any netscape attribute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KI: contains only keyID, error if name or serial detec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sCertType: matches eKU if pres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: must be included and must return DER C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 no nonRepudiation &amp;c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C naming, matching registered WHOIS contac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meta-dat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is htt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yields a CRL issued by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can sustain 4Hz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validity is &gt; 7 days (warn if &gt;3days, manual if &gt;31 days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mail: address does not bou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is reasonable representation of CA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matches [A-Za-z][-A-Za-z0-9]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_url if present: gets CA cert, warn if miss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rl: leads to non-empty html or text pa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tus: matches accredit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ext?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o is willing to write the utility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 can do it, but then it will take a while, I think 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33Z</dcterms:modified>
  <cp:revision>469</cp:revision>
  <dc:subject/>
  <dc:title>European Grid Policy Management Authority</dc:title>
</cp:coreProperties>
</file>