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39F5D13-38B0-4433-81E4-491435613F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033B206-E7BC-4138-8288-20E01D8E32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3BA60BF7-E867-489E-8D1B-93967B47332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E1647D22-03FE-467B-935F-4C3308B53F0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7F9B7ED4-655C-4893-9C98-81666F39141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5F9E4EDE-736D-4924-A50B-7BDFE600C4D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46E7209A-EF54-4540-89AB-201BA15D1D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25503169-563A-4E6A-A494-6A34566298F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BB5DCD55-C301-4E8A-901F-F92EC434AB4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BF6E5DE2-0B5B-4E19-B371-B22987F5BF2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5F636023-850D-412D-A97B-BD62E8E2519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CC3AADB1-F961-40E7-ABCE-B2ED4454C0D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15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Nicosia meeting – Jan2009 - </a:t>
              </a:r>
              <a:fld id="{FE8BD1E4-3016-444B-9DC2-DA48C9A0E39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5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6-28, 2009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Nicosia, Cypru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4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lcome to Cypru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6" name="Picture 5" descr="C:\Users\davidg\AppData\Local\Temp\cslogo.gif"/>
          <p:cNvPicPr/>
          <p:nvPr/>
        </p:nvPicPr>
        <p:blipFill>
          <a:blip r:embed="rId1"/>
          <a:stretch/>
        </p:blipFill>
        <p:spPr>
          <a:xfrm>
            <a:off x="601560" y="1357200"/>
            <a:ext cx="4829400" cy="11210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469800" y="2881440"/>
            <a:ext cx="4884840" cy="43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0" y="1076040"/>
            <a:ext cx="914400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Monday 26 09:30 – 17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Welcome, agenda, minutes last meeting, note taker, introd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3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ound-table upd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from the APGridPMA (Yoshio Tanak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from the TAGPMA (Vinod Rebell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GTF Risk Assessment Team report: MD5, (EC)DSA (EE) keys, cable severance (TB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fficiently querying CAs for signing processes, issued certs, &amp;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o CAs verify the incoming requests for san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exponent &gt;=65537, known-weak keys, MD5,EC/DS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igration of Root certs and CRLs to SHA-1, and the implementation of SHA-256+ in M/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RL issues: web caching and alternate download locations (David Groep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DFN SLCS Service (Reimer Karlsen-Masu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3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4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NetherNordic integrated SLCS-MICS Service (Jan Meijer, Teun Nijss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new SWITCH PKI (Alessando Usai): review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1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tephen Davidson (QuoVadis): Policy and Practices in the SWITCH PKI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1155240"/>
            <a:ext cx="9144000" cy="51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Tuesday 27 09:30 – 17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 audit report-outs: PK-grid 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09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audit report-outs: GridK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1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s on almost- and recently accredited CAs: RENAM, CALC, BY-Gri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0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1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d to the Profiles following the SLCS/MICS influ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(First approve pending MICS prof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uthorization Working Group  report-out (David Kelse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3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4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elf-audit report: NIIF (Tam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Jens’ soap boxes Ltd. (Jens Jense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5.4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ealing with certificates with different status (AA signing, life-critical MD EEC, etc)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6.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AOPS Working Group (Christos Kanellopoulos, Yoshio Tanak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Relying Part Defined Namespace constraints – WG last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pdate and change status of GFD.12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2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resentation of the Next Meeting (Zurich, May 20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7.30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1163880"/>
            <a:ext cx="91440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f81bd"/>
                </a:solidFill>
                <a:latin typeface="Cambria"/>
                <a:ea typeface="Times New Roman"/>
              </a:rPr>
              <a:t>Wednesday 28 09:30 – 15: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00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haring Common Software? Towards a repository of references to ‘useful stuff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9.4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FD.125 compliance testing tools and demonstrations (David O’Callagh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1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1.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lf audit report-outs: BalticGrid CA (Hard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2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GP and Thawte-WoT signing party (please bring pre-filled forms and ID photocopi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2.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4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igning policy semantics: Does The Issuer Need To Be In The Allowed Subject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4.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ending issues and other busi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n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? Please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nutes from last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Christos and David OC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roun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Videoconferencing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For direct connections (not using the GDS), enter the conference number using the key pad using the far-end controls, and confirm with the "#" key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The conference will not show up in the main menu, AFAIK. </a:t>
            </a:r>
            <a:br>
              <a:rPr sz="1600"/>
            </a:br>
            <a:r>
              <a:rPr b="0" i="1" lang="en-US" sz="1600" spc="-1" strike="noStrike">
                <a:solidFill>
                  <a:srgbClr val="000066"/>
                </a:solidFill>
                <a:latin typeface="Lucida Sans"/>
              </a:rPr>
              <a:t>Different numbers each day, but NO need to register equipment beforehand.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l day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CU name mcu.surfnet.nl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CU IP 192.87.102.231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Mond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1 Start Mon, 26.01.2009 07:00 (UTC) Duration 10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3667316 Conf no 3667316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Tuesday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2 Start Tue, 27.01.2009 07:00 (UTC) Duration 10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8215000 Conf no 8215000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Wednesd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EUGridPMA 15/3 Start Wed, 28.01.2009 07:00 (UTC) Duration 09h00m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H.323 (IP) conference dialin: 0031 801 2205160 Conf no 2205160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9-01-25T21:48:05Z</dcterms:modified>
  <cp:revision>477</cp:revision>
  <dc:subject/>
  <dc:title>European Grid Policy Management Authority</dc:title>
</cp:coreProperties>
</file>