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018D-AF1C-468A-8A1A-3398136636B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A28C-52D6-454E-83D5-4488EC94D2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D6DF-CDF3-4740-B54B-463807B477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78568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Nicos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6,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413532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GridPMA Chair, AIST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8080" y="44280"/>
            <a:ext cx="80359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updates since Lisbon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907920"/>
            <a:ext cx="8497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GCA was approved as an IGTF Classic AP compliant CA. (Nov. 05, 2008)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luded in IGTF CA Distribution 1.26 (Dec. 1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GO/Netrust CA was temporary dropped off from the IGTF CA distribution. (1.26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y need more time to re-configure the CA system to extend the lifetime of CRL to three day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rted the review of HKU Grid CA (Jan. 2009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NIC and IGCA are primary reviewer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Had a VTC (Jan. 17)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members attend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pdates from member Ca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iscussions on how to implement sustainable review &amp; external audi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SzPct val="13006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Venue of the next F2F meet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SGC issued a new root CA certificate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SzPct val="13089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nged signature algorithm from MD5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SHA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5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713880"/>
            <a:ext cx="51069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3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CA (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HC (T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/Netrust (S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H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ipei, Taiwan, in conjunction with ISGC 2009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ct date is not yet fixed, but probably in the week of April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9-01-25T18:42:29Z</dcterms:modified>
  <cp:revision>75</cp:revision>
  <dc:subject/>
  <dc:title>International Grid Trust Federation Session  GGF 18 Washington, DC, USA</dc:title>
</cp:coreProperties>
</file>