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237-F525-4ADA-BC12-EBA065E1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A65-6714-4B89-88EE-8FC567DA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E8E-281D-4FF9-B2DC-55858079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819-5B7E-498F-A4AE-7606F14E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E84-D41D-4F56-9BBB-4D25A2C1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32E-0C4A-45D7-A81D-491EA0F6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819-7BA7-438C-ADF2-940680C0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780-607E-4A1A-A397-023AB2F2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79D-6921-4404-BC10-AE423946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9FF-577A-4AE2-A710-B1986963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BFC-E043-4BD9-90E2-446446B8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07C-F0B7-4D81-8BC0-7F74C52C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E76B3-C52E-42F7-A649-B64FE99C90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84647-48D5-4CC2-A9C0-0A2BA30A7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isk Assessment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tagpma.es.net/wiki/bin/view/IGTF-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ble Seve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nce of three (out of four) undersea cables in the Mediterranean basin on December 19th, 200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ed retrieval of CR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81220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D5 hash collisions in X.509 certific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isk for new certificates issued using MD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GTF should not have any of these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90102.t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 concern about MD5 weakness in gener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 certificates (and subordinat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NRS subordinate using MD5 will change to SHA1 short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xy certificates (Globus, VOMS, MyProx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lobus discussed proxy certificate iss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EC)DSA EE Ke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SSL client vuln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ikely that IGTF CAs have certified (EC)DSA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90108.t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 will request CAs to a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rying 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repositories of issued certific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issues? Certificates are publi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. Public phone number versus publish in phone 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rict access to RAT memb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d: Will not require this for 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: Gather information to assess the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always tell CAs to modify practice in the future based on new risk/th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nity Checking Requ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SA Exponent &lt; 655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are tokens (pkcs11-tool) tend to generate exponents 3 &amp; 5 by defa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n-weak (Debian OpenSSL)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C)D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ent issue? OpenSSL will be patc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ying parties should patch in any cas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assessment is diffic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members welcom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ct: igtf-rat@eugridpm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07:40:50Z</dcterms:created>
  <dc:creator>Jim Basney</dc:creator>
  <dc:description/>
  <dc:language>en-US</dc:language>
  <cp:lastModifiedBy>Jim Basney</cp:lastModifiedBy>
  <dcterms:modified xsi:type="dcterms:W3CDTF">2009-01-26T08:57:30Z</dcterms:modified>
  <cp:revision>4</cp:revision>
  <dc:subject/>
  <dc:title>IGTF RAT</dc:title>
</cp:coreProperties>
</file>