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F0E5-48B9-496B-A04B-5FE42E427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01EE-8D2C-4926-9BA8-315B2ADE7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3889-CF97-47A2-BF0B-BCB21BC0B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9F2E-2F0B-4FE1-8C02-3DA96CD11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BAFF-D86E-436A-8D63-F7B15A7AA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5EDF-2262-4E0B-B794-958E1EFD1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AD0A-9453-4F7D-84EA-DFFDE13A4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65B0-587F-4265-B074-5E4336B68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205D-3E78-427A-88AF-59E40DBB2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6DB4-3DFD-4615-9C79-55B419443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F045-E9FD-4229-BD48-BA20DBF92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3946-A8F6-4D92-AD53-2388B78A6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BBF1-2F19-4FF1-8300-469C6FB796B8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Stephen’s talk for an overvi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utshell (see also my Lisbon’s tal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EC61-97FF-4D28-B5EC-516208ADF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9" idx="2"/>
            <a:endCxn id="90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2"/>
            <a:endCxn id="97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8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3"/>
            <a:endCxn id="94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9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1"/>
            <a:endCxn id="102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2" idx="2"/>
            <a:endCxn id="104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D814-B1CE-444B-92B3-2F38DFA73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(Big Thanks to Reimer and Jens!) 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 comment, most of the points were already met, they just needed some rewording in the CP/CPS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tokens:rewording done in the CP/CPS document; notice however that we will not support this use case for the time be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HSM documentation: already audited by various International bodies; ready to disclose info on demand (see Stephen's talk)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CA architecture: same general comment; a separate document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D: the oid as in the grid section will change accordingly, but not the one on the main part of the CP/CPS, which is not grid specific: is it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 certificate of 12 months: is this o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E5F0-0AF7-4D89-BDAD-718FB0D53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s’ major points 2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GridPMA must be notified and must approve a change: this will be the case whenever a change in the grid par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between QV and IGTF necessary? The requirements for contracts is currently being considered by QuoVadi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newed or re-keyed for more than 5 years without a form of auditable identity and eligibility verification:renewals are not supported and renewal requests are treated like a new certificate issu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can request revocation if they can sufficiently prove compromise or exposure of the associated private key: CP/CPS document change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ting authority must grant to the PMA and the Federation, by virtue of its accreditation, the right of unlimited re-distribution of its information: this is already the case; more input perhaps needed on the real m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68A8-971F-4CCE-BBA5-91C0A4CB4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Reviewer’s major points 3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 shall provide their trust anchor to a trust anchor repository, specified by the accrediting PMA, via the method specified in the policy of the trust anchor repository: QuoVadis will be added to TACAR (already discussed with Ter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ttp or https URL of the PEM-formatted CA certificate: the QuoVadis website will show http of PEM certificate instead of being embe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on/log-out events are not recorded: Logon/logouts (both success and failure) are logged at a server level; CP/CPS updated according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using software tokens, the private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rotected with a strong pass phrase, i.e., at least 12 characters long and following current best practice in choosing high-quality passwords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s pertaining to host and service certific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tored without a pass phrase, b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dequately protected by system methods if stored without passphrase: QuoVadis CP/CPs updated to meet EUGridPMA Authentication Profil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CP/CPS explicitly allows proxies for the Grid 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2807-CDF3-42E6-ADD9-78F9C04D0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QuoVadis Accreditation Timeline</a:t>
            </a:r>
            <a:br>
              <a:rPr sz="4300"/>
            </a:b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                 Upd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oVadis CP/CPS draft version available and submitted to the reviewers (they will also receive an updated version of the spreadsheet with our feedback/comm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ccepted, the CP/CPS will be submitted for review and acceptance to the QuoVadis PMA (Februar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n acceptance, the CA will be created and tested (March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ion of QuoVadis into the IGTF distribution (by April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B50E-D774-4056-8BDF-1590A8E597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9-01-26T08:26:18Z</dcterms:modified>
  <cp:revision>58</cp:revision>
  <dc:subject/>
  <dc:title>QuoVadis accreditation with EuGridPMA</dc:title>
</cp:coreProperties>
</file>