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576-55AE-438B-BF4D-E6866EF7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447-3035-47E9-9667-E42F192A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E71-6F66-402B-90D7-3E8FEB8B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3760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8448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9036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3760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8448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71A-FE58-402A-99FF-F1EC1EE2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8BE4-E636-4B13-BCA1-F98FDEE7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89CC-F1BA-4A48-A0D2-D7DBB3D5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0565-688A-4A4B-BFB4-466E6B0F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9839-56D6-426F-92C9-6474D4D6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6F4E-8F02-4BF3-8804-64295F76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90360" y="27756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606D-D528-471E-AFB4-E7C82649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9221-EA70-4831-8782-EAA6B43E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EDF-E7C4-4E62-BF28-3759FA64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E56E-A5D0-47BD-9ED6-8510DDF4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6A36-B774-4E16-8E87-1E437BCC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B1EB-3B39-4161-B3A4-2076CC32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FE44-C110-4434-B44D-3C801E67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3760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84480" y="159984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9036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3760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84480" y="3966480"/>
            <a:ext cx="2711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95E6-16A2-4896-9A0D-94011635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A60-8173-4227-B896-B3B6BAB1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AAC8-956C-4954-9E02-95D788BF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F6E-5940-4A6E-9531-B5527A36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360" y="27756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BCF-B0C3-4648-B8A5-AF5BA055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213-7B98-43EF-82BC-83773F2E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04960" y="396648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48D-698F-4FBC-BB0C-1A56F79C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4960" y="1599840"/>
            <a:ext cx="4108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3966480"/>
            <a:ext cx="8420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60F3-6951-44D8-9D16-D79F5F9C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410040" cy="4876920"/>
            <a:chOff x="0" y="0"/>
            <a:chExt cx="941004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024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12560" y="1417680"/>
              <a:ext cx="8997480" cy="182520"/>
              <a:chOff x="412560" y="1417680"/>
              <a:chExt cx="899748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7428960" y="1417680"/>
                <a:ext cx="198108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12560" y="1494000"/>
                <a:ext cx="8997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90720" y="6251400"/>
            <a:ext cx="214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0C12-182D-46CD-A438-42BE6A87E1A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631680" y="6248520"/>
            <a:ext cx="321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3465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55DB-AA4C-4F3D-930A-34F75E9A83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6024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>
            <a:lum contrast="-8000"/>
          </a:blip>
          <a:stretch/>
        </p:blipFill>
        <p:spPr>
          <a:xfrm>
            <a:off x="8623440" y="4680"/>
            <a:ext cx="1263600" cy="12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492480" cy="5943600"/>
            <a:chOff x="0" y="0"/>
            <a:chExt cx="9492480" cy="59436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18982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0" y="3505320"/>
              <a:ext cx="9492480" cy="2438280"/>
              <a:chOff x="0" y="3505320"/>
              <a:chExt cx="9492480" cy="2438280"/>
            </a:xfrm>
          </p:grpSpPr>
          <p:sp>
            <p:nvSpPr>
              <p:cNvPr id="51" name=""/>
              <p:cNvSpPr/>
              <p:nvPr/>
            </p:nvSpPr>
            <p:spPr>
              <a:xfrm>
                <a:off x="1073160" y="3505320"/>
                <a:ext cx="841932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24640" y="3733920"/>
                <a:ext cx="828540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4876920"/>
                <a:ext cx="107316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87600" y="533520"/>
              <a:ext cx="8749800" cy="304560"/>
              <a:chOff x="687600" y="533520"/>
              <a:chExt cx="8749800" cy="304560"/>
            </a:xfrm>
          </p:grpSpPr>
          <p:sp>
            <p:nvSpPr>
              <p:cNvPr id="55" name=""/>
              <p:cNvSpPr/>
              <p:nvPr/>
            </p:nvSpPr>
            <p:spPr>
              <a:xfrm>
                <a:off x="6795720" y="533520"/>
                <a:ext cx="264168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87600" y="685800"/>
                <a:ext cx="87498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28760" y="1143000"/>
            <a:ext cx="7182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88560" y="62514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1C91-D2FB-4C88-97EA-89652A1F599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33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3465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4D98-DFCE-42BF-B0E1-A54AC5C712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320" y="71280"/>
            <a:ext cx="1752480" cy="164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09480" y="2514600"/>
            <a:ext cx="70164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ugridpma.org/agenda/fullAgenda.php?ida=a042" TargetMode="External"/><Relationship Id="rId2" Type="http://schemas.openxmlformats.org/officeDocument/2006/relationships/hyperlink" Target="http://eugridpma.org/agenda/fullAgenda.php?ida=a042" TargetMode="External"/><Relationship Id="rId3" Type="http://schemas.openxmlformats.org/officeDocument/2006/relationships/hyperlink" Target="http://eugridpma.org/agenda/fullAgenda.php?ida=a042" TargetMode="External"/><Relationship Id="rId4" Type="http://schemas.openxmlformats.org/officeDocument/2006/relationships/hyperlink" Target="http://www.ncp.edu.pk/pk-grid-ca/CA-pub.htm#cp_cps" TargetMode="External"/><Relationship Id="rId5" Type="http://schemas.openxmlformats.org/officeDocument/2006/relationships/hyperlink" Target="http://www.ncp.edu.pk/pk-grid-ca/userinstructions.htm" TargetMode="External"/><Relationship Id="rId6" Type="http://schemas.openxmlformats.org/officeDocument/2006/relationships/hyperlink" Target="http://www.ncp.edu.pk/pk-grid-ca/hostinstructions.htm" TargetMode="External"/><Relationship Id="rId7" Type="http://schemas.openxmlformats.org/officeDocument/2006/relationships/hyperlink" Target="http://www.ncp.edu.pk/pk-grid-ca/CA-pub.htm#crl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990720"/>
            <a:ext cx="8305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Arial"/>
              </a:rPr>
              <a:t>PK-Grid-CA 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Arial"/>
              </a:rPr>
              <a:t>Audit &amp; Status Report </a:t>
            </a:r>
            <a:br>
              <a:rPr sz="48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(15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  <a:ea typeface="Arial"/>
              </a:rPr>
              <a:t>th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 EU-Grid-PMA Meeting, Nicosia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45840" y="4053960"/>
            <a:ext cx="6180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ajjad Asg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PK-Grid-CA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ational Centre for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rrent Statist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a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3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gital certificates (in total) have been issued to various organizations and persons in Pakistan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ser Certific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st Certific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those 13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ot Exp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re Revok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gives the current active certificates number equivalent to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632-71CD-4DA1-8121-8507E6D908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61AA7-5838-4EC6-8A08-74C846F529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rrent Statist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root key has the CN “PK-GRID-CA”, the CN for old key was “ncp.edu.p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key is valid for ten years till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, 20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certificate from the old root key was signed on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days before the expiry of root ke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CRL signed by the old key was on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v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4D2-73F7-4FEE-9C01-4845FCAB4D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AD995-9FD4-4327-85B8-440A4DBD7B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rst Self-Aud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ever self-audit for PK-Grid-CA has been conducted to check compliance of CA operations with the CP-C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udit was conducted according to the "Audit Guidelines Document" provided by the AP-Grid-P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.e., Audit Guidelines – 1.0-B5.do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BB1-8153-4ED8-B2E1-663A008BC3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5616A-0C16-4E94-8D3D-BABCC32DFB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Procedur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tem in the audit checklist should be scored according to the results of exa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: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: Recommendation (mino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: Recommendation (majo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: Advice (must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8686"/>
                </a:solidFill>
                <a:latin typeface="Arial"/>
              </a:rPr>
              <a:t>X: Could not evaluate (N/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/CPS, Manuals for subscribers, CA repository (website), CA certificate, CRLs, EE certif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 room, backup media for CA key, Offline medium, Media storage, Logs of the CA/RA Servers, Logs of the reposito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cords of operations of the CA private key, Access log to the CA ro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0B0-6713-4D0A-898F-AE43D22BFC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05F36-8C5A-4BF8-A468-9897EEAEE71B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 system must be located in a secure environment where access is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need more tighter access contro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ure environment must be documented and approved by the 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we need to write it dow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ery little details are mentioned in our CP/C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ine CA architecture should provide for a tamper-protected log of issued certificates and signed CR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how to make it tamper proof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urrently this record is offli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vailable only on requ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B1A-AF82-4686-BD6A-BB924BDB9C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9A9D6-77B8-41C5-AF87-B0485EC30594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 must request revocation ASAP, but within 1 working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868686"/>
                </a:solidFill>
                <a:latin typeface="Arial"/>
              </a:rPr>
              <a:t>X</a:t>
            </a:r>
            <a:r>
              <a:rPr b="0" lang="en-US" sz="21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have no control on E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L lifetime must be no more than 3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missed it a few times by crossing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d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ue to long official holidays but never crossed 30 d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ollowing this practice strictly for last few yea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 outdated CRLs in near pa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CA must issue a new CRL at least 7 days before ex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 (missed it several tim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Mistake of operational staff on network e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gain bad planning for long official holid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08C-4253-413B-962A-9AEB9140BA9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D7FD0-7D32-41A6-88FC-0E2FB59F3071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pository must be run at least on a best-effort basis, with an intended availability of 24x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Scor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 (the downtime is not notified to P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ew times due to international fiber cable connectivity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nplanned power cut and power ou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blem on network provider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CA should make a reasonable effort to make sure that EE realize the importance of properly protecting their private data. When using software tokens, the user must protect his/her private key with a strong pass phrase, i.e. at least 12 characters long and following current best practices in choosing high-quality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 (not clearly mentioned in C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e have no control over EE for their private key password leng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lanning to conduct a seminar for EE where we could emphasize on this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DD3-A6BE-4092-ADBB-13142722C2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3B45A-868A-42B7-B041-B6802D9D43DF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certificates bound to network entities a FQDN shall be included as a dnsName in the SubjectAlternative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B (we are using emai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s associated with a private key residing solely on hardware token may be renewed for a period of upto 5 years (for equivalent RSA key length of 2048 bits) or 3 years (for equivalent RSA key length 1024 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800" spc="-1" strike="noStrike">
                <a:solidFill>
                  <a:srgbClr val="86868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t applic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A9B8-BA2D-415E-A555-4E475F238F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7AC16-19C9-40A8-8ED0-41C8BFD43E2C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d may be renewed or re-keyed for more than 5 years with a form of identity and eligibility verification, and this procedure must be described in the CP/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 (have to include this in CP-CP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We do identity check for every re-key from 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o not ask for new copy of documents after the first time verificatio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CA must record and archive all requests for certificates, along with all the issued certificates, all the request for revocation, all the issued CRLs and the login/logout/reboot of the issuing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logs have to be organiz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records must be available to external auditors in the course of their work as au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 (logs have to be organiz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E5B-9B86-45D3-95EC-B9FD029071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BF0C9-6F78-455F-8C90-653879939F46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A must perform operational audits of the CA/RA staff at least once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D (were not doing any audits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ill be done on regular basis in the future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 of CA and RA personnel should be maintained and verified at least once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D (no list being maintained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This part has been included in our internal CA operational manu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Only maintain the list of RA Head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 shall provide their trust anchor to a trust anchor repository…anchor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B (working for TACAR) – </a:t>
            </a:r>
            <a:r>
              <a:rPr b="0" lang="en-US" sz="1900" spc="-1" strike="noStrike">
                <a:solidFill>
                  <a:srgbClr val="008000"/>
                </a:solidFill>
                <a:latin typeface="Arial"/>
              </a:rPr>
              <a:t>NOW DO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 must have an adequate compromise and disaster recovery procedure, and we are willing to discuss this in the P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B (have to document i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004-0B50-45AB-A727-A786F8C0D8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3AA92-E36F-4208-BD58-348860055FD8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heme of Present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PK-GRID-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Em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URLs regarding PK-GRID-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 in various EU-GRID-PMA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Audit, checklist and post-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39D-7A3B-4990-9097-9F1D5C121D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59271-7D1E-47A0-B9FD-37133D6AE6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dit Checklist – Deficient Asp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KI CA must define the role of registration authority (RA), and these RAs are responsible for the identity of all the 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Score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B (have to mention the role in the CP-CP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994E-31DC-42EE-91C3-348193EF134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0D17D-E015-4C9C-93C9-F79DA286BCC4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elf-Audit Post-Activit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o make changes in the CP-CPS based on this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the CP-CPS for approval to the P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o publish a report on self audit on the CA website and to the PMA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ify measures which are not in accordance with the C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lists of CA/RA staff and update on regular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e more effort in CA project, by adding more people with proper training to the CA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AF7-21EA-4BCB-9ADE-F1C7E41087D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4350E-AEBA-4700-BE56-F0FEFD6642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uture Pla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8420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level of security in CA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red access for CA 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physical zones defined for increased access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reen zone, yellow zone and red zon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en and yellow zones can be used for key-signing ceremonies (RAs for PKIReliance)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zone will contain CA offline mac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 Surveillance System for CA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 all zones with video came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on recording fac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877-745E-47E1-8BB3-746BC8216E8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4F194-7588-4812-97A2-6152E77B49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uture Pla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Contro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control on the doo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 person authentication for red z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ple verification/authentication (pin + card + thum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devices (both sides of the door) in red zone for recording in and out time as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Security Module (HSM) to be purch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procurement is under 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ore secure safe for CA offline record in the new premi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of PKIReliance at nationa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2AE-8012-487E-BC27-8F9C1BC20B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17610-6193-44B6-AB76-C68E966358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7640" y="2971440"/>
            <a:ext cx="8648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330033"/>
                </a:solidFill>
                <a:latin typeface="Times New Roman"/>
              </a:rPr>
              <a:t>QUESTIONS?</a:t>
            </a:r>
            <a:endParaRPr b="0" lang="en-US" sz="10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720-89CF-4188-9831-B077D3E1BEC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40673-7BA8-4042-9338-44429FC1B2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tion of PK-GRID-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-Grid-CA is managed by National Center For Physics Islama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X.509 certificates to support the secure environment in LC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User and Host Certificates to people and sites participating in grid computing in collaboration/partnership with N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users are the physicists involved in LHC exper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aff is responsible to manage Grid node and the grid certification authority (PK-Grid-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684-09E2-401C-A937-27BF28202B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C91C6-B2B2-407A-91B0-849609176C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istory of Emerg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-Grid-CA Certification Authority is working under European Grid Policy Management Authority (EU-GRID-PM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ort Started in October 200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P produced the first Certificate Policy and Certification Practice Statement (CP-CPS) document in Decemb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ed by several members of EU-GRID-P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d several revisions and useful comments,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amp; suggestions by the PMA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 version was published in April 2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A9A2-E9C0-433A-8933-A9810F1E2F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E8083-0BCC-46F8-9D09-3B9F6A0A44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istory of Emerg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-GRID-CA was officially presented in the 2nd meeting of the EU-Grid-PMA held in Brussels, BELGIUM during September 23-24, 200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Usman Ahmad Malik from NCP presented the 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n it became formally approved and accredited by the EU-Grid-PMA as a 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-Grid-CA had started operations since t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as the first and only Certification Authority in Pakistan at that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9B0-3715-466D-9D81-DB56C5DF7E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D25FA-171D-4260-8EF9-4DE9C67E7839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ortant UR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tails of the historical EU-GRID-PMA meeting (Brussels) in context of PK-GRID-CA can be found at:                                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eugridpma.org/agenda/fullAgenda.php?ida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=a0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tails about all versions of the PK-Grid-CA CP-CPS documents produced/published by NCP can be found 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ncp.edu.pk/pk-grid-ca/CA-pub.htm#cp_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nline portal is available for requesting user/host certificates using following URLs respective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http://www.ncp.edu.pk/pk-grid-ca/userinstruc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ncp.edu.pk/pk-grid-ca/hostinstruction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test copy of the PK-GRID-CA CRL can be fetched from: 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http://www.ncp.edu.pk/pk-grid-ca/CA-pub.htm#cr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504-5F1A-4A53-B71B-3AF1780E07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47A31-D399-4F8A-A71C-E4BC88C567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cent Improv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ld root key for PK-Grid-CA expired on December 9, 200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ce no certificate could be signed with it after December 8, 2007 as per poli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ew key pair valid till December 2017, with a key length of 4096 bits has been generated and sent to the PMA, and hence distributed via the (International Grid Trust Federation) IGTF-rele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last one year, the two root keys were valid for PK-Grid-CA. But the new certificate requests are being signed by the new root key. Old root key was being used for CRL sig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, only the new root key is distributed and trusted on WLCG as the older one has recently expired on December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DB1-DE15-4764-B87D-22D444BC44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626D2-F372-4275-B5DC-4F78D9E918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cent Improv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cember 2007, the PK-Grid-CA team drafted the new CP-CPS (1.1.2.0) based on the structure suggested by RFC – 364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PS was approved by the NC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which it was sent to the EU-Grid-PMA mailing list for approval which was approved by the PMA after its meeting in January 200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EE2-629C-4ABC-B70B-4D2F2D2EB2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DAD9A-C80B-4E82-83F1-CC45484E3F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cent Improv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8420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K-GRID-CA setup has been recently shifted in the new purpose campus of N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building was designed keeping into consideration a proper place for the CA set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s better physical and operational secur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security oriented apparatus is in the pipeline including Closed-Circuit Cameras and HSM etc. for the CA roo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Centre for Physics, http://www.ncp.edu.p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61F-8AFD-4E94-AD92-7090842F45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C55AF-4667-49A1-B90E-C04E93BF41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6:13:57Z</dcterms:created>
  <dc:creator>Usman Ahmad Malik</dc:creator>
  <dc:description/>
  <dc:language>en-US</dc:language>
  <cp:lastModifiedBy>Usman A. Malik</cp:lastModifiedBy>
  <dcterms:modified xsi:type="dcterms:W3CDTF">2009-01-26T11:01:26Z</dcterms:modified>
  <cp:revision>1780</cp:revision>
  <dc:subject/>
  <dc:title>IBCAST IRS</dc:title>
</cp:coreProperties>
</file>