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F6D-C7E1-4C45-AE43-7DC8032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607-174D-4132-99ED-16F4EFFB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26F-08A4-4EFD-9D38-35C9BE8F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B51-809B-4565-8103-41544CFA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615-BC66-4A87-80E5-DEC8837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BC3-E03D-4545-871A-FC1E418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B71-6D4D-4D46-860A-E508005D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AB6-CEB2-42D5-BE14-AACFF48F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4DB-9DD0-4A49-B480-197ACEC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905-877A-486E-B079-C88C61F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CE1-21E2-423D-8651-3FB5923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B4D-AB64-4B93-8A86-A20D2B1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C62-9360-414D-AC4C-E73F7E3FEDA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Nico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Jan 2009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duce next draft of document by end of Ma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with VOMS server AAS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ry an accreditation in Zurich PMA meeting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426-215A-4318-A2C1-AEC77E4030D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EFE2-D0F3-4149-A81A-842D919E627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B8AD-8ECD-468B-B414-75F2CC156D43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tc etc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 on 2 Dec 2008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t NIKHEF – just before TERENA federation mee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incenzo Ciaschini, David Groep, Oscar Koeroo, Mike Helm, Reimer Karlsen-Masur, Steve Timm, Jules Wolfrat, Dave Kels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orked on the AA profile document and discussed some issu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49DA-184D-4E15-A73B-0C5AF16DD10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n changes to documen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leaned up intro, abstract and scop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General archite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wo well established architect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ssue attributes to users, pushed by us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s extracted to local AuthZ DB (GUM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hould be one AASP per organis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the AASP, not each instance or V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46BC-4A7A-44F8-8396-F5CB18E5332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A signing ke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gree we should not use host certific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VOMS develo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lling to implement use of separate ke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hould be tied to AASP (not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encouraged to consider an H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But  not forc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5E0D-ACE7-48D7-B3EE-C4FF77A3896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o case for revoking A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ther AC may exist with same asser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Entire cert chain must be verifi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AA cert will kill all issued asser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evocation of EE cert must stop issue of attribu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P must check validity of identity ce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ttribute Practice Statement (AP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ractice statement requir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imple with templa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C9D-63FE-436C-A959-E1F5C99C0B3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ssign it a globally unique object identifier (OID)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is should at least contain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persistent contact details for the AAS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ocument their operational environ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tate compliance with this polic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aintain accurate VO contact information for all the AAs they host and a link to the VO AU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hould be public and made availab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xcept for the operational environment which must be disclosed to the accrediting bod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8AB-C413-409B-A4A4-74266EA9020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Issues (4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SP na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The registered name is needed to ensure that different accreditation bodies do not accredit different AASPs with the same name inside the realm of one CA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ASP accrediting body should act as registrar for repository of AASP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A:&lt;reasonable representation of name of aasp &gt; - &lt;arbitrary non-null string identify the server or VO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t by CA or requested by AAS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“AA:cern-wlcgvoms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B25C-A7EC-4FE6-BB02-7B9520E5196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Other new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Have discussed with Steve Trayle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runs the VOMS servers at C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 is keen to work with 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gether with Steve Timm at F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nd other VOMS operators(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ill include comments from them on the profile docu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Jan 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uthZ, 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880C-31AD-4E7E-B7FD-88DCDEED833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9-01-27T07:37:06Z</dcterms:modified>
  <cp:revision>71</cp:revision>
  <dc:subject/>
  <dc:title>Grid Security</dc:title>
</cp:coreProperties>
</file>