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022-CCD4-4854-8836-3AB9E9E7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110-A89A-4329-AAF7-3AA0FD88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AAE-79DB-4D8F-B638-EA18FA09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6E9-6464-43CE-AEDC-EE9185B1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D92-E6BC-47F8-B734-A0F74996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4169-4E11-4370-8738-8B07537B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A60-77FC-4D75-869B-BD1A76F1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F04-C398-40A3-8CA2-BDF1185B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75CF-497C-40AA-9892-4AFA54FD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28EE-AD09-447F-A0B3-1E7E5DCF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228-6639-45BF-8126-EAEC4C20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F31-0224-47F0-A5A7-2914C9F2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0FA9-ADAA-4090-8B49-EDC0B12C649E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108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ray@niif.hu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066680"/>
            <a:ext cx="7543800" cy="518184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IIF CA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Status Updat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d Self-Audit Results </a:t>
            </a: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EUGridPMA mee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7.01.20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ico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Tamás Máray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maray@niif.h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IIF Institu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1066680"/>
            <a:ext cx="7543800" cy="518184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 status of CA – 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of the self-aud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ons tak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641-B6D6-475B-ACBE-CCDA7E775B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219320"/>
            <a:ext cx="8153280" cy="495288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eneral Informa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IF CA is an X.509 PKI CA with online CA infrastructure (Sun CMS + HSM: Chrysalis Luna crypto H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accredited by the EUGridPMA in 2005 January during the Marseille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provides free X.509 user and host certificates mainly for the academic user community (research and higher education) in Hungary but also for some companies participating in EU FP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in Budapest, operated by NIIF Institute (the Hungarian NR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528-2D10-4CFF-B77B-A552F3EC6B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urrent Status of CA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of yesterda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17 CERTs are issued in to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3 CERTs are val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94 CERTs are exp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 CERTs are revo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5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ll the CERTs are fo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5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772-D9AC-4C41-8283-BB71954A25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Self-Audi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hat it meant to b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horoghful review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peration of the CA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ocument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dentification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olving the entire staff responsible for running the 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 is based on Yoshio Tanaka’s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uidelines for auditing Grid CAs version 1.0-b6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”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ublished in September 2008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E68B-61A9-4391-9667-25A2E63549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ry serious problems were not detected.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 foun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erational manual is miss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CPS/CP documents are still organised according to RFC 252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10: The secure environment is documented only in Hungarian (NIIF’s internal regulation documents, 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ISO 9001:20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, ISO/IEC 27001:2005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therefore it is not available to the P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17 and Q18: root key renewal process is not satisfyingly addressed. Discussion of the overlap issue is missing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C33E-C059-470E-94D7-B0A93AF18C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ults (cont.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 foun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32: multiple, simultaneous revocations have not been tested ye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43: FQDN is not included in the SubjectAlternativeName in host certific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B(?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53: yearly operational audit of the CA/RA staff was not a practice before (though a regular, internal NIIF service reporting procedure is implement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62: disaster recovery procedure is not described in CPS/CP (though a general procedure description do exist for the NIIF as a who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ore: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15B3-55A0-4CEF-A004-6436675A03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295280"/>
            <a:ext cx="8153280" cy="480060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ctions take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audit report was prepared, giving answer to *all* the audit ques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reover, decisions were made abou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plifying the certification request process (leaving out the requirement of the “project manager’s” approval of the request from the Pre-Authorisation phas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plifying the operation (quitting the former log server, archiving the logs directly from the TCB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plifying the documentation work (CPS/CP are only published in English, Hungarian version is not maintained anymo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ifying the CPS/CP documents according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e. (Version 1.4 is prepared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47D-88A9-4264-AC08-8F2CF368D5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1447920"/>
            <a:ext cx="8153280" cy="4647960"/>
          </a:xfrm>
          <a:prstGeom prst="rect">
            <a:avLst/>
          </a:prstGeom>
          <a:solidFill>
            <a:srgbClr val="00009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ture Pla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ion of the operation man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ion of the CA’s disaster recovery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organising CPS/CPs according to RFC 364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ing FQDN in the SubjectAlternativeName in host certificates(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ing a yearly operational audit of the 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th EUGridPMA meeting - Nicos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83A-146C-4FD9-9BB3-F0CBE9FC48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9T11:13:33Z</dcterms:created>
  <dc:creator>Benczéné Páldi Piroska</dc:creator>
  <dc:description/>
  <dc:language>en-US</dc:language>
  <cp:lastModifiedBy>Springer Ferenc</cp:lastModifiedBy>
  <dcterms:modified xsi:type="dcterms:W3CDTF">2009-01-27T08:53:28Z</dcterms:modified>
  <cp:revision>109</cp:revision>
  <dc:subject/>
  <dc:title>Az NIIF E10000 szuperszámítógép felhasználása, fejlesztési tervek</dc:title>
</cp:coreProperties>
</file>