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D02F-7FA0-41C8-813D-1901858F3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834840"/>
            <a:ext cx="777060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420640"/>
            <a:ext cx="777096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377960"/>
            <a:ext cx="777096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E8B2-40B5-4F7B-8C96-A2B52CAC7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000" y="834840"/>
            <a:ext cx="777060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2420640"/>
            <a:ext cx="379188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7760" y="2420640"/>
            <a:ext cx="379188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377960"/>
            <a:ext cx="379188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7760" y="4377960"/>
            <a:ext cx="379188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E65D-36B9-4766-B6EC-50427F8C6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000" y="834840"/>
            <a:ext cx="777060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2420640"/>
            <a:ext cx="250200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440" y="2420640"/>
            <a:ext cx="250200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0720" y="2420640"/>
            <a:ext cx="250200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377960"/>
            <a:ext cx="250200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440" y="4377960"/>
            <a:ext cx="250200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0720" y="4377960"/>
            <a:ext cx="250200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475E-0DC2-483A-9697-3B90B531E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000" y="834840"/>
            <a:ext cx="777060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2420640"/>
            <a:ext cx="7770960" cy="374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AA4F-4E2A-45CB-887E-763A8CF3D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000" y="834840"/>
            <a:ext cx="777060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420640"/>
            <a:ext cx="777096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0BDC-CECB-4AAE-815E-CC1CCF75C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834840"/>
            <a:ext cx="777060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420640"/>
            <a:ext cx="379188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7760" y="2420640"/>
            <a:ext cx="379188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D237-BDCD-4528-AFC7-2E063AC2E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000" y="834840"/>
            <a:ext cx="777060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014D-0B23-43A8-8BC8-9004658D4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4000" y="834840"/>
            <a:ext cx="7770600" cy="66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4F4E-65B7-4269-89EA-2DA4E7757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000" y="834840"/>
            <a:ext cx="777060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2420640"/>
            <a:ext cx="379188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760" y="2420640"/>
            <a:ext cx="379188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377960"/>
            <a:ext cx="379188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66EE-8B23-4F64-B1D0-A4B6BE16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000" y="834840"/>
            <a:ext cx="777060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420640"/>
            <a:ext cx="379188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760" y="2420640"/>
            <a:ext cx="379188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7760" y="4377960"/>
            <a:ext cx="379188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35E3-DE63-4E81-8FBA-A4E79398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000" y="834840"/>
            <a:ext cx="777060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420640"/>
            <a:ext cx="379188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760" y="2420640"/>
            <a:ext cx="379188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377960"/>
            <a:ext cx="7770960" cy="178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299A-E67F-49D5-A9A4-80B34DA4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834840"/>
            <a:ext cx="777060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420640"/>
            <a:ext cx="777096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7080" indent="-307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667080" indent="-255600">
              <a:spcBef>
                <a:spcPts val="799"/>
              </a:spcBef>
              <a:buClr>
                <a:srgbClr val="000000"/>
              </a:buClr>
              <a:buFont typeface="Lucida Grande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1028520" indent="-20556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1440000" indent="-205560">
              <a:spcBef>
                <a:spcPts val="799"/>
              </a:spcBef>
              <a:buClr>
                <a:srgbClr val="000000"/>
              </a:buClr>
              <a:buFont typeface="Lucida Grande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1851480" indent="-205560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000000"/>
                </a:solidFill>
                <a:latin typeface="Lucida Gran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EBAA7AD-D7F3-4D3C-8B10-23E00B334987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7162920" cy="15177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"/>
          <p:cNvPicPr/>
          <p:nvPr/>
        </p:nvPicPr>
        <p:blipFill>
          <a:blip r:embed="rId3"/>
          <a:stretch/>
        </p:blipFill>
        <p:spPr>
          <a:xfrm>
            <a:off x="4140360" y="5734080"/>
            <a:ext cx="4765680" cy="952560"/>
          </a:xfrm>
          <a:prstGeom prst="rect">
            <a:avLst/>
          </a:prstGeom>
          <a:ln w="0">
            <a:noFill/>
          </a:ln>
        </p:spPr>
      </p:pic>
      <p:pic>
        <p:nvPicPr>
          <p:cNvPr id="7" name="Picture 8" descr=""/>
          <p:cNvPicPr/>
          <p:nvPr/>
        </p:nvPicPr>
        <p:blipFill>
          <a:blip r:embed="rId4"/>
          <a:stretch/>
        </p:blipFill>
        <p:spPr>
          <a:xfrm>
            <a:off x="611280" y="5842080"/>
            <a:ext cx="2736720" cy="76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Jens' obligatory soap box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  <a:ea typeface="ヒラギノ角ゴ Pro W3"/>
              </a:rPr>
              <a:t>Can't be a PMA without a SoapBox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457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  <a:ea typeface="ヒラギノ角ゴ Pro W3"/>
              </a:rPr>
              <a:t>A random collection of Soapy thing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457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  <a:ea typeface="ヒラギノ角ゴ Pro W3"/>
              </a:rPr>
              <a:t>Nicosia, 26-28 Jan 2009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000" y="834840"/>
            <a:ext cx="777060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Using Robot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42960" y="2142720"/>
            <a:ext cx="777096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Robots have name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Using robots for code signing doesn’t make sens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If acting on behalf of many users, meaningless?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People use host certificate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Hosts can do everything people can do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000" y="834840"/>
            <a:ext cx="777060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Securitification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42960" y="2214360"/>
            <a:ext cx="777096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4440" indent="-33444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ommunicating systems behaviour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26120" indent="-27828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to admin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34440" indent="-33444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ommunicating user behaviour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26120" indent="-27828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to VOs?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34440" indent="-33444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What has a certificate done since it was (requested) revoked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26120" indent="-27828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And subsequently successfully revoked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26120" indent="-27828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000" y="834840"/>
            <a:ext cx="777060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Recommendation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2420640"/>
            <a:ext cx="777096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Work with RPs to improve operational security?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eems like no-brainer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But does mean revealing additional data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And to whom, under which circs?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Which areas increase impac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cf. RAT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 OSCG et a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87912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Auth Profile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4210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Profile bashing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Do they diverge or converge, or neither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Dimensions: ~six dimensiona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Mixing and matching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Automatic RAs?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Where does the loa W&amp;F liv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87912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Beyond Authentication?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4210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o encrypt or not encryp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Pro: already have PKI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Con: Certs expire; maintain CRL forever; no consistent way of locating keys (no keyservers)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onclusion: </a:t>
            </a:r>
            <a:r>
              <a:rPr b="1" lang="en-US" sz="2400" spc="-1" strike="noStrike">
                <a:solidFill>
                  <a:srgbClr val="000000"/>
                </a:solidFill>
                <a:latin typeface="Lucida Grande"/>
              </a:rPr>
              <a:t>NOT RECOMMENDED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87912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Beyond Authentication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4240" y="200016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VOM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18920" indent="-27540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Other services where certificate is relevant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30840" indent="-33084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Object signing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18920" indent="-27540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Who can have it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18920" indent="-27540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What does it mean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30840" indent="-33084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Object signing: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18920" indent="-27540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No way to define right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18920" indent="-27540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Except for robots! (or probots!!)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000" y="834840"/>
            <a:ext cx="777060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Back to Authentication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800" y="2420640"/>
            <a:ext cx="777096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rvice certificate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Do we still need them?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What does it mean?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Who can have them?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What services can we “issue”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Document practices/recommendation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360" y="87912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Issues for OGF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14240" y="2143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Back to Template CP/CP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Beating the computer?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How to remember your password?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What is a strong passphrase/word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How to specify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How to check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87912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Issues for OGF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14240" y="2143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324000" indent="-32400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Documenting deviations from PKIX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24000" indent="-32400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And those other aspects of 3647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04160" indent="-2696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E.g., acceptance, suspension, modification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04160" indent="-2696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RA Management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24000" indent="-32400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Key validation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04160" indent="-2696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All known key validation parameter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24000" indent="-32400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Personnel policie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0416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000" y="834840"/>
            <a:ext cx="777060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Issues for OGF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42960" y="2214360"/>
            <a:ext cx="777096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Pinning down those practices?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Like the re-keying question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Template will help here, possibly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But will alone not be sufficient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Disaster recovery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Wildcard DN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(Not the Globus DNS wildcard!)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000" y="834840"/>
            <a:ext cx="777060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Review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42960" y="2214360"/>
            <a:ext cx="777096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Review review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Doesn’t quite work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Operationa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onsistenc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How to ensure and improve consistency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Automation is better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(Too much automation is dangerous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000" y="834840"/>
            <a:ext cx="777060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Software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2420640"/>
            <a:ext cx="777096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ufficient base for common softwar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Allow local flavour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Certificate management framework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tandards, standards, standard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But which ones?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000" y="834840"/>
            <a:ext cx="777060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Dinner Discussion Topic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2420640"/>
            <a:ext cx="777096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RL cach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everance of undersea cabl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External CRL cache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How to redirect client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hasing miscreants by CR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Or helping RPs and OCSPs etc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Use cases for “expired” CRL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000" y="834840"/>
            <a:ext cx="777060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714240" y="2214360"/>
            <a:ext cx="777096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e case for more automation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Humans do too many machine thing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e case for less automation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Machines do human thing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r once try to do it properl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000" y="834840"/>
            <a:ext cx="777060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2420640"/>
            <a:ext cx="777096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s is no time for complacenc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Many things still not on top of other thing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e case for Template Policy to the rescue™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000" y="834840"/>
            <a:ext cx="777060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2420640"/>
            <a:ext cx="777096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More work…?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Many things could be improved with better text, description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Make little working groups working on work needed to make work work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87912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Housekeeping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420640"/>
            <a:ext cx="7772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marL="300240" indent="-30024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Web sites: locating repository obligation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00240" indent="-30024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onsistent interfaces for automated clients?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651960" indent="-249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Or at least URLs? (.info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00240" indent="-30024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f. Jim’s talk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651960" indent="-249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Review certificate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51960" indent="-249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Review CP/CP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51960" indent="-249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Locate support contact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000" y="834840"/>
            <a:ext cx="777060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Review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2420640"/>
            <a:ext cx="777096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Maintaining review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Policy (policies get updated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Operationa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Use Template Policy framework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Annotation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Needs an interfac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Gets confusing?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87912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Reuse” of DN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4210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What are all those DNs in the log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Persons?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Jobs?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MyProxy proxies?  Proxied proxies?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Agent with central key or proxy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hared private keys?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000" y="834840"/>
            <a:ext cx="777060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Reuse” of credential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714240" y="2071440"/>
            <a:ext cx="777096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Grande"/>
              </a:rPr>
              <a:t>Activation of private key</a:t>
            </a:r>
            <a:endParaRPr b="0" lang="en-US" sz="3000" spc="-1" strike="noStrike">
              <a:solidFill>
                <a:srgbClr val="000000"/>
              </a:solidFill>
              <a:latin typeface="Lucida Grande"/>
            </a:endParaRPr>
          </a:p>
          <a:p>
            <a:pPr lvl="1" marL="91440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Key token, Unencrypted (host), Encrypted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Grande"/>
              </a:rPr>
              <a:t>Activation of MyProxy account</a:t>
            </a:r>
            <a:endParaRPr b="0" lang="en-US" sz="3000" spc="-1" strike="noStrike">
              <a:solidFill>
                <a:srgbClr val="000000"/>
              </a:solidFill>
              <a:latin typeface="Lucida Grande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Grande"/>
              </a:rPr>
              <a:t>Intentional use of proxy</a:t>
            </a:r>
            <a:endParaRPr b="0" lang="en-US" sz="3000" spc="-1" strike="noStrike">
              <a:solidFill>
                <a:srgbClr val="000000"/>
              </a:solidFill>
              <a:latin typeface="Lucida Grande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Grande"/>
              </a:rPr>
              <a:t>Proxy use of proxy</a:t>
            </a:r>
            <a:endParaRPr b="0" lang="en-US" sz="3000" spc="-1" strike="noStrike">
              <a:solidFill>
                <a:srgbClr val="000000"/>
              </a:solidFill>
              <a:latin typeface="Lucida Grande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Grande"/>
              </a:rPr>
              <a:t>Unintentional use of proxy or privkey</a:t>
            </a:r>
            <a:endParaRPr b="0" lang="en-US" sz="3000" spc="-1" strike="noStrike">
              <a:solidFill>
                <a:srgbClr val="000000"/>
              </a:solidFill>
              <a:latin typeface="Lucida Grande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Grande"/>
              </a:rPr>
              <a:t>Intentional misuse of proxy or privkey</a:t>
            </a:r>
            <a:endParaRPr b="0" lang="en-US" sz="3000" spc="-1" strike="noStrike">
              <a:solidFill>
                <a:srgbClr val="000000"/>
              </a:solidFill>
              <a:latin typeface="Lucida Grande"/>
            </a:endParaRPr>
          </a:p>
          <a:p>
            <a:pPr lvl="1" marL="91440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Host key, user key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Security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420640"/>
            <a:ext cx="7772400" cy="32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trengthen security by weakening i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Areas of investigation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How to improve security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ampaign for enforcablier securit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Make it easier for RPs and opsec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000" y="834840"/>
            <a:ext cx="777060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2420640"/>
            <a:ext cx="777096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Using MyProxy to manage credential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ingle point of, er, something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ngle sign-on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Re-use of password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But single password is better (in some ways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000" y="834840"/>
            <a:ext cx="777060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Using Robot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2420640"/>
            <a:ext cx="777096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treaker securit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redential automated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Can act on behalf of users, e.g., porta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Can act independently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Are these different?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j47</cp:lastModifiedBy>
  <dcterms:modified xsi:type="dcterms:W3CDTF">2009-01-27T10:56:59Z</dcterms:modified>
  <cp:revision>62</cp:revision>
  <dc:subject/>
  <dc:title>PowerPoint Presentation</dc:title>
</cp:coreProperties>
</file>