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5411-3E83-43DD-92FB-38BC2131DA4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EEE6-705B-4840-A2FD-FB224CA44D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484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08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484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08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9280" y="151920"/>
            <a:ext cx="759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8484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080" y="121896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8484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080" y="3727080"/>
            <a:ext cx="27198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51920"/>
            <a:ext cx="759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240" y="372708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7240" y="1218960"/>
            <a:ext cx="412200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27080"/>
            <a:ext cx="8447040" cy="22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980720" y="64008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CDF7-3242-40C6-B7E6-1D69D0F0172D}" type="slidenum">
              <a:rPr b="0" lang="ja-JP" sz="11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990720" y="6477120"/>
            <a:ext cx="13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990720" y="6477120"/>
            <a:ext cx="13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6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AOPs WG Telec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520" y="3809880"/>
            <a:ext cx="7263000" cy="197640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27 (Tue)  16:30 – 17:25 (GMT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Cyp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located with EUGridPM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irs: Christos Kanellopoulos an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shio Tan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フッター プレースホルダ 3"/>
          <p:cNvSpPr/>
          <p:nvPr/>
        </p:nvSpPr>
        <p:spPr>
          <a:xfrm>
            <a:off x="1981080" y="640080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E4CF-9E02-45DD-942A-2E51ED1A2425}" type="slidenum">
              <a:rPr b="0" lang="ja-JP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759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genda to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4470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ying Party Defined Namespace Constraints (David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st C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s on GFD.125 (David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diting Guidelines Document (Yosh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nda of the CAOPs/IGTF Workshop at OGF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22:23Z</dcterms:created>
  <dc:creator/>
  <dc:description/>
  <dc:language>en-US</dc:language>
  <cp:lastModifiedBy>Yoshio Tanaka</cp:lastModifiedBy>
  <cp:lastPrinted>2006-08-17T17:55:00Z</cp:lastPrinted>
  <dcterms:modified xsi:type="dcterms:W3CDTF">2009-01-27T10:17:33Z</dcterms:modified>
  <cp:revision>62</cp:revision>
  <dc:subject/>
  <dc:title>OGF slide presentation template</dc:title>
</cp:coreProperties>
</file>