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48D-3EE2-4FA4-B45B-9D161410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C77-A5CA-4DFD-9944-4E0E1480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A84-534A-474F-8411-0863800E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2F8-2189-49B4-A1AD-BAAD6477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D72-6BDE-4753-95D3-AAA41E1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56C-C898-42C3-B69C-FE0DB705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880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84520" y="50752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127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9880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84520" y="5671080"/>
            <a:ext cx="227196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23F-3FE8-41D3-BFAD-5BD7744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B6B-54C5-4521-B215-0FDD7DF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2347920"/>
            <a:ext cx="856944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ED5-B708-4885-8B7B-1243300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AF9-AB54-47FF-8362-689C2F6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8560" y="56710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0BD-1037-4F9D-A2C5-DAB2291D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272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8560" y="5075280"/>
            <a:ext cx="344340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2720" y="5671080"/>
            <a:ext cx="7056720" cy="5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25D-ED85-4144-9362-CCBCB87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6000" y="303120"/>
            <a:ext cx="612144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kton Pro Ex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kton Pro 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950760" y="1100160"/>
            <a:ext cx="4392360" cy="436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979280" y="180720"/>
            <a:ext cx="77389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18560" y="6948360"/>
            <a:ext cx="144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8360" y="6948360"/>
            <a:ext cx="1873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7AAD53-27D1-495A-A9E8-3FE8F02D8725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nu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5th EuGridP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92360"/>
            <a:ext cx="10080720" cy="5867280"/>
          </a:xfrm>
          <a:prstGeom prst="rect">
            <a:avLst/>
          </a:prstGeom>
          <a:solidFill>
            <a:srgbClr val="2248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00360" y="395280"/>
            <a:ext cx="7920000" cy="14400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7480" cy="192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890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ekton Pro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  <a:p>
            <a:pPr lvl="1" marL="216000" indent="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1640" algn="ctr">
              <a:lnSpc>
                <a:spcPct val="95000"/>
              </a:lnSpc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86364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863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GRID-FR self audi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12720" y="5500800"/>
            <a:ext cx="70567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A. de Bignicourt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ekton Pro"/>
              </a:rPr>
              <a:t>(UREC / CNRS)</a:t>
            </a:r>
            <a:endParaRPr b="1" lang="en-US" sz="20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2486c"/>
                </a:solidFill>
                <a:latin typeface="Arial"/>
              </a:rPr>
              <a:t>Guideline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RID-FR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elfaudit :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-FR CA: classic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 certificates for institutes participating in GRID projects in which CNRS is involv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EE, LCG, DEISA , Grid 5000, ILDG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Sciences, Integrative Biology,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 user, server and service certificates t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nch public institutes &amp; private instit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ign public &amp; private institutes, no HEP, and who do not have CA (catch-all) : France + 10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GRID-FR CA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72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ucture of the CNRS’ PK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47720" y="1676520"/>
          <a:ext cx="891216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6520"/>
                    <a:ext cx="891216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1440" y="180720"/>
            <a:ext cx="77392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tatistic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Self audit : Results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osi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ha1 (for GRID-FR CA and EE certificat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egative poi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NRS and CNRS-Projets: md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P / CPS: NOT OK for uppon C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 certificates : CRL distribution 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850"/>
              </a:spcAft>
              <a:buSzPct val="102884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A &amp; expir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DR282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457200">
              <a:lnSpc>
                <a:spcPct val="93000"/>
              </a:lnSpc>
              <a:spcAft>
                <a:spcPts val="850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RID-F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5121360" y="3117960"/>
            <a:ext cx="422748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72000" y="2411280"/>
            <a:ext cx="3818160" cy="603720"/>
          </a:xfrm>
          <a:prstGeom prst="rect">
            <a:avLst/>
          </a:prstGeom>
          <a:noFill/>
          <a:ln w="28440">
            <a:solidFill>
              <a:srgbClr val="60c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ignature Algorithm: md5WithRSA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45080" y="320364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09080" y="313200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63680" y="2101680"/>
            <a:ext cx="7843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179280"/>
            <a:ext cx="77389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22486c"/>
                </a:solidFill>
                <a:latin typeface="Arial"/>
              </a:rPr>
              <a:t>CNRS’ PKI</a:t>
            </a:r>
            <a:endParaRPr b="1" lang="en-US" sz="4400" spc="-1" strike="noStrike">
              <a:solidFill>
                <a:srgbClr val="22486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N and the way EE certificates are issued are the 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Next steps for the futur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P/CPS (according RFC 3647) internal revewing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obot certificates (3 « commands »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figure cache CR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lanning to move CA machines (from Toulouse to Ly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83000"/>
              </a:lnSpc>
              <a:spcAft>
                <a:spcPts val="850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grate HSM (FIPS 140-2 lvl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2720" y="5075280"/>
            <a:ext cx="70567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ekt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e Gross</dc:creator>
  <dc:description/>
  <dc:language>en-US</dc:language>
  <cp:lastModifiedBy>Alice</cp:lastModifiedBy>
  <dcterms:modified xsi:type="dcterms:W3CDTF">2009-01-27T07:07:20Z</dcterms:modified>
  <cp:revision>42</cp:revision>
  <dc:subject/>
  <dc:title>1989 -&gt; 1993</dc:title>
</cp:coreProperties>
</file>