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2720" cy="9856800"/>
          </a:xfrm>
          <a:custGeom>
            <a:avLst/>
            <a:gdLst>
              <a:gd name="textAreaLeft" fmla="*/ 360 w 6732720"/>
              <a:gd name="textAreaRight" fmla="*/ 6732360 w 67327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22">
                <a:moveTo>
                  <a:pt x="5" y="0"/>
                </a:moveTo>
                <a:arcTo wR="5" hR="5" stAng="16200000" swAng="-5400000"/>
                <a:lnTo>
                  <a:pt x="0" y="31617"/>
                </a:lnTo>
                <a:arcTo wR="5" hR="5" stAng="10800000" swAng="-5400000"/>
                <a:lnTo>
                  <a:pt x="21595" y="3162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3120" y="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1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84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361440"/>
            <a:ext cx="291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098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20E40-6940-42E1-B5B3-D505370DFA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79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E36F-3E30-4FCA-89EB-C2DC89BDD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89F1-AAAD-4122-A8AE-4FB8D22D2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7529-0D55-41C5-9F15-D9AFEB5C2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90AD-8EB2-41C9-AC0D-AA107676E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D444-2D1F-4E51-9AD6-D940FC1772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6A832-A8E8-4C0D-A528-18FBC3204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ECA7B-1996-45C9-8E8C-DC035B8623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AF7E9-0FAB-422C-88A3-663EA76487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5862F-02D7-4DF8-B4DC-DDE6681727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4C8E9-C17D-449C-A32F-2EE678866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8D083-7F88-4BCF-A137-C13BDDCF0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4667-3EC5-4BFD-AF71-905C6E5DF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6235F-15FF-4B4D-8E4E-B2B637FAE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FEC3-053E-451A-88B9-7F7653C7C3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D1036-5602-41F8-851D-2ACC5BADE1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FE023-325A-41D8-A3AA-8290B6252A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48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7960" y="134100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264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48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7960" y="3970440"/>
            <a:ext cx="27831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E7D62-51CD-410B-9DBF-44D7229D0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CC80-7A13-48F0-BB28-FEC32DC68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1981-211F-4FF9-B2BC-465F51FEB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3A2F-2AEF-4EC8-A951-52996E159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3280" y="6120"/>
            <a:ext cx="75549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9DCF-D0A5-43A4-B170-2D2DD87D1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CE9A-4C96-4861-956B-0D7C73360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7044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2AA6-2749-4CD6-A15F-827172768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341000"/>
            <a:ext cx="421812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2640" y="3970440"/>
            <a:ext cx="8643960" cy="24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F6CC-C170-4229-986E-A92C30E92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763640" y="6597360"/>
            <a:ext cx="611208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5th EUGridPMA, January 28</a:t>
            </a:r>
            <a:r>
              <a:rPr b="0" lang="et-EE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9E63F-9452-43CD-A5CE-456EEB8D58D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57200"/>
            <a:ext cx="9144000" cy="5194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e8f6">
                  <a:alpha val="6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53600" y="6448320"/>
            <a:ext cx="590400" cy="4096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" y="2276640"/>
            <a:ext cx="9140760" cy="2736720"/>
          </a:xfrm>
          <a:prstGeom prst="rect">
            <a:avLst/>
          </a:prstGeom>
          <a:gradFill rotWithShape="0">
            <a:gsLst>
              <a:gs pos="0">
                <a:srgbClr val="064977">
                  <a:alpha val="49019"/>
                </a:srgbClr>
              </a:gs>
              <a:gs pos="50000">
                <a:srgbClr val="d5e8f6"/>
              </a:gs>
              <a:gs pos="100000">
                <a:srgbClr val="064977">
                  <a:alpha val="49019"/>
                </a:srgbClr>
              </a:gs>
            </a:gsLst>
            <a:lin ang="5400000"/>
          </a:gradFill>
          <a:ln w="9360">
            <a:solidFill>
              <a:srgbClr val="064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1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altic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id</a:t>
            </a:r>
            <a:r>
              <a:rPr b="0" lang="et-EE" sz="3600" spc="-1" strike="noStrike">
                <a:solidFill>
                  <a:srgbClr val="ffffff"/>
                </a:solidFill>
                <a:latin typeface="Arial"/>
              </a:rPr>
              <a:t> Certification Auth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53600" y="6453360"/>
            <a:ext cx="590400" cy="40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44280"/>
            <a:ext cx="755496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59772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1763640" y="6597360"/>
            <a:ext cx="6112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ame, date and place of the 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027640" y="6597360"/>
            <a:ext cx="3538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BCDD7D-AB20-4289-8195-CF12D63761BE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3640" y="6597720"/>
            <a:ext cx="61182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15th EUGridPMA, January 28</a:t>
            </a:r>
            <a:r>
              <a:rPr b="0" i="1" lang="et-EE" sz="10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2009, Nico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28000" y="6597720"/>
            <a:ext cx="3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E3FF8-8F9D-4C40-B491-612FAC003C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66880"/>
            <a:ext cx="863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292640"/>
            <a:ext cx="86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040" y="6072120"/>
            <a:ext cx="824040" cy="4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 Advice (must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s phrase of the encrypted private key must be kept also on an offline medium, separated from the encrypted private keys and guarded in a safe place where only the authorized personnel of the CA have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everything in one safe accessible only for the Director of E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have a separate safe for CA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L profile must be vers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now there are version 1 CRLs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EM file is availe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 needs several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archiving and auditing  procedures should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CRL v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90100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i.teder@eenet.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76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ca.balticgrid.or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000" y="1341360"/>
            <a:ext cx="865008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ltic Grid 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Grid CA gives certificates to end entities which are located in Estonia, Latvia or Lithuania and have interest in grid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ed: Nov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EENet, Tartu, Est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tat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i T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õnu Raitvi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ri Anton (not any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3 issued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99 user, 297 host, 17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revo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5 LT, 292 LV, 275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3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9 user, 103 host, 1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uditing Guidelines for Grid 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commendation (min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ecommendation (major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Advice (must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 Could not evaluate (N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/CPS should be structured as defined in RFC36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FC 2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 lifetime must be no longer then 2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 certificate lifetime is not mentioned in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entity must request revocation of its certificate as soon as possible, but within one working day after detection of he/she lost or compromised the private key pertaining to the certificate or the data in the certificate are no longer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updates in CP/CPS and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 Recommendation (min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y be renewed or re-keyed for more than 5 years without a form of identity and eligibility verification, and this procedure must be described in the CP/C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/CPS updat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notification method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requests must only be rekeyd, not renew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igned same request a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CA management software does not allow that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udited all 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3280" y="6120"/>
            <a:ext cx="7554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 Recommendation (major chang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2640" y="1341000"/>
            <a:ext cx="864396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 must record and archive all requests and confirm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archived c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3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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CP/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jciech Zając</dc:creator>
  <dc:description/>
  <dc:language>en-US</dc:language>
  <cp:lastModifiedBy>Hardi Teder</cp:lastModifiedBy>
  <dcterms:modified xsi:type="dcterms:W3CDTF">2009-01-28T07:53:31Z</dcterms:modified>
  <cp:revision>23</cp:revision>
  <dc:subject/>
  <dc:title>Slajd 1</dc:title>
</cp:coreProperties>
</file>