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15CA-95A7-4AA7-BEF3-460C75B2BCBE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fere mais ao 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0D4FB-740E-4BDA-8DF7-FD5FF265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43C8A-2A37-4EFD-9A00-D2A93073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34BEF-9410-45BA-8AF6-C698C99F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F29A3-A16D-4CF4-830B-82AA531E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7C1E5-F9B1-49D4-9E95-5B180539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4B79B-4B83-4057-8950-0744919A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9EC89-7A92-4B30-A7C9-8E2D8087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05F73-9F35-4225-870F-CFE23EFC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29985-A000-4411-B155-0D839FD6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746EA-BE4D-4B83-9185-C6FB994F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03489-17D2-4C34-B499-D7E67625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A137B-B358-4949-8708-5ADE1A11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640" y="6244920"/>
            <a:ext cx="345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6th EUGridPMA Mtg, 11 May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1640" y="6244920"/>
            <a:ext cx="331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inod Rebello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  <a:ea typeface="ＭＳ Ｐゴシック"/>
              </a:rPr>
              <a:t>vinod@ic.uff.br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87280" y="112536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332000" y="1197000"/>
            <a:ext cx="633708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76360" y="1268280"/>
            <a:ext cx="6048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439640" cy="6667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EAF3-AED8-44CF-B304-B3AC491C45ED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1CE1-D039-4A80-AA66-61ECCB45B8ED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166920" cy="1467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agpma.org/files/MICS_AP_FINAL_1.1.pdf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5.jpeg"/><Relationship Id="rId24" Type="http://schemas.openxmlformats.org/officeDocument/2006/relationships/image" Target="../media/image6.png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confId=47" TargetMode="External"/><Relationship Id="rId2" Type="http://schemas.openxmlformats.org/officeDocument/2006/relationships/hyperlink" Target="http://indico.rnp.br/conferenceDisplay.py?confId=47" TargetMode="External"/><Relationship Id="rId3" Type="http://schemas.openxmlformats.org/officeDocument/2006/relationships/hyperlink" Target="http://indico.rnp.br/conferenceDisplay.py?confId=47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confId=47" TargetMode="External"/><Relationship Id="rId2" Type="http://schemas.openxmlformats.org/officeDocument/2006/relationships/hyperlink" Target="http://indico.rnp.br/conferenceDisplay.py?confId=47" TargetMode="External"/><Relationship Id="rId3" Type="http://schemas.openxmlformats.org/officeDocument/2006/relationships/hyperlink" Target="http://indico.rnp.br/conferenceDisplay.py?confId=47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agpma.es.net/wiki/pub/Main/SLCS2/SLCS-2.1c.pdf" TargetMode="External"/><Relationship Id="rId2" Type="http://schemas.openxmlformats.org/officeDocument/2006/relationships/hyperlink" Target="http://tagpma.es.net/wiki/bin/view/Main/SLCS2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16</a:t>
            </a:r>
            <a:r>
              <a:rPr b="0" lang="en-US" sz="4400" spc="-1" strike="noStrike" baseline="30000">
                <a:solidFill>
                  <a:srgbClr val="ff0000"/>
                </a:solidFill>
                <a:latin typeface="Impact"/>
              </a:rPr>
              <a:t>th</a:t>
            </a: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 EUGridPMA Meeting</a:t>
            </a:r>
            <a:br>
              <a:rPr sz="44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n Update from the 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AGPM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Impact"/>
              </a:rPr>
              <a:t>Vinod Rebello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360" y="4436640"/>
            <a:ext cx="7983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Impact"/>
              </a:rPr>
              <a:t>Zurich, Switzerland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11th May 2009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8360" y="2492280"/>
            <a:ext cx="3527280" cy="1287000"/>
            <a:chOff x="468360" y="2492280"/>
            <a:chExt cx="3527280" cy="1287000"/>
          </a:xfrm>
        </p:grpSpPr>
        <p:sp>
          <p:nvSpPr>
            <p:cNvPr id="97" name=""/>
            <p:cNvSpPr txBox="1"/>
            <p:nvPr/>
          </p:nvSpPr>
          <p:spPr>
            <a:xfrm>
              <a:off x="522360" y="249228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8360" y="313668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0323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MI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urrent IGTF version of the MICS profile (V1.0 17/07/2007) is undergoing revi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approved V1.1 (02/05/08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tagpma.org/files/MICS_AP_FINAL_1.1.pd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Language update to bring it in line with other profi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Does NOT contain changes (yet) to Section 3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e next sl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anguage used in Profi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GTF membership growing steadi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iversity is leading to various (valid?) interpretations of Auth. Profile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 lot of common/similar text in all three A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s the true intent of the policy statements being captured by the current language in the APs or is the meaning of the writers being forgott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e Jens’ Kihon Soapbox Presenta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Vinod brought this up at the last EUGridPMA meeting with respect to the Classic Prof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or MICS, TAGPMA members are requesting an IGTF discussion on what constitutes “traceability” before addressing Section 3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Other Relevant Highligh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Revived Bridge W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When can we move to SHA-2?” discu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Jim Basney showed that InCommon Federation’s Silver Identity Assurance Policy meets current SLCS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oE Grids Audit Report – Some interesting feedback that perhaps should somehow filter back into Yoshio’s Audit guidelines – See Mike’s tal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would be happy to be responsible for DoE Grid CA should ESnet wish to transfer accreditation from EUGridP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lmost Accredited FiNALly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ermi Lab’s SLSC CA is almost accredited (credits to Irwin Gaines) – only missing the OK from one reviewer for the Operational Re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ill be in the next IGTF distrib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lso expect NCSA’s Federated-SLCS CA to be accredited before the next distribution is due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urther questions to Jim Basne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he MICS CA from TACC is also pretty clo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x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Proposing a joint PMA (IGTF all hands) meeting in Banff, Alberta, Canada, during week of the 12th October 2009, co-located wit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OGF 27, 12th to 16th Octob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IEEE Grid 2009, 13th to 15th Octob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Cybera/CANARIE National Summit, 13th to 15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Considering extending the IGTF Session to one and half or two days during OGF and using some part of Saturday 17th to minimise overlap with other ev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Please discus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Given Banff is going to busy, need to make arrangements and reservations 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s are now on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Wednesdays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13th May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Video ESNet 884483 or GDS 0011349884483 or phone 1-510-883-7860 88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The agenda is usually posted on tagpma-general the day befo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el free to join in and participate in any of our meeting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36720" y="1484280"/>
            <a:ext cx="51829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RC – Canad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ESnet (DOEGrids)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ELA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Fermi National Accelerator Laboratory -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EBCA/USHER/Dartmouth College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BDS (ANSP) -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WLCG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CSA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ERS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pen Science Grid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Purdue University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REUNA – Ch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San Diego Supercomputer 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Center 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SENAMHI – Pe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TAC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eraGrid (PSC) – USA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xas High Energy Grid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University of Virginia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FF –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LA – Venezuel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AM – Mexico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LP – Argentin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The image “http://www.lib.utexas.edu/maps/americas/americas_pol96.jpg” cannot be displayed, because it contains errors."/>
          <p:cNvPicPr/>
          <p:nvPr/>
        </p:nvPicPr>
        <p:blipFill>
          <a:blip r:embed="rId23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46920" y="5451480"/>
            <a:ext cx="2817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IGTF Accredited CA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Verdana"/>
              </a:rPr>
              <a:t>CA Accreditation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Interested in accred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lying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4"/>
          <a:stretch/>
        </p:blipFill>
        <p:spPr>
          <a:xfrm>
            <a:off x="0" y="1916280"/>
            <a:ext cx="36972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ntinues to be 22 Members from North, Central and South Amer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11 IGTF Accredited CAs (8 Classic, 2 SLCS, 1 MIC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urther 1 Classic, 2 SLCS and 1 MICS CAs in process of accreditation </a:t>
            </a:r>
            <a:r>
              <a:rPr b="0" lang="en-US" sz="1800" spc="-1" strike="noStrike">
                <a:solidFill>
                  <a:srgbClr val="008000"/>
                </a:solidFill>
                <a:latin typeface="Verdana"/>
              </a:rPr>
              <a:t>(more on this later)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+ 3 more about to beg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charter updated (currently v2.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Outlines process for “involuntary resignation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embership states: active; inactive (automatic if don’t participate in TAGPMA activities for a year); and suspended (requires TAGPMA vote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Loss of membership implies loss of accredi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90760"/>
            <a:ext cx="807552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s of the Cyprus EUGridPMA meeting (Jan 2009), accreditation transferred to TAGP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NARIE has handed over/back management and operations of the Canadian Grid CA to Canadian National Research Council (NR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RC has substituted CANARIE as a TAGPMA member with Roger Impey is the new PO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RC will audit existing system then upgrade entire infrastructure and update policy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However, NRC do not expect any interruption to the servi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GridCanada 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Offic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hai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inod Rebello (UFF – Brazi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ice-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Jim Marstellar (PSC – US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argaret Murray (UT-Austin – US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rusted Introducer (nominated by the Chai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ike Helm (ESNet/LBL – US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Term of office ends in July 2009. Elections to be held between May and June. Existing officers will not be running again so expect new names for next meet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as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9th TAGPMA F2F at Pittsburgh Supercomputing Center, Pittsburgh, PA, 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pril 30</a:t>
            </a:r>
            <a:r>
              <a:rPr b="0" lang="en-US" sz="22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– May 2</a:t>
            </a:r>
            <a:r>
              <a:rPr b="0" lang="en-US" sz="2200" spc="-1" strike="noStrike" baseline="30000">
                <a:solidFill>
                  <a:srgbClr val="333399"/>
                </a:solidFill>
                <a:latin typeface="Verdana"/>
              </a:rPr>
              <a:t>nd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, 2009, 9am – 6p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genda details can be found here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indico.rnp.br/conferenceDisplay.py?confId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=47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Full minutes will be posted so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Highlights to follow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Just Prior to the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SC hosted a 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derated Identity Workshop (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pril 29</a:t>
            </a:r>
            <a:r>
              <a:rPr b="0" lang="en-US" sz="2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) open to the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Objective was to discuss the state of existing and upcoming Federation technologies; what is available and what is needed for interoperability between different commun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resentations can be found here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indico.rnp.br/conferenceDisplay.py?confId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=4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InCommon seemed keen to work IGTF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erizon Business (CyberTrust) showed willingness host IGTF CAs along the lines (I guess) of Quo Vad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With SafeNet/Aladdin merger less likely to have HSM-like toke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GTF Charter Amend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he TAGPMA voted to approve the EUGridPMA proposed amendment to Namespace Assignment Policy described in Section 3.1 of V1.1 of the IGTF Charter (25 June 2008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L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urrent IGTF approved version of the SLCS Profile is 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2.1c, 03/02/2009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tagpma.es.net/wiki/pub/Main/SLCS2/SLCS-2.1c.pd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Only minor changes from 2.1b to 2.1c (correction to referenc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mplete revision history on the wiki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tagpma.es.net/wiki/bin/view/Main/SLCS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Vinod Rebello</dc:creator>
  <dc:description/>
  <dc:language>en-US</dc:language>
  <cp:lastModifiedBy>Vinod Rebello</cp:lastModifiedBy>
  <dcterms:modified xsi:type="dcterms:W3CDTF">2009-05-11T00:11:41Z</dcterms:modified>
  <cp:revision>103</cp:revision>
  <dc:subject>EUGridPMA Zurich May 2009</dc:subject>
  <dc:title>TAGPMA Updates</dc:title>
</cp:coreProperties>
</file>