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621-4CEF-4E5D-BD82-1EEF4718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6B4-C257-4665-A6F8-E5E497D3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F78-1A26-46F4-98C9-CCE5F899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326-F4E7-40D5-87F3-A41D1F58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1F9-1913-40B7-95F1-EFBBA8EC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CC0-BF34-4774-A3E2-98741F52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FB8-E8DA-428D-9E10-00CB8F35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9ED-31FC-464D-90D9-113DFAF4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778-61E4-4414-B89B-CDEEEC70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56C-E87A-432B-A36D-7B257216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4C8-687A-4A3F-A3A0-F9C563CE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080-F9CD-4C95-ADC4-C68F8AC2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8C54D-A973-4C57-9F95-8F21B7673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isk Assessment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tagpma.es.net/wiki/bin/view/IGTF-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gtf-rat@eugridpm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A50B1-D778-48ED-ACB8-267766DB2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Ps Not Updating CRL U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Grids CA reported (Apr 11) that about 25% of CRL requests are to the old UR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L changed in IGTF distribution a month earl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is a concer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ction should we t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E43BA-91DE-41AA-B165-E16758BD3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D5 hash collisions in X.509 certific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for new certificates issued using MD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GTF should not have any of thes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90102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so concern about MD5 weakness in genera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 certificates (and subordinat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ld CNRS subordinate using MD5; new CNRS2 hierarchy using SHA1 released Januar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PACGrid, Grid-Ireland, UK eScience, KFKI RMKI, IUCC, Polish Grid, Grid Canada still using MD5 in CR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rid-Ireland and UK eScience will switch to SHA-1 by Ju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xy certificates (Globus, VOMS, MyProx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us migrating away from MD5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tp://bugzilla.globus.org/globus/show_bug.cgi?id=661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C4262-B066-4459-A910-4B912A275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EC)DSA EE Ke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SSL client vuln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ikely that IGTF CAs have certified (EC)DSA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90108.t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 requested CAs to a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CAs found (EC)DSA certific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(EC)DSA certificates valid until Aug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FCB4E-9C75-4D75-B45B-7FF595251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nity Checking Requ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SA Exponent &lt; 655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are tokens (pkcs11-tool) tend to generate exponents 3 &amp; 5 by defa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n-weak (Debian OpenSSL)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C)D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9FF70-0934-43D4-A07A-068312B38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7A609-C12B-4962-8B85-56F7BD291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://tagpma.es.net/wiki/bin/view/IGTF-RAT/2009-0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melin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5 Jan: RAT begins drafting mess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1 Feb: Request sent to CA opera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3 Feb: 57 of 80 CAs responded; reminder s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 Mar: 75 of 80 CAs responded; reminder s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6 Mar: 77 of 80 CAs respon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7 Apr: 77 of 80 CAs responded; reminder s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 Apr: 78 of 80 CAs respon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7383E-28DA-483B-81BE-69A745B9D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CAs issued certificates containing (EC)DSA keys, expiring by Aug 27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 CAs issued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CAs are currently issuing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 CAs issued CRLs using MD5. 7 are currently issuing CRL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9 CAs have implemented automated checks for RSA keys with weak expon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CAs have implemented automated checks for known weak Debian OpenSSL ke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8 CAs have implemented automated checks for issued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33A05-FB07-44AD-9C1F-EAB268BE4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ail to CA contact address in distrib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survey (surveymonkey.co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bjection received; response sent by email inst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s considered priv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y results publi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publish response times for each C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47420-E3B5-4D45-AEBB-C7CC66492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-1 -&gt; SHA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D5 weaknesses remind us about weaknesses in SHA-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ST advises to replace SHA-1 by end of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-1 Collision search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iaik.tugraz.at/content/research/krypto/sha1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is our level of concern about SHA-1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ath forward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stand software support for SHA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with middleware providers to support SHA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urage upgrade to OpenSSL 0.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relying parties support SHA-2 (in 2010?), begin issuing SHA-2 certific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DC1F3-6A31-4CF5-B671-5C9496257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0:22:18Z</dcterms:created>
  <dc:creator>Jim Basney</dc:creator>
  <dc:description/>
  <dc:language>en-US</dc:language>
  <cp:lastModifiedBy>Jim Basney</cp:lastModifiedBy>
  <dcterms:modified xsi:type="dcterms:W3CDTF">2009-05-11T00:52:10Z</dcterms:modified>
  <cp:revision>15</cp:revision>
  <dc:subject/>
  <dc:title>IGTF RAT</dc:title>
</cp:coreProperties>
</file>