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9A3-E6B9-47D5-88C0-29D4DBA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0C0-08EE-4729-8CEA-08ED1F5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450-39F0-4C30-9305-55109F38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1A1-BC76-49D3-9B7A-4016F019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8D5-DD4F-4104-B500-A6643E0F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CD4-053A-4924-B90C-6EC5AC8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7E4-4FE6-452F-9F2D-2B2493FC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011-6EAE-480D-BBD4-F3EC627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174-5874-4A90-AA56-4E928963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BF3-12CE-4ABC-AFA0-BEE7255F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1B4-C300-4C2A-B814-4D6D5D8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6C8-7023-4B9B-8AB2-33A98A6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5BF-6CE3-4B2C-8E11-BF6B704F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odle.com/r5cnvskcftf534nz" TargetMode="External"/><Relationship Id="rId2" Type="http://schemas.openxmlformats.org/officeDocument/2006/relationships/hyperlink" Target="http://doodle.com/r?url=http%3A%2F%2Fwww.doegrids.org%2FDocs%2FDOEGrids-3.1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4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DB05-244A-4D77-AAFF-BC0233CB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DOEGrids.jpg"/>
          <p:cNvPicPr/>
          <p:nvPr/>
        </p:nvPicPr>
        <p:blipFill>
          <a:blip r:embed="rId6"/>
          <a:stretch/>
        </p:blipFill>
        <p:spPr>
          <a:xfrm>
            <a:off x="6019920" y="1600200"/>
            <a:ext cx="1558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C4E-B237-4A43-A560-4DCFE03BC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udit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 800-53 framework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PKI CSPP – working on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Review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Security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G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-issu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nges caused a lot of trou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from Iplanet CMS to Redhat CS using old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other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every automatically issued certificate (renewals, certain kinds of RA agent functions) since Ju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CF3-255A-4099-91DF-09A169E1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now pass lovingly over these documents as time permi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DOEGridsInternalAudit2007Report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f work done on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Audit2007-Response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odle.com/r5cnvskcftf534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egrids.org/Docs/DOEGrids-3.1.d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087-32CB-4EF6-811C-8658B8C1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backgroun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up for audit in Se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of various features Nov-Dec 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su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s: census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” style committee, focused on early version of IGTF Audi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port Amsterdam Ja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Report Au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3647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” Audi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046-C32C-4D9F-B7C8-05F57AC8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Repo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matters of interest to auditors; includes significant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list – discussed in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net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lan for issues found in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uditors’ spreadsheet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6197-AA67-4293-A8D5-C06EAE69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al with ID verificatio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As to maintain identificat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PS format to RFC 36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offering a MICS-typ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/revamp DOEGrids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D &amp; authentication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DFB4-1669-4882-9B36-4866104E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into 2 class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opics with obvious seriousness, where either the documentation was missing, or the CA operations didn’t conform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ssentially minor documentation error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7C6-9779-429C-B758-7C3413A6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Audit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Verification (initial) was resolved at Amsterdam -&gt; resulted in TTP 1S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re-verification remains an ope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record retention – unde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 -&gt; see the “CA cloning”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CPS to RFC 3647– done – v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PS according to Audit Log – done v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Grids PMA re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remains a futur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13D-41C3-4BB2-A5D3-52BD5963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implemented at Apr 2008 TAGPMA at NERS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ESnet RA &amp; Philips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of v 2.10 -&gt; RFC 3647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DOEGrids Audit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C4F-35C9-4CBC-B3A3-E3D6257F4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hru DOEGrids PMA approv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ESne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reflects the reality of how we must operate the CA &amp; its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troversial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serve the right to make chang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the right to cause a certificate to be revoked (or other CA operatio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&amp; confidentiality (N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C48-8D98-435C-A772-B21B2BB5B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issues become the next work program after DOEGrids CPS 3.1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re-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ifficult communit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s to support this are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currently studying the demographics &amp; plan to have a program for re-verifying ancient subscribers in place by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 responsibilities &amp;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P/GFD 125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gradual adoption – another community relations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identified as a custom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PS restru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RA Disclosure appendices, put in DOEGrids PM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ynamic content 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– linking with NIST 800-53 – based security and practic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various anachronisms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4:49:47Z</dcterms:created>
  <dc:creator>michael helm</dc:creator>
  <dc:description/>
  <dc:language>en-US</dc:language>
  <cp:lastModifiedBy>helm</cp:lastModifiedBy>
  <dcterms:modified xsi:type="dcterms:W3CDTF">2009-05-12T09:14:40Z</dcterms:modified>
  <cp:revision>26</cp:revision>
  <dc:subject/>
  <dc:title>DOEGrids Audit Report</dc:title>
</cp:coreProperties>
</file>