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3D3E-2BD5-461A-8D09-9D1B7D0959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EDBA-6FED-4525-B135-53ECC61CA4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02C49-57F9-481F-8AC5-325F84E04D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3728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98ED2-9440-43D5-96DD-C67BB9AB1C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3728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3728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19761-8BD9-400B-A1B8-595AF7D526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02896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02896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3728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3728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3728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7BC56-9221-41A0-8169-A72C7118E2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B6930-4F13-4083-8417-7F4A048F6E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202896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C00AB-FEF3-4E65-A5B4-D4821C9752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38FD9-1925-4635-9421-39906764FA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202896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3D750-97CA-4A11-8981-DBF002DB40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29B09-EFB2-414E-9EFF-A9DC2DAC55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276200"/>
            <a:ext cx="8229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827D6-0A94-43E8-8C3E-260A03EB56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02896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33728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7DEDF-1494-4A38-81CB-AD1081D1B2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02896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30572-DC86-48EE-A7F0-8FFA217DD2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33728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2C3F8-B381-4A30-A527-574AAF7A8A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33728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9E627-61D5-4ECF-816C-9FC5FE562A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33728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A56DE-9CA0-4D64-87D2-44A2C65D0F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728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33728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66912-FED2-4604-A754-BF5442CB2A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202896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202896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33728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33728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33728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F2310-80EC-4065-811E-A87F04B660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83187-1687-4D86-BB88-BFB6FE97D1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02896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F9FC1-64A8-4D71-B013-FCCE3CA68C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E87C4-3954-4960-A3DF-AB0CC55D60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76200"/>
            <a:ext cx="8229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D08C4-58B0-4265-A530-9340181891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02896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3728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1152C-03A4-44DB-93B4-34198CC0F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3728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5A901-5D03-465A-BD8C-7CB9E516E6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3728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60DF9-5131-4753-9FDE-A7AB49C692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1" descr="QV_border_qv"/>
          <p:cNvPicPr/>
          <p:nvPr/>
        </p:nvPicPr>
        <p:blipFill>
          <a:blip r:embed="rId2"/>
          <a:stretch/>
        </p:blipFill>
        <p:spPr>
          <a:xfrm>
            <a:off x="-14400" y="-14400"/>
            <a:ext cx="9158400" cy="6872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762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02896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52720"/>
            <a:ext cx="380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0455-D883-46B7-986B-A25D801EB927}" type="slidenum">
              <a:rPr b="0" lang="en-GB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QVlogo2008.jpg"/>
          <p:cNvPicPr/>
          <p:nvPr/>
        </p:nvPicPr>
        <p:blipFill>
          <a:blip r:embed="rId3"/>
          <a:stretch/>
        </p:blipFill>
        <p:spPr>
          <a:xfrm>
            <a:off x="358920" y="311040"/>
            <a:ext cx="253980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QV_border_qv"/>
          <p:cNvPicPr/>
          <p:nvPr/>
        </p:nvPicPr>
        <p:blipFill>
          <a:blip r:embed="rId2"/>
          <a:stretch/>
        </p:blipFill>
        <p:spPr>
          <a:xfrm>
            <a:off x="-14400" y="-14400"/>
            <a:ext cx="9158400" cy="6872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QVlogo2008.jpg"/>
          <p:cNvPicPr/>
          <p:nvPr/>
        </p:nvPicPr>
        <p:blipFill>
          <a:blip r:embed="rId3"/>
          <a:stretch/>
        </p:blipFill>
        <p:spPr>
          <a:xfrm>
            <a:off x="339840" y="330120"/>
            <a:ext cx="2539800" cy="635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Swissanchor.gif"/>
          <p:cNvPicPr/>
          <p:nvPr/>
        </p:nvPicPr>
        <p:blipFill>
          <a:blip r:embed="rId4"/>
          <a:stretch/>
        </p:blipFill>
        <p:spPr>
          <a:xfrm>
            <a:off x="1373040" y="1935000"/>
            <a:ext cx="6143760" cy="1791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2762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02896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7225-9A10-4C1A-B0CA-2F5E288A66EC}" type="slidenum">
              <a:rPr b="0" lang="en-GB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4350960"/>
            <a:ext cx="645156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QuoVadis Group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5235120"/>
            <a:ext cx="6400800" cy="9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oman Brunner, Group CE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pdate for EUGridPMA – May 12, 200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2762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Example:  Trust/Link SSL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2028960"/>
            <a:ext cx="4280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-vetted details allows immediate issuance of SSL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emplates for consistency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institution “accounts”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legated administration, ability to accommodate different approval regime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ngle login for Subscribers to manage all their SSL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ustom emails for lifecycle event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lexibility for certificate types, use of SANs, etc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QuoVadis can provide demonstrations for interested group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5008680" y="2092320"/>
            <a:ext cx="359712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4350960"/>
            <a:ext cx="645156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Roman Brunner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5235120"/>
            <a:ext cx="6400800" cy="9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.brunner@quovadisglobal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+41 71 272 60 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2762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QuoVadis Snapsho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02896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unded 1999 as Commercial Certification Authority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ffices in Switzerland, UK, Holland, Bermuda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rganisations want to “use digital certificates” more than “run their own PKI”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mplexity of PKI policy and technology can distract from the actual busines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QuoVadis provides turnkey solutions surrounding digital certificates and digital signature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llow the customer to focus on their users and core systems/processe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ritical mass to provide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pecialised registration systems to improve user experience, compliance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ure hosting and operations of the PKI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pport for arcane PKI issue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udits and accreditation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ide distribution of roots in OS and Browser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2762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o It Yourself ?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49480" y="39798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</a:rPr>
              <a:t>O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98600" y="1917720"/>
            <a:ext cx="135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Oper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policy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995120" y="54100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Arch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7665120" y="1373040"/>
            <a:ext cx="10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3622680" y="2819520"/>
            <a:ext cx="17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3305160" y="374184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Oper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1523160" y="502920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Root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313560" y="31240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3278160" y="57657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604120" y="2666880"/>
            <a:ext cx="12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Smart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issu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4750200" y="3505320"/>
            <a:ext cx="118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2224080" y="419112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N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con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318200" y="4343400"/>
            <a:ext cx="13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Regul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311040" y="5105520"/>
            <a:ext cx="106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Renew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4606920" y="16714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O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7630920" y="5070600"/>
            <a:ext cx="132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Re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2016360" y="312408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Reg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8034120" y="35211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Le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l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5083200" y="565452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CP &amp; 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2"/>
          <p:cNvSpPr/>
          <p:nvPr/>
        </p:nvSpPr>
        <p:spPr>
          <a:xfrm>
            <a:off x="3729240" y="200664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Bac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3"/>
          <p:cNvSpPr/>
          <p:nvPr/>
        </p:nvSpPr>
        <p:spPr>
          <a:xfrm>
            <a:off x="2704680" y="495288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Firew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4"/>
          <p:cNvSpPr/>
          <p:nvPr/>
        </p:nvSpPr>
        <p:spPr>
          <a:xfrm>
            <a:off x="7313760" y="4206960"/>
            <a:ext cx="16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continuity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5"/>
          <p:cNvSpPr/>
          <p:nvPr/>
        </p:nvSpPr>
        <p:spPr>
          <a:xfrm>
            <a:off x="418320" y="5816520"/>
            <a:ext cx="24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Policy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6"/>
          <p:cNvSpPr/>
          <p:nvPr/>
        </p:nvSpPr>
        <p:spPr>
          <a:xfrm>
            <a:off x="6505920" y="564984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organ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7"/>
          <p:cNvSpPr/>
          <p:nvPr/>
        </p:nvSpPr>
        <p:spPr>
          <a:xfrm>
            <a:off x="6743160" y="1828800"/>
            <a:ext cx="8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8"/>
          <p:cNvSpPr/>
          <p:nvPr/>
        </p:nvSpPr>
        <p:spPr>
          <a:xfrm>
            <a:off x="3842640" y="520704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End-to-end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9"/>
          <p:cNvSpPr/>
          <p:nvPr/>
        </p:nvSpPr>
        <p:spPr>
          <a:xfrm>
            <a:off x="994320" y="38178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Operations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0"/>
          <p:cNvSpPr/>
          <p:nvPr/>
        </p:nvSpPr>
        <p:spPr>
          <a:xfrm>
            <a:off x="7498800" y="251460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System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1"/>
          <p:cNvSpPr/>
          <p:nvPr/>
        </p:nvSpPr>
        <p:spPr>
          <a:xfrm>
            <a:off x="5557680" y="19051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2"/>
          <p:cNvSpPr/>
          <p:nvPr/>
        </p:nvSpPr>
        <p:spPr>
          <a:xfrm>
            <a:off x="2084040" y="1922400"/>
            <a:ext cx="11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end-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3"/>
          <p:cNvSpPr/>
          <p:nvPr/>
        </p:nvSpPr>
        <p:spPr>
          <a:xfrm>
            <a:off x="5758920" y="472428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4"/>
          <p:cNvSpPr/>
          <p:nvPr/>
        </p:nvSpPr>
        <p:spPr>
          <a:xfrm>
            <a:off x="2346840" y="2674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5"/>
          <p:cNvSpPr/>
          <p:nvPr/>
        </p:nvSpPr>
        <p:spPr>
          <a:xfrm>
            <a:off x="384120" y="43434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6"/>
          <p:cNvSpPr/>
          <p:nvPr/>
        </p:nvSpPr>
        <p:spPr>
          <a:xfrm>
            <a:off x="6059520" y="37339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7"/>
          <p:cNvSpPr/>
          <p:nvPr/>
        </p:nvSpPr>
        <p:spPr>
          <a:xfrm>
            <a:off x="6977880" y="289548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Concep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3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4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6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6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70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7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80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9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1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25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35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50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600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2762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Service Overview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202896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igital Certifica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nd User certificates, including Qualified and Advanced certificates, for various use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unctional certificates, including ElDI-V/GeBüV, code signing, gateway, etc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SL including the new Extended Validation SSL.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anaged PK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utsourced certification authorities (CA) that can be tailored to the particular needs of a client or community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apid-deployment Trust/Link registration authority (RA) web portals for easy issuance for both End User and SSL certificate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igning Servic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rusted time-stamping to reinforce data integrity and non-repudiation in the submission, storage/archive, or tracking of electronic record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gital signing tools (both client and server side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oot Servic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oot CA hosting for organisations wishing to set up their own trust anchors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oot CA signing enhances the trust and recognition of customers’ in-house CAs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KI policy, technologies, and integration into customer environment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2762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Root Distribution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2028960"/>
            <a:ext cx="4038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rowser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icrosoft Internet Explorer 5.0+ (including Maxthon and others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zilla Firefox 1.02+ (including Camino, Fennec, and Sea Monkey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pera 9.26+ (including Opera Mini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fari 1.0+  (including mobile Safari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oogle Chrom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onqueror and K-Mele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perating Syste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icrosoft Windows XP+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pple OS/X+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IM Blackberry 4+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Java (in progress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48320" y="2028960"/>
            <a:ext cx="4038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mail Clien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pple Mail.app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udora 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icrosoft Entourage 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icrosoft Outlook 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icrosoft Outlook Express 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zilla Thunderbird 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zilla Sea Monkey 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IM Blackberry Mail (part of Core Applications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icrosoft Office 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pen Offic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de array of OSS applications that use the Mozilla NSS libraries 3.9+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Adobe Acrobat (in progress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2762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Audits and Accreditations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202896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QuoVadis seeks accreditations in support of our client needs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ebTrust for Certification Authoritie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ebTrust for Extended Validatio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Swiss Qualified Certification Services Provid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Netherlands Qualified Certification Services Provid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Bermuda Authorised Certification Services Provid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Currently obtaining PKI Overheid Accreditation in the Netherland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2" descr="http://www.quovadisglobal.bm/~/media/Images/CompanyLogos/logo%20bermudaCSP.ashx"/>
          <p:cNvPicPr/>
          <p:nvPr/>
        </p:nvPicPr>
        <p:blipFill>
          <a:blip r:embed="rId1"/>
          <a:stretch/>
        </p:blipFill>
        <p:spPr>
          <a:xfrm>
            <a:off x="7550280" y="5557680"/>
            <a:ext cx="453960" cy="839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http://www.quovadisglobal.bm/~/media/Images/CompanyLogos/WebTrust%20CA.ashx"/>
          <p:cNvPicPr/>
          <p:nvPr/>
        </p:nvPicPr>
        <p:blipFill>
          <a:blip r:embed="rId2"/>
          <a:stretch/>
        </p:blipFill>
        <p:spPr>
          <a:xfrm>
            <a:off x="2576520" y="5557680"/>
            <a:ext cx="668160" cy="824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http://www.quovadisglobal.bm/~/media/Images/CompanyLogos/WebTrustEV.ashx"/>
          <p:cNvPicPr/>
          <p:nvPr/>
        </p:nvPicPr>
        <p:blipFill>
          <a:blip r:embed="rId3"/>
          <a:stretch/>
        </p:blipFill>
        <p:spPr>
          <a:xfrm>
            <a:off x="4259160" y="5556240"/>
            <a:ext cx="668520" cy="804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http://www.quovadisglobal.bm/~/media/Images/CompanyLogos/logo%20swissCSP.ashx"/>
          <p:cNvPicPr/>
          <p:nvPr/>
        </p:nvPicPr>
        <p:blipFill>
          <a:blip r:embed="rId4"/>
          <a:stretch/>
        </p:blipFill>
        <p:spPr>
          <a:xfrm>
            <a:off x="1035000" y="5557680"/>
            <a:ext cx="544680" cy="860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QuoVadis BSI seal ETS 010 for Dutch CSP"/>
          <p:cNvPicPr/>
          <p:nvPr/>
        </p:nvPicPr>
        <p:blipFill>
          <a:blip r:embed="rId5"/>
          <a:stretch/>
        </p:blipFill>
        <p:spPr>
          <a:xfrm>
            <a:off x="5943600" y="5557680"/>
            <a:ext cx="622440" cy="8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2762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QuoVadis Grid CA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2028960"/>
            <a:ext cx="4197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ustom GridCA built for SWITCH in compliance with EUGridPMA standard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pdates made to QuoVadis CP/CP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olved from QuoVadis relationship providing SSL to SWITCH institutions using Trust/Link SSL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vailable for other EUGrid members’ use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Reduce PKI management burde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mple interface for user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hained to QuoVadis root for wider “trust” in end user software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5245200" y="1952640"/>
            <a:ext cx="31114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2762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EUGridPMA Accreditation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02896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UGridPMA team has performed a detailed review and approval of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QuoVadis CP/CP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QuoVadis Grid Issuing CA, End User, Server and CRL certificate profile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repository on the QuoVadis website (http://www.quovadisglobal.com/repository) contains  the QuoVadis Grid Issuing CA certificate, the Grid CRL, and the QuoVadis Root Certificate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pdate to CP/CPS will be posted when CA goes into productio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QuoVadis are currently in progress with the TACAR applicatio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A big thanks to all the EUGridPMA reviewers for all their hard work, time, and input!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2762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ertificate Types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202896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ri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End User certificate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for authentication and secure e-mai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ri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Server certificate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for authentication and secure communication with Grid resourc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rid members who wish to use the Grid CA would sign up as Participating Institutions/Registration Authoriti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oVadis is working with SWITCH to document procedures for R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ertificates will be issued and managed using our Trust/Link web applications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rust/Link For End 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rust/Link For SS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8T13:09:53Z</dcterms:created>
  <dc:creator>EVC</dc:creator>
  <dc:description/>
  <dc:language>en-US</dc:language>
  <cp:lastModifiedBy>bkilborn</cp:lastModifiedBy>
  <dcterms:modified xsi:type="dcterms:W3CDTF">2009-05-11T13:37:20Z</dcterms:modified>
  <cp:revision>226</cp:revision>
  <dc:subject/>
  <dc:title>Slide 1</dc:title>
</cp:coreProperties>
</file>