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AEA-C219-4FDE-A304-C7E46EAD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348-05B7-43E7-A7FA-F8219D5E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A38-43CB-4C70-A3D5-1B159ED4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E34-B74A-4C82-BC1B-8650DE34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DCD-817F-4E78-A199-1BE87875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9FA-CDCC-4095-9C96-5C37029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C5D-3FA9-4BE7-A509-0202F551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A7F-025C-4308-8B34-74D6B10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BD5-1238-421B-87CB-95BB1528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299-11EC-47B2-9966-B312062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DD9-6738-44D9-BCAF-E5DE382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232-D255-45E6-BD28-55CB520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3911-4B55-4106-89A3-36C2B2FA4A0F}" type="slidenum">
              <a:rPr b="0" lang="en-GB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ngs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gridpp2_logo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’ 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soap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7715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’t be a PMA without a Soapbo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ens Jensen, R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U GridPMA, Switch, Z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ich, 11-13 May 200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frastructu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14240" y="2285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tworks – (internet/web needed for at least CR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in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ex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, hard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hysical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Front)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gging and archiving (if different) (WORM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 operator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gning infrastruct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SM, if us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per and/or on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people/ro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, adm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A manager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rs, RA operators (variation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(Self)audi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“Manual” Trus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otocopies (or equiv) of 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ppointment lett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s, if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ivate keys throughout PK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ssphr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4240" y="20714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availabi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dundancy, monitor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b050"/>
                </a:solidFill>
                <a:latin typeface="Lucida Grande"/>
              </a:rPr>
              <a:t>integr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up, integrity chec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nfidentia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cryption, physical protection, release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509520" y="3143160"/>
            <a:ext cx="2465280" cy="1068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dit resul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f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43040" y="2071440"/>
            <a:ext cx="62150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Assurance – Lo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ffort – L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xpertise – Lo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 of Contribution? – Lo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ing change – inertia – Lo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nghy vs supertank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Reputation(?) – L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tching up with changing requirem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neral rule of decay and obsoles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mponents,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: Rule of that curvy t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CA – exception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ping with special cases and err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on a case by case bas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 humans vs comps later in pr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S II &amp;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 AND 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dde Caesari quae sunt Caesari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o orthogonise or no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Humans vs Comput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Complex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CP/CPS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“1”S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software – see next Pa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(non-exhaustive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ither describe separate dimens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private key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identity vetting W&amp;F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cribe with 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IDs are not orde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.e,. .1 &gt; .2 &gt; .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Straight Connector 22"/>
          <p:cNvSpPr/>
          <p:nvPr/>
        </p:nvSpPr>
        <p:spPr>
          <a:xfrm flipH="1">
            <a:off x="2356920" y="5286240"/>
            <a:ext cx="7164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5"/>
          <p:cNvSpPr/>
          <p:nvPr/>
        </p:nvSpPr>
        <p:spPr>
          <a:xfrm flipH="1">
            <a:off x="3214800" y="5286240"/>
            <a:ext cx="7128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ond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stead of “how is it implemented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is the goal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LoA is achiev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APs relate to each other in this resp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mapp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r no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a good 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parates things that are separ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n-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asier to interpre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mapping to other levels (mayb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ivate key in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ssword protec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r genera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pers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2F id vett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GTF-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 am a Classic…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Humans vs Comput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uters are good at comput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computers do them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umans are good at human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ive human things back to huma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perating Manu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existing pract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special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courage too much crea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uidelines – goo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n IGTF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institution running the issuing auth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trust anchor, a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ert and a (sub-)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ollection of certs and 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person (le roi, c’est moi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Complex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simple things simple, complex things possible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things as simple as possible, but not simpler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mplexity has to go somewhe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Software Triang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Isosceles Triangle 3"/>
          <p:cNvSpPr/>
          <p:nvPr/>
        </p:nvSpPr>
        <p:spPr>
          <a:xfrm>
            <a:off x="2571840" y="2643120"/>
            <a:ext cx="3857400" cy="2714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071960" y="2071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500880" y="478620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27520" y="492912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plex)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 – web C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F can no longer import certs from fil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wards DNs, IE on Vis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version from PKCS#12 to P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/export for non-personal ce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rust web sites flag not set on cert imp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new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 into brows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pem of course is O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taining use of private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igning Polici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ation of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ood(ish) certs outside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re 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FC will release Java clients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n Source li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 soon as I get round to doing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Java clients STFC-licen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ee (beer) for non-commerci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 of the above (ish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lus the following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4240" y="22618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pport infrastructure (eg helpdesk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tact emails (e.g., 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ont end – certificate request/downloa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newal and RA interface (if differen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 end – signing serv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d OCSP, if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suance, renewal, 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me, most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usual ev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atisfying repository oblig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ublications according to local (usu country) la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PDNC… (see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’s GPG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ACAR registration paper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ttendance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presentation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audit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MA reviewer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itial, re-review: mails, spreadshee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nreq and AP implement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45:44Z</dcterms:created>
  <dc:creator>jj47</dc:creator>
  <dc:description/>
  <dc:language>en-US</dc:language>
  <cp:lastModifiedBy>jj47</cp:lastModifiedBy>
  <dcterms:modified xsi:type="dcterms:W3CDTF">2009-05-12T14:05:55Z</dcterms:modified>
  <cp:revision>135</cp:revision>
  <dc:subject/>
  <dc:title>Slide 1</dc:title>
</cp:coreProperties>
</file>