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CC39-60E2-4C4A-85F9-70DC1077FC0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C0AF-6DB0-4516-B624-287CC2738BF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50DD-F598-4619-BA67-514264C9790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3A4C-3AC2-477B-9683-B9500429CE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38CF-A399-4F90-B0D8-E80CEFFA35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448A-03B6-4D30-B6F8-010AEB753C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E5F8-AA39-4596-A45F-5509531824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79F8-B42F-4F95-B874-F883E7CA5C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D5FC-1D99-43DA-929E-C6FD02D1F3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91AB-A327-4724-8EAF-49D720B3BB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F6A6-1646-4B21-B96A-A73E687DCF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0046-E571-4004-B8A2-0B315C4F49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626BD-DDB8-4A2E-A3AC-040FB4A67E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D40C-0605-4338-A0C3-E8FF300EDA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FE0A-441E-45C1-8DA2-2ADF42A7E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711EC-5B43-461A-B540-D9790183B9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14DC-9608-4800-9CAA-90459A06B2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A690-1D3F-43FD-882F-0253320BCF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B114C-CCE1-4B4F-8A43-47D89BDC06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4160-E6CE-4CB5-BA9A-CDEDD15A87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3038-B9B0-45C5-B63F-4062047C1D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D524-79D0-4920-8718-C790C11CE9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0B52-8C23-490F-BAA5-F8D1BBCB07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670E-F0B9-4402-BF12-252DB2A1A83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004-5C42-42AB-865E-429C19F176D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456-4C04-4F1F-8231-4A7F3C9DFA1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E43-3D76-434E-B3C5-DE6D2C4C859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666-C3A1-4F2C-9A8C-0F72EB0D312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0A5-C4D0-49D4-B8A0-9E50E9D83C6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578-3175-4EAA-BDD7-35AFE977804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AD1-76FA-4A9B-9391-1ED4A190D8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5CD-725D-41DF-A162-5AC0FB033AC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311-FE66-46E1-94E3-3AE50A9B2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943-0C91-49D3-8DB4-B1854E1DFEC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D4C-363A-423A-B928-B498C3BD866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C23-C27B-4255-89EC-EF77F7B8FA4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879200"/>
            <a:ext cx="736632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e60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be6030"/>
              </a:solidFill>
              <a:latin typeface="Verdana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91520" cy="14223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rot="19007400">
            <a:off x="-329760" y="297000"/>
            <a:ext cx="1751040" cy="355320"/>
          </a:xfrm>
          <a:prstGeom prst="rect">
            <a:avLst/>
          </a:prstGeom>
          <a:solidFill>
            <a:srgbClr val="bd0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Hellas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596880" y="3822840"/>
            <a:ext cx="10147320" cy="3035160"/>
          </a:xfrm>
          <a:prstGeom prst="roundRect">
            <a:avLst>
              <a:gd name="adj" fmla="val 6273"/>
            </a:avLst>
          </a:prstGeom>
          <a:solidFill>
            <a:srgbClr val="ebebe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algn="ctr"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algn="ctr"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algn="ctr"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868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176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3528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9880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47880" y="1942920"/>
            <a:ext cx="280692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0000"/>
          </a:bodyPr>
          <a:p>
            <a:pPr marL="353160" indent="-2286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566640" indent="-2286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788760" indent="-2286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011240" indent="-22896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224720" indent="-22896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224720" indent="-22896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224720" indent="-22896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868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176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3528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9880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36680" indent="-25884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1" marL="725400" indent="-24264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2" marL="1058760" indent="-25848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3" marL="1376280" indent="-25884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4" marL="1681200" indent="-25884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5" marL="1681200" indent="-258840">
              <a:spcBef>
                <a:spcPts val="1599"/>
              </a:spcBef>
              <a:buClr>
                <a:srgbClr val="000000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6" marL="1681200" indent="-258840">
              <a:spcBef>
                <a:spcPts val="1599"/>
              </a:spcBef>
              <a:buClr>
                <a:srgbClr val="000000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02320"/>
            <a:ext cx="9144000" cy="355680"/>
          </a:xfrm>
          <a:prstGeom prst="rect">
            <a:avLst/>
          </a:prstGeom>
          <a:solidFill>
            <a:srgbClr val="bdbdbd"/>
          </a:solidFill>
          <a:ln w="12600">
            <a:solidFill>
              <a:srgbClr val="65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91520" cy="142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19007400">
            <a:off x="-355680" y="283680"/>
            <a:ext cx="1751040" cy="355680"/>
          </a:xfrm>
          <a:prstGeom prst="rect">
            <a:avLst/>
          </a:prstGeom>
          <a:solidFill>
            <a:srgbClr val="bd0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Verdana"/>
              </a:rPr>
              <a:t>HellasGrid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8780040" y="6540120"/>
            <a:ext cx="2811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191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C414-D4ED-4751-9F21-8AE6F0B6BCA1}" type="slidenum">
              <a:rPr b="0" lang="en-US" sz="1200" spc="-1" strike="noStrike">
                <a:solidFill>
                  <a:srgbClr val="919191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160" y="6572160"/>
            <a:ext cx="618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19191"/>
                </a:solidFill>
                <a:latin typeface="Verdana"/>
                <a:ea typeface="Verdana"/>
              </a:rPr>
              <a:t>16th EUGridPMA Meeting, 13 May 2009, Zur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50976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8408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6992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5576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2972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2972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2972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3124080"/>
            <a:ext cx="9144000" cy="3581280"/>
            <a:chOff x="0" y="3124080"/>
            <a:chExt cx="9144000" cy="3581280"/>
          </a:xfrm>
        </p:grpSpPr>
        <p:sp>
          <p:nvSpPr>
            <p:cNvPr id="122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22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9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21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4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66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193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65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810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37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382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0920" y="312408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81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4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26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53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625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48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70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197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242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769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14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41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864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13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436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19920" y="312408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08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530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057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102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629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152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674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01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724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246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773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296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18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345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868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390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9917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434340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4068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 fontScale="65000"/>
          </a:bodyPr>
          <a:p>
            <a:pPr marL="91440"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" indent="-65880" algn="ctr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" indent="-65880" algn="ctr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91440" indent="-65880" algn="ctr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91440" indent="-65880" algn="ctr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91440" indent="-65880" algn="ctr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91440" indent="-65880" algn="ctr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3869280" y="1003680"/>
            <a:ext cx="150840" cy="48448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2"/>
          </p:nvPr>
        </p:nvSpPr>
        <p:spPr>
          <a:xfrm>
            <a:off x="8034480" y="6248520"/>
            <a:ext cx="3124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353A-0856-4359-AAEB-19291FAB8E4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8840" y="2095200"/>
            <a:ext cx="7366320" cy="26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263" name=""/>
            <p:cNvSpPr/>
            <p:nvPr/>
          </p:nvSpPr>
          <p:spPr>
            <a:xfrm>
              <a:off x="0" y="259092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342900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350532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1320" y="302760"/>
            <a:ext cx="8001000" cy="167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7132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marL="44280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5064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60440" indent="-31752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3480" indent="-30168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36760" indent="-2952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36760" indent="-2952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36760" indent="-2952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"/>
          </p:nvPr>
        </p:nvSpPr>
        <p:spPr>
          <a:xfrm>
            <a:off x="8034480" y="6248520"/>
            <a:ext cx="3124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89C8-4977-45D3-B042-B2CCD6ABEC0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3962520" cy="13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406440" y="3378240"/>
            <a:ext cx="417816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406440" y="990720"/>
            <a:ext cx="417816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tria@grid.auth.gr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88840" y="1447920"/>
            <a:ext cx="736632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6030"/>
                </a:solidFill>
                <a:latin typeface="Verdana"/>
              </a:rPr>
              <a:t>Towards Managed Credential Stores and a “national” virtual smart card</a:t>
            </a:r>
            <a:endParaRPr b="0" lang="en-US" sz="4000" spc="-1" strike="noStrike">
              <a:solidFill>
                <a:srgbClr val="be6030"/>
              </a:solidFill>
              <a:latin typeface="Verdana"/>
            </a:endParaRPr>
          </a:p>
        </p:txBody>
      </p:sp>
      <p:sp>
        <p:nvSpPr>
          <p:cNvPr id="632" name=""/>
          <p:cNvSpPr/>
          <p:nvPr/>
        </p:nvSpPr>
        <p:spPr>
          <a:xfrm>
            <a:off x="2133720" y="4965840"/>
            <a:ext cx="6858000" cy="1726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96800" algn="r">
              <a:lnSpc>
                <a:spcPct val="98000"/>
              </a:lnSpc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6800" algn="r">
              <a:lnSpc>
                <a:spcPct val="98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Christos Kanellopoulos (skanct@grid.auth.g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800" algn="r">
              <a:lnSpc>
                <a:spcPct val="98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Christos Triantafyllidis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ctria@grid.auth.gr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800" algn="r">
              <a:lnSpc>
                <a:spcPct val="98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16th EUGridP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800" algn="r">
              <a:lnSpc>
                <a:spcPct val="98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Zurich, 13 Ma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-152280" y="3809880"/>
            <a:ext cx="98168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It has been stated numerous times: </a:t>
            </a:r>
            <a:r>
              <a:rPr b="0" lang="en-US" sz="2200" spc="-1" strike="noStrike" u="sng">
                <a:solidFill>
                  <a:srgbClr val="c36a3d"/>
                </a:solidFill>
                <a:uFillTx/>
                <a:latin typeface="Verdana"/>
              </a:rPr>
              <a:t>The users do not want to deal with certificat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507F-9C12-4C6B-B423-F4FE98387D3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ill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y are a proven technology for working on distributed computing infrastructur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and most importantly the provide a solution NOW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0DD5-17CB-4FDA-A275-7DDC1B163B1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to make the user experience bett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88840" y="1333440"/>
            <a:ext cx="7366320" cy="49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ry to move many of the standard operations to the web (registering to the grid, joining VOs, accessing UIs </a:t>
            </a:r>
            <a:r>
              <a:rPr b="0" i="1" lang="en-US" sz="2200" spc="-1" strike="noStrike">
                <a:solidFill>
                  <a:srgbClr val="c36a3d"/>
                </a:solidFill>
                <a:latin typeface="Verdana"/>
              </a:rPr>
              <a:t>[14th EUGridPMA meeting, Lisbon]</a:t>
            </a: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Leverage emerging national AAI as a more user friendly service for the user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Use MyProxy service for long term proxy storage. Retrieve proxies on  demand. What about security?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User convenience vs  Security !!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DCE2-CBE0-4293-A7FC-698441A0EE9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urity vs common pract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88840" y="1333440"/>
            <a:ext cx="7366320" cy="513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Almost all users generate their key pairs through the browser faciliti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private keys can be exported from the keystore of the browser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It is up to the user to configure the keystore in order to set a pass-phrase for accessing its content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private keys are also stored on a UI protected by filesystem ACL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Users store long term proxies on various MyProxy services for their convenience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B4E6-81FA-4F2A-9B33-CFCC2B129DB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on proble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Browser incompatibilities (IE6 vs IE7 vs IE8 vs Firefox vs Chrome etc etc)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How to transfer their certificates from the browser to the UI (or the other way around)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Forgetting passphras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Losing the private key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BBEF-BD9C-4E39-B436-C5A8E4CEFB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on User Pract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Almost all users generate their key pairs through the browser faciliti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private keys can be exported from the keystore of the browser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It is up to the user to configure the keystore in order to set a pass-phrase for accessing its content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private keys are also stored on a UI protected by filesystem ACLs 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6FF2-103A-4140-A80C-58CF661107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the works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On the HellasGrid Training Infrastructure we are focusing on using Greek National AAI in order to provide on demand generation and delivery of key pairs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One MyProxy service as an online CA, to generate and store user key pair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Use the production MyProxy service  to use for proxy storage and delegation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6921-8D8A-4764-8C0F-C659F25DD9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antages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88840" y="1333440"/>
            <a:ext cx="7366320" cy="518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marL="1109520" indent="-25848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user does not have to deal with private/public key generation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2" marL="1109520" indent="-25848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For normal grid usage the user just uses proxies and thus the private key pair does not have to be exposed in a large number of places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2" marL="1109520" indent="-25848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In case the user accidentally loses the key pair they can retrieve it again from the service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8B2D-69D8-428F-B79C-CDBAB9ECD72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s Triantafyllidis</dc:creator>
  <dc:description/>
  <dc:language>en-US</dc:language>
  <cp:lastModifiedBy/>
  <cp:revision>0</cp:revision>
  <dc:subject/>
  <dc:title>HellasGrid CA - RA Duties</dc:title>
</cp:coreProperties>
</file>