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39E-ED1A-42C6-A20E-7ECA3A17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1F1-2472-4A14-BAA1-31E61ABD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8D1-3D2F-45B7-AAC6-3333988F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7A6-51D8-411F-B027-DF4B7680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BB5-C895-41B0-8830-1FF5CF02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CB7-0900-4F1F-91F1-C8060A1B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80F-68C4-477B-9CA7-92A63834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268-268A-4412-BDDC-5E37B3CC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A4EE-D789-4E3C-BCEF-2DB1A839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BF00-3D52-4F7E-A622-3AA2488E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7232-4EAA-4DDD-9C0E-3BDA64E8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2E37-5888-4BFE-96D1-8BC186C9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AEDB-378C-4FB9-90F9-2A552E6E2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qs.org/rfcs/rfc2527.html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grading CP/CP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FC 2527             RFC 364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Calibri"/>
              </a:rPr>
              <a:t>Majid Arabgo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Calibri"/>
              </a:rPr>
              <a:t>IRAN GRID C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Calibri"/>
              </a:rPr>
              <a:t>Institute for Studies in Theoretcal Physics and Mathematic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Calibri"/>
              </a:rPr>
              <a:t>Teharn, Ira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4114800" y="3048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verse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3" descr="Picture 2.png"/>
          <p:cNvPicPr/>
          <p:nvPr/>
        </p:nvPicPr>
        <p:blipFill>
          <a:blip r:embed="rId1"/>
          <a:stretch/>
        </p:blipFill>
        <p:spPr>
          <a:xfrm>
            <a:off x="1728720" y="1600200"/>
            <a:ext cx="5686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4124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RFC 3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ld RFC 25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 Document Name and Identific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 Identific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mental  or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6 Audit collection system (internal vs. extern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.6 Audit Collection System (Internal vs. External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c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 Key Pair and Certificate U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.4, 2.1.3, 2.1.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figuration( merge /split /mo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.5 Time Within Which CA Must Process the Revocation Requ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Available (N/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nfigu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4.2.2-new.png"/>
          <p:cNvPicPr/>
          <p:nvPr/>
        </p:nvPicPr>
        <p:blipFill>
          <a:blip r:embed="rId1"/>
          <a:stretch/>
        </p:blipFill>
        <p:spPr>
          <a:xfrm>
            <a:off x="0" y="2743200"/>
            <a:ext cx="4237200" cy="3259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4.1-old.png"/>
          <p:cNvPicPr/>
          <p:nvPr/>
        </p:nvPicPr>
        <p:blipFill>
          <a:blip r:embed="rId2"/>
          <a:stretch/>
        </p:blipFill>
        <p:spPr>
          <a:xfrm>
            <a:off x="4343400" y="1523880"/>
            <a:ext cx="4800600" cy="252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4.2-old.png"/>
          <p:cNvPicPr/>
          <p:nvPr/>
        </p:nvPicPr>
        <p:blipFill>
          <a:blip r:embed="rId3"/>
          <a:stretch/>
        </p:blipFill>
        <p:spPr>
          <a:xfrm>
            <a:off x="4419720" y="4724280"/>
            <a:ext cx="47242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nfigu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4.5.2-new.png"/>
          <p:cNvPicPr/>
          <p:nvPr/>
        </p:nvPicPr>
        <p:blipFill>
          <a:blip r:embed="rId1"/>
          <a:stretch/>
        </p:blipFill>
        <p:spPr>
          <a:xfrm>
            <a:off x="0" y="2971800"/>
            <a:ext cx="4743360" cy="1739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1.3.4-old.png"/>
          <p:cNvPicPr/>
          <p:nvPr/>
        </p:nvPicPr>
        <p:blipFill>
          <a:blip r:embed="rId2"/>
          <a:stretch/>
        </p:blipFill>
        <p:spPr>
          <a:xfrm>
            <a:off x="3733920" y="1676520"/>
            <a:ext cx="5181480" cy="119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2.1.5-old.png"/>
          <p:cNvPicPr/>
          <p:nvPr/>
        </p:nvPicPr>
        <p:blipFill>
          <a:blip r:embed="rId3"/>
          <a:stretch/>
        </p:blipFill>
        <p:spPr>
          <a:xfrm>
            <a:off x="3632040" y="4952880"/>
            <a:ext cx="551196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remente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3" descr="4.12-new.png"/>
          <p:cNvPicPr/>
          <p:nvPr/>
        </p:nvPicPr>
        <p:blipFill>
          <a:blip r:embed="rId1"/>
          <a:stretch/>
        </p:blipFill>
        <p:spPr>
          <a:xfrm>
            <a:off x="685800" y="2743200"/>
            <a:ext cx="5032440" cy="1379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6.2.2-old.png"/>
          <p:cNvPicPr/>
          <p:nvPr/>
        </p:nvPicPr>
        <p:blipFill>
          <a:blip r:embed="rId2"/>
          <a:stretch/>
        </p:blipFill>
        <p:spPr>
          <a:xfrm>
            <a:off x="4952880" y="1752480"/>
            <a:ext cx="391824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cal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5.1.7-new.png"/>
          <p:cNvPicPr/>
          <p:nvPr/>
        </p:nvPicPr>
        <p:blipFill>
          <a:blip r:embed="rId1"/>
          <a:stretch/>
        </p:blipFill>
        <p:spPr>
          <a:xfrm>
            <a:off x="457200" y="2286000"/>
            <a:ext cx="4965840" cy="744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5.1.7-old.png"/>
          <p:cNvPicPr/>
          <p:nvPr/>
        </p:nvPicPr>
        <p:blipFill>
          <a:blip r:embed="rId2"/>
          <a:stretch/>
        </p:blipFill>
        <p:spPr>
          <a:xfrm>
            <a:off x="4191120" y="3048120"/>
            <a:ext cx="4952880" cy="549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8.2-new.png"/>
          <p:cNvPicPr/>
          <p:nvPr/>
        </p:nvPicPr>
        <p:blipFill>
          <a:blip r:embed="rId3"/>
          <a:stretch/>
        </p:blipFill>
        <p:spPr>
          <a:xfrm>
            <a:off x="533520" y="4495680"/>
            <a:ext cx="4343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.7.2-old.png"/>
          <p:cNvPicPr/>
          <p:nvPr/>
        </p:nvPicPr>
        <p:blipFill>
          <a:blip r:embed="rId4"/>
          <a:stretch/>
        </p:blipFill>
        <p:spPr>
          <a:xfrm>
            <a:off x="4419720" y="4876920"/>
            <a:ext cx="396216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nfigu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9.4-new.png"/>
          <p:cNvPicPr/>
          <p:nvPr/>
        </p:nvPicPr>
        <p:blipFill>
          <a:blip r:embed="rId1"/>
          <a:stretch/>
        </p:blipFill>
        <p:spPr>
          <a:xfrm>
            <a:off x="0" y="1600200"/>
            <a:ext cx="4267080" cy="4013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2.8-old.png"/>
          <p:cNvPicPr/>
          <p:nvPr/>
        </p:nvPicPr>
        <p:blipFill>
          <a:blip r:embed="rId2"/>
          <a:stretch/>
        </p:blipFill>
        <p:spPr>
          <a:xfrm>
            <a:off x="4114800" y="1600200"/>
            <a:ext cx="5894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Stipu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3880" y="1143000"/>
          <a:ext cx="5791320" cy="4826160"/>
        </p:xfrm>
        <a:graphic>
          <a:graphicData uri="http://schemas.openxmlformats.org/drawingml/2006/table">
            <a:tbl>
              <a:tblPr/>
              <a:tblGrid>
                <a:gridCol w="1581120"/>
                <a:gridCol w="2292480"/>
                <a:gridCol w="191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ying Parti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Gloss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Participa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stip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tions and Acronym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oss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nymity or Pseudonymity of Subscri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Verified Subscri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stip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eria for Inter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stip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Within Which CA Mu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the Revocation Reques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of Subscrip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-Stamp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SP Profil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 stip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vac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m and Termination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gnment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3" descr="4.9.5-new.png"/>
          <p:cNvPicPr/>
          <p:nvPr/>
        </p:nvPicPr>
        <p:blipFill>
          <a:blip r:embed="rId1"/>
          <a:stretch/>
        </p:blipFill>
        <p:spPr>
          <a:xfrm>
            <a:off x="228600" y="2743200"/>
            <a:ext cx="8920080" cy="1219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3.1.3-new.png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282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6.8-new.png"/>
          <p:cNvPicPr/>
          <p:nvPr/>
        </p:nvPicPr>
        <p:blipFill>
          <a:blip r:embed="rId3"/>
          <a:stretch/>
        </p:blipFill>
        <p:spPr>
          <a:xfrm>
            <a:off x="0" y="3733920"/>
            <a:ext cx="91440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nutshe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80880" y="3048120"/>
            <a:ext cx="25909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urrently approved cp/cps (  rfc 2527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us 4"/>
          <p:cNvSpPr/>
          <p:nvPr/>
        </p:nvSpPr>
        <p:spPr>
          <a:xfrm>
            <a:off x="5029200" y="3124080"/>
            <a:ext cx="609480" cy="3812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267080" y="5486400"/>
            <a:ext cx="21337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FC 3647  to RFC 2527 mapping  tab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267080" y="3962520"/>
            <a:ext cx="21337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ampl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p/cps ( rfc 36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traight Arrow Connector 8"/>
          <p:cNvCxnSpPr/>
          <p:nvPr/>
        </p:nvCxnSpPr>
        <p:spPr>
          <a:xfrm flipV="1">
            <a:off x="3276720" y="2666160"/>
            <a:ext cx="762480" cy="34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0"/>
          <p:cNvCxnSpPr/>
          <p:nvPr/>
        </p:nvCxnSpPr>
        <p:spPr>
          <a:xfrm>
            <a:off x="3276720" y="3504960"/>
            <a:ext cx="762480" cy="724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Rectangle 14"/>
          <p:cNvSpPr/>
          <p:nvPr/>
        </p:nvSpPr>
        <p:spPr>
          <a:xfrm>
            <a:off x="6934320" y="2971800"/>
            <a:ext cx="182880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Upgraded cp/cps (rfc 36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16"/>
          <p:cNvCxnSpPr/>
          <p:nvPr/>
        </p:nvCxnSpPr>
        <p:spPr>
          <a:xfrm>
            <a:off x="6476760" y="2438280"/>
            <a:ext cx="533880" cy="49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8"/>
          <p:cNvCxnSpPr/>
          <p:nvPr/>
        </p:nvCxnSpPr>
        <p:spPr>
          <a:xfrm flipV="1">
            <a:off x="6553080" y="4038120"/>
            <a:ext cx="5342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Rectangle 12"/>
          <p:cNvSpPr/>
          <p:nvPr/>
        </p:nvSpPr>
        <p:spPr>
          <a:xfrm>
            <a:off x="4267080" y="2057400"/>
            <a:ext cx="21337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FC 3647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faqs.org/rfcs/rfc364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us 13"/>
          <p:cNvSpPr/>
          <p:nvPr/>
        </p:nvSpPr>
        <p:spPr>
          <a:xfrm>
            <a:off x="5105520" y="4952880"/>
            <a:ext cx="609480" cy="3812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traight Arrow Connector 15"/>
          <p:cNvCxnSpPr/>
          <p:nvPr/>
        </p:nvCxnSpPr>
        <p:spPr>
          <a:xfrm>
            <a:off x="2971440" y="4419360"/>
            <a:ext cx="762840" cy="724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3" name="Straight Arrow Connector 17"/>
          <p:cNvCxnSpPr/>
          <p:nvPr/>
        </p:nvCxnSpPr>
        <p:spPr>
          <a:xfrm flipV="1">
            <a:off x="6781680" y="4647600"/>
            <a:ext cx="53424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 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an GRID CA was approved on the basis of CP/CPS: RFC 2527  in May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promised to change to RFC 3647 as soon as possib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existing examples ( based on RFC 364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rt the existing policy and practices into the new temp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bout the new/extra stip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 of cp/c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rid (Morroc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ntly accredi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K Grid (Pakist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ntly upgraded ( 2527 to 364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ity with Ir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FF  Brazilian CA (Brazi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cross refer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bine with the standard templ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80880" y="3048120"/>
            <a:ext cx="25909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urrently approved cp/cps (  rfc 2527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us 4"/>
          <p:cNvSpPr/>
          <p:nvPr/>
        </p:nvSpPr>
        <p:spPr>
          <a:xfrm>
            <a:off x="5029200" y="3124080"/>
            <a:ext cx="609480" cy="3812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267080" y="1981080"/>
            <a:ext cx="2133720" cy="83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FC 3647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faqs.org/rfcs/rfc3647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267080" y="3962520"/>
            <a:ext cx="21337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ampl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p/cps ( rfc 36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8"/>
          <p:cNvCxnSpPr/>
          <p:nvPr/>
        </p:nvCxnSpPr>
        <p:spPr>
          <a:xfrm flipV="1">
            <a:off x="3428640" y="2819160"/>
            <a:ext cx="762840" cy="34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Straight Arrow Connector 10"/>
          <p:cNvCxnSpPr/>
          <p:nvPr/>
        </p:nvCxnSpPr>
        <p:spPr>
          <a:xfrm>
            <a:off x="3428640" y="3580920"/>
            <a:ext cx="762840" cy="724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Rectangle 14"/>
          <p:cNvSpPr/>
          <p:nvPr/>
        </p:nvSpPr>
        <p:spPr>
          <a:xfrm>
            <a:off x="6934320" y="2971800"/>
            <a:ext cx="182880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Upgraded cp/cps (rfc 36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16"/>
          <p:cNvCxnSpPr>
            <a:stCxn id="54" idx="3"/>
          </p:cNvCxnSpPr>
          <p:nvPr/>
        </p:nvCxnSpPr>
        <p:spPr>
          <a:xfrm>
            <a:off x="6400800" y="2400120"/>
            <a:ext cx="534240" cy="495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Straight Arrow Connector 18"/>
          <p:cNvCxnSpPr>
            <a:stCxn id="55" idx="3"/>
          </p:cNvCxnSpPr>
          <p:nvPr/>
        </p:nvCxnSpPr>
        <p:spPr>
          <a:xfrm flipV="1">
            <a:off x="6400800" y="3809520"/>
            <a:ext cx="5342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FC 2527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FC 3647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ment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particular, representatives of the ISC made changes to the framework to better suite it to the legal environment and make it more accessible to lawyers (new Section 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a technical perspective, the changes to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FC 252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amework were minimal and incremental, rather than revolutiona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Picture 1.png"/>
          <p:cNvPicPr/>
          <p:nvPr/>
        </p:nvPicPr>
        <p:blipFill>
          <a:blip r:embed="rId1"/>
          <a:stretch/>
        </p:blipFill>
        <p:spPr>
          <a:xfrm>
            <a:off x="1160640" y="1600200"/>
            <a:ext cx="6822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orting the contents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FC 2527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c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or increment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nfiguration or reorgan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New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4541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fc  25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fc  3647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 Iden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mental or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.6 Audit Collection System (Internal vs. External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c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.3 Subscriber Obliga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.2, 4.4, 4.5, 4.5.1, 4.6.5, 4.7.5, 4.8.1, 4.8.5, 4.9.1, 4.9.2, 4.9.13, 4.9.15, 5., 6., 9.6.3, 9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fig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 Financial Respons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6:02:55Z</dcterms:created>
  <dc:creator>Majid Arabgol</dc:creator>
  <dc:description/>
  <dc:language>en-US</dc:language>
  <cp:lastModifiedBy>majid</cp:lastModifiedBy>
  <dcterms:modified xsi:type="dcterms:W3CDTF">2009-05-13T05:03:05Z</dcterms:modified>
  <cp:revision>119</cp:revision>
  <dc:subject/>
  <dc:title>Upgrading CP/CPS: RFC 2527-&gt;RFC 3647</dc:title>
</cp:coreProperties>
</file>