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7.wmf" ContentType="image/x-wmf"/>
  <Override PartName="/ppt/media/image8.jpeg" ContentType="image/jpeg"/>
  <Override PartName="/ppt/media/image5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2F5B-127D-495A-9137-2B4C4C984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029ABFE4-BC6F-4BDA-9B39-A93D2C9CB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under shadow area doesn’t show up until the final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A1C6-E1C2-46B4-8CC1-6D3910561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Instance in Berkeley may be configured to use the netHSM hosted on Remote Loca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A1ABBF6D-A369-4C95-86E1-D23FD63DB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Instance in Berkeley may be configured to use the netHSM hosted on Remote Loca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DD5E-7068-480F-9E42-7EFE8E9CC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3A7-CEB3-461E-8103-5A9E226DA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0C1BE9B-C12D-4B02-A8CB-BC928CFE1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F147-110D-44B0-8FCE-9A0EF1F98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under shadow area doesn’t show up until the final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9F4-0547-416D-A70E-D9C3B5EF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49C-D491-41AB-9497-E1F66CE1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C67-7397-458F-8C81-B7BF7AA1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F2A-6AB3-4A76-9067-50B4B7B1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0BD-03A4-4746-85ED-2FD399EA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695-F8D8-4B43-8079-A0D0F1C8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7AD-5E98-4953-AD54-6E99F66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1ED-1C86-4331-8D28-F35928F4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43B-80F4-4158-A4DF-B73BBB4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1B8-E47F-4F1E-AA93-7E6203CD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4B1-E7D7-4F41-AF7F-ED89CEB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5BC-94F6-48B3-B9BF-B841F97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E345-DCBE-460C-833A-D0A47C493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thena-scs.com/product.asp?pid=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hyperlink" Target="http://www.athena-scs.com/product.asp?pid=1" TargetMode="External"/><Relationship Id="rId10" Type="http://schemas.openxmlformats.org/officeDocument/2006/relationships/image" Target="../media/image8.jpeg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thena-scs.com/product.asp?pid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1.wmf"/><Relationship Id="rId8" Type="http://schemas.openxmlformats.org/officeDocument/2006/relationships/hyperlink" Target="http://www.athena-scs.com/product.asp?pid=1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7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hyperlink" Target="http://www.athena-scs.com/product.asp?pid=1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athena-scs.com/product.asp?pid=1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7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3760" y="609120"/>
            <a:ext cx="34290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net CA Cl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4120" y="24379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chael He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hivakaran Murugananth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6320" y="128520"/>
            <a:ext cx="132228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6629400" y="6248520"/>
            <a:ext cx="1371600" cy="40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5334120" y="6095880"/>
            <a:ext cx="990360" cy="601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76320" y="6140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etworking for the Future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5334120" y="3429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ergy Sciences 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wrence Berkeley National Labora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5334120" y="43434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 May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1" descr="DOEGrids.jpg"/>
          <p:cNvPicPr/>
          <p:nvPr/>
        </p:nvPicPr>
        <p:blipFill>
          <a:blip r:embed="rId6"/>
          <a:stretch/>
        </p:blipFill>
        <p:spPr>
          <a:xfrm>
            <a:off x="5410080" y="1600200"/>
            <a:ext cx="1828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a- netHSM enabled Local deploy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910640" y="441972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55880" y="50925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ine 45"/>
          <p:cNvSpPr/>
          <p:nvPr/>
        </p:nvSpPr>
        <p:spPr>
          <a:xfrm>
            <a:off x="784872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46"/>
          <p:cNvSpPr/>
          <p:nvPr/>
        </p:nvSpPr>
        <p:spPr>
          <a:xfrm>
            <a:off x="1447920" y="4038480"/>
            <a:ext cx="45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33" descr=""/>
          <p:cNvPicPr/>
          <p:nvPr/>
        </p:nvPicPr>
        <p:blipFill>
          <a:blip r:embed="rId9"/>
          <a:stretch/>
        </p:blipFill>
        <p:spPr>
          <a:xfrm>
            <a:off x="5638680" y="327672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619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65"/>
          <p:cNvSpPr/>
          <p:nvPr/>
        </p:nvSpPr>
        <p:spPr>
          <a:xfrm>
            <a:off x="5410080" y="39625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6"/>
          <p:cNvSpPr/>
          <p:nvPr/>
        </p:nvSpPr>
        <p:spPr>
          <a:xfrm>
            <a:off x="4327560" y="595440"/>
            <a:ext cx="4541760" cy="571968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D27-D62E-427E-BE66-65D0C2172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Cloud"/>
          <p:cNvSpPr/>
          <p:nvPr/>
        </p:nvSpPr>
        <p:spPr>
          <a:xfrm>
            <a:off x="2532240" y="226836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2 - Replication of Ke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646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34160" y="4738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81080" y="5035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700884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40"/>
          <p:cNvSpPr/>
          <p:nvPr/>
        </p:nvSpPr>
        <p:spPr>
          <a:xfrm>
            <a:off x="7162920" y="310356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44"/>
          <p:cNvSpPr/>
          <p:nvPr/>
        </p:nvSpPr>
        <p:spPr>
          <a:xfrm flipH="1">
            <a:off x="6786720" y="2057400"/>
            <a:ext cx="985680" cy="135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45"/>
          <p:cNvSpPr/>
          <p:nvPr/>
        </p:nvSpPr>
        <p:spPr>
          <a:xfrm flipH="1">
            <a:off x="7791120" y="4122720"/>
            <a:ext cx="13644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46"/>
          <p:cNvSpPr/>
          <p:nvPr/>
        </p:nvSpPr>
        <p:spPr>
          <a:xfrm>
            <a:off x="1506600" y="4083120"/>
            <a:ext cx="358560" cy="4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33" descr=""/>
          <p:cNvPicPr/>
          <p:nvPr/>
        </p:nvPicPr>
        <p:blipFill>
          <a:blip r:embed="rId9"/>
          <a:stretch/>
        </p:blipFill>
        <p:spPr>
          <a:xfrm>
            <a:off x="5638680" y="347184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666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5"/>
          <p:cNvSpPr/>
          <p:nvPr/>
        </p:nvSpPr>
        <p:spPr>
          <a:xfrm>
            <a:off x="5396040" y="416556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40"/>
          <p:cNvSpPr/>
          <p:nvPr/>
        </p:nvSpPr>
        <p:spPr>
          <a:xfrm>
            <a:off x="4862520" y="9428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4405320" y="587520"/>
            <a:ext cx="4541760" cy="218412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rc 51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E702-E2F8-4F81-9D9E-CF6886EBD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Cloud"/>
          <p:cNvSpPr/>
          <p:nvPr/>
        </p:nvSpPr>
        <p:spPr>
          <a:xfrm>
            <a:off x="2532240" y="226836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ge 3 - Replication of CA In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698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34160" y="4738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8720" y="50864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38"/>
          <p:cNvSpPr/>
          <p:nvPr/>
        </p:nvSpPr>
        <p:spPr>
          <a:xfrm>
            <a:off x="700884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Line 44"/>
          <p:cNvSpPr/>
          <p:nvPr/>
        </p:nvSpPr>
        <p:spPr>
          <a:xfrm flipH="1">
            <a:off x="7508880" y="2057400"/>
            <a:ext cx="263520" cy="117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Line 45"/>
          <p:cNvSpPr/>
          <p:nvPr/>
        </p:nvSpPr>
        <p:spPr>
          <a:xfrm flipH="1">
            <a:off x="7791120" y="4122720"/>
            <a:ext cx="13644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46"/>
          <p:cNvSpPr/>
          <p:nvPr/>
        </p:nvSpPr>
        <p:spPr>
          <a:xfrm>
            <a:off x="1506600" y="4083120"/>
            <a:ext cx="358560" cy="4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33" descr=""/>
          <p:cNvPicPr/>
          <p:nvPr/>
        </p:nvPicPr>
        <p:blipFill>
          <a:blip r:embed="rId9"/>
          <a:stretch/>
        </p:blipFill>
        <p:spPr>
          <a:xfrm>
            <a:off x="5638680" y="347184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718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65"/>
          <p:cNvSpPr/>
          <p:nvPr/>
        </p:nvSpPr>
        <p:spPr>
          <a:xfrm>
            <a:off x="5396040" y="416556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40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40"/>
          <p:cNvSpPr/>
          <p:nvPr/>
        </p:nvSpPr>
        <p:spPr>
          <a:xfrm>
            <a:off x="4862520" y="9428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66DC-3132-45B0-BBBA-6E6C5D810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rget Stage - Geographic disp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750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5481720" y="1582560"/>
            <a:ext cx="1985760" cy="1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56480" y="46371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5480" y="50911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Line 45"/>
          <p:cNvSpPr/>
          <p:nvPr/>
        </p:nvSpPr>
        <p:spPr>
          <a:xfrm flipH="1">
            <a:off x="7718400" y="4025880"/>
            <a:ext cx="13032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Line 46"/>
          <p:cNvSpPr/>
          <p:nvPr/>
        </p:nvSpPr>
        <p:spPr>
          <a:xfrm>
            <a:off x="1447920" y="4038480"/>
            <a:ext cx="4903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Picture 33" descr=""/>
          <p:cNvPicPr/>
          <p:nvPr/>
        </p:nvPicPr>
        <p:blipFill>
          <a:blip r:embed="rId9"/>
          <a:stretch/>
        </p:blipFill>
        <p:spPr>
          <a:xfrm>
            <a:off x="5638680" y="342756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771" name="Line 53"/>
          <p:cNvSpPr/>
          <p:nvPr/>
        </p:nvSpPr>
        <p:spPr>
          <a:xfrm>
            <a:off x="1598760" y="1817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Line 62"/>
          <p:cNvSpPr/>
          <p:nvPr/>
        </p:nvSpPr>
        <p:spPr>
          <a:xfrm flipH="1">
            <a:off x="5927760" y="1879560"/>
            <a:ext cx="159048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65"/>
          <p:cNvSpPr/>
          <p:nvPr/>
        </p:nvSpPr>
        <p:spPr>
          <a:xfrm>
            <a:off x="5410080" y="398628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9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784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B5AC-E4F1-4811-9E1B-491A0BBDD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Cloud"/>
          <p:cNvSpPr/>
          <p:nvPr/>
        </p:nvSpPr>
        <p:spPr>
          <a:xfrm>
            <a:off x="4346640" y="2476440"/>
            <a:ext cx="725400" cy="773280"/>
          </a:xfrm>
          <a:custGeom>
            <a:avLst/>
            <a:gdLst>
              <a:gd name="textAreaLeft" fmla="*/ 99720 w 725400"/>
              <a:gd name="textAreaRight" fmla="*/ 573840 w 72540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loud"/>
          <p:cNvSpPr/>
          <p:nvPr/>
        </p:nvSpPr>
        <p:spPr>
          <a:xfrm>
            <a:off x="3503520" y="2476440"/>
            <a:ext cx="706680" cy="773280"/>
          </a:xfrm>
          <a:custGeom>
            <a:avLst/>
            <a:gdLst>
              <a:gd name="textAreaLeft" fmla="*/ 97200 w 706680"/>
              <a:gd name="textAreaRight" fmla="*/ 559080 w 70668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loud"/>
          <p:cNvSpPr/>
          <p:nvPr/>
        </p:nvSpPr>
        <p:spPr>
          <a:xfrm>
            <a:off x="5097600" y="2476440"/>
            <a:ext cx="846000" cy="773280"/>
          </a:xfrm>
          <a:custGeom>
            <a:avLst/>
            <a:gdLst>
              <a:gd name="textAreaLeft" fmla="*/ 116640 w 846000"/>
              <a:gd name="textAreaRight" fmla="*/ 669240 w 84600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Cloud"/>
          <p:cNvSpPr/>
          <p:nvPr/>
        </p:nvSpPr>
        <p:spPr>
          <a:xfrm>
            <a:off x="5816520" y="4414680"/>
            <a:ext cx="2824200" cy="1549440"/>
          </a:xfrm>
          <a:custGeom>
            <a:avLst/>
            <a:gdLst>
              <a:gd name="textAreaLeft" fmla="*/ 389160 w 2824200"/>
              <a:gd name="textAreaRight" fmla="*/ 2234160 w 2824200"/>
              <a:gd name="textAreaTop" fmla="*/ 234000 h 1549440"/>
              <a:gd name="textAreaBottom" fmla="*/ 1243800 h 15494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Cloud"/>
          <p:cNvSpPr/>
          <p:nvPr/>
        </p:nvSpPr>
        <p:spPr>
          <a:xfrm>
            <a:off x="425520" y="4430880"/>
            <a:ext cx="2763720" cy="1304640"/>
          </a:xfrm>
          <a:custGeom>
            <a:avLst/>
            <a:gdLst>
              <a:gd name="textAreaLeft" fmla="*/ 380880 w 2763720"/>
              <a:gd name="textAreaRight" fmla="*/ 2186280 w 2763720"/>
              <a:gd name="textAreaTop" fmla="*/ 196920 h 1304640"/>
              <a:gd name="textAreaBottom" fmla="*/ 1047240 h 1304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Cloud"/>
          <p:cNvSpPr/>
          <p:nvPr/>
        </p:nvSpPr>
        <p:spPr>
          <a:xfrm>
            <a:off x="4540320" y="630360"/>
            <a:ext cx="4167000" cy="1766880"/>
          </a:xfrm>
          <a:custGeom>
            <a:avLst/>
            <a:gdLst>
              <a:gd name="textAreaLeft" fmla="*/ 574200 w 4167000"/>
              <a:gd name="textAreaRight" fmla="*/ 3296520 w 4167000"/>
              <a:gd name="textAreaTop" fmla="*/ 266760 h 1766880"/>
              <a:gd name="textAreaBottom" fmla="*/ 1418400 h 176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Cloud"/>
          <p:cNvSpPr/>
          <p:nvPr/>
        </p:nvSpPr>
        <p:spPr>
          <a:xfrm>
            <a:off x="177840" y="812880"/>
            <a:ext cx="4052880" cy="1766880"/>
          </a:xfrm>
          <a:custGeom>
            <a:avLst/>
            <a:gdLst>
              <a:gd name="textAreaLeft" fmla="*/ 558360 w 4052880"/>
              <a:gd name="textAreaRight" fmla="*/ 3206160 w 4052880"/>
              <a:gd name="textAreaTop" fmla="*/ 266760 h 1766880"/>
              <a:gd name="textAreaBottom" fmla="*/ 1418400 h 176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Cloud"/>
          <p:cNvSpPr/>
          <p:nvPr/>
        </p:nvSpPr>
        <p:spPr>
          <a:xfrm>
            <a:off x="5504040" y="312588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loud"/>
          <p:cNvSpPr/>
          <p:nvPr/>
        </p:nvSpPr>
        <p:spPr>
          <a:xfrm>
            <a:off x="174600" y="3238560"/>
            <a:ext cx="3529080" cy="118260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78560 h 1182600"/>
              <a:gd name="textAreaBottom" fmla="*/ 949320 h 1182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Cloud"/>
          <p:cNvSpPr/>
          <p:nvPr/>
        </p:nvSpPr>
        <p:spPr>
          <a:xfrm>
            <a:off x="2616120" y="2467080"/>
            <a:ext cx="846360" cy="772920"/>
          </a:xfrm>
          <a:custGeom>
            <a:avLst/>
            <a:gdLst>
              <a:gd name="textAreaLeft" fmla="*/ 116640 w 846360"/>
              <a:gd name="textAreaRight" fmla="*/ 669600 w 846360"/>
              <a:gd name="textAreaTop" fmla="*/ 116640 h 772920"/>
              <a:gd name="textAreaBottom" fmla="*/ 620640 h 772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AN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813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Line 21"/>
          <p:cNvSpPr/>
          <p:nvPr/>
        </p:nvSpPr>
        <p:spPr>
          <a:xfrm>
            <a:off x="5481720" y="1582560"/>
            <a:ext cx="1985760" cy="1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6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427880" y="51307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5480" y="50911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Line 45"/>
          <p:cNvSpPr/>
          <p:nvPr/>
        </p:nvSpPr>
        <p:spPr>
          <a:xfrm flipH="1">
            <a:off x="7718400" y="4025880"/>
            <a:ext cx="13032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Line 46"/>
          <p:cNvSpPr/>
          <p:nvPr/>
        </p:nvSpPr>
        <p:spPr>
          <a:xfrm>
            <a:off x="1447920" y="4038480"/>
            <a:ext cx="4903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Picture 33" descr=""/>
          <p:cNvPicPr/>
          <p:nvPr/>
        </p:nvPicPr>
        <p:blipFill>
          <a:blip r:embed="rId9"/>
          <a:stretch/>
        </p:blipFill>
        <p:spPr>
          <a:xfrm>
            <a:off x="5638680" y="342756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834" name="Line 53"/>
          <p:cNvSpPr/>
          <p:nvPr/>
        </p:nvSpPr>
        <p:spPr>
          <a:xfrm>
            <a:off x="1598760" y="1817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Line 62"/>
          <p:cNvSpPr/>
          <p:nvPr/>
        </p:nvSpPr>
        <p:spPr>
          <a:xfrm flipH="1">
            <a:off x="5927760" y="1879560"/>
            <a:ext cx="159048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 Box 65"/>
          <p:cNvSpPr/>
          <p:nvPr/>
        </p:nvSpPr>
        <p:spPr>
          <a:xfrm>
            <a:off x="5410080" y="398628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Picture 41" descr=""/>
          <p:cNvPicPr/>
          <p:nvPr/>
        </p:nvPicPr>
        <p:blipFill>
          <a:blip r:embed="rId10"/>
          <a:stretch/>
        </p:blipFill>
        <p:spPr>
          <a:xfrm>
            <a:off x="6396120" y="448452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7" descr="MCj04352420000[1]"/>
          <p:cNvPicPr/>
          <p:nvPr/>
        </p:nvPicPr>
        <p:blipFill>
          <a:blip r:embed="rId13"/>
          <a:stretch/>
        </p:blipFill>
        <p:spPr>
          <a:xfrm>
            <a:off x="2970360" y="2536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847" name="Cloud"/>
          <p:cNvSpPr/>
          <p:nvPr/>
        </p:nvSpPr>
        <p:spPr>
          <a:xfrm>
            <a:off x="3782880" y="6018120"/>
            <a:ext cx="1003320" cy="520920"/>
          </a:xfrm>
          <a:custGeom>
            <a:avLst/>
            <a:gdLst>
              <a:gd name="textAreaLeft" fmla="*/ 138240 w 1003320"/>
              <a:gd name="textAreaRight" fmla="*/ 793800 w 1003320"/>
              <a:gd name="textAreaTop" fmla="*/ 78480 h 520920"/>
              <a:gd name="textAreaBottom" fmla="*/ 418320 h 520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 Box 58"/>
          <p:cNvSpPr/>
          <p:nvPr/>
        </p:nvSpPr>
        <p:spPr>
          <a:xfrm>
            <a:off x="3639960" y="612936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LANs &amp; A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Date Placeholder 6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6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A973-1C3B-4970-9C97-D29E465CA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ooter Placeholder 6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keys &amp; 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LAN and AC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HSM, CA machine &amp; Remote Operator are in different VL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Ls definition for each VLAN, change control on AC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Cipher firmware or driver upgrade depends on the Redhat Certificate System package ver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ux version of nCipher driver must be compiled with kernel header files, which means the Linux OS upgrade h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y Material Back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ckup per CA instance ( DOEGrids, FusionGrid &amp; ESnetSS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y Material Man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 not allow auto push or auto sync between client and netHSM (the effect is similar to Windows doing automatic download and insta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ly we simply must document the correct process for future refer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F832-16E1-4B26-BD72-0594A9A1D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L Publishing and CRL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nal publ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ve publishing to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rl.doegrids.org/crl.es.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multiple replicas – use ANYCAST to find nea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rnal publishing – put them in the clo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azon Cloudfro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, Asia, EU lo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works similarly as ESnet  internal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possib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rect CRLs – alternate sig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9F3-0D50-4FB0-B00D-26328CA39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Brief Digression on ANY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routing infrastructur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dvertize the same IP address in different parts of th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usually (EVER) used on sam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s route traffic topologically best dest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particular node fails, router deletes route, and traffic moves elsewhere (~60 sec laten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ety of routing protocols : typically BG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erformance and transparency than other HA – like solutions,  for certain probl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ast HA ; round robin D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net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zebr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ning on LINUX  maps ANYCAST address to a BGP peering for the interface = port + V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config files mainta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zebr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n the 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dog can be set on host: when application fails, zebra tears down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also has UNICAST address for control/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appliances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A79-F12D-43CA-8552-89627764B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YCAST 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ypical Application: root DNS name ser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itable for stateless protocols and appl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 suitable for certain session – based protocols, where the client or server manages the session appropriately (eg sendmai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itable for serving web pages (eg CRL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haps we can get smarter about where and how many replicas we really ne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ubtful for other CA applications – experimentation in fu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haps for CSR submission pages, or other web page compon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EAA3-8C7B-4337-9EB7-E5A6353A3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A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Hat Certificate System Ver. 7.3 upgrade i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ndor recomme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grades are a serious undert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ication (Clone) process needs to be tested and the limitations should be studi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CAST u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ably not appropriate for se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useful for serving passive web pages and CSR sub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of the backend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5FCB-45FF-4DCC-A32C-C0A39B66F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High Availability CA/PKI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net requirement for al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– Berkeley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– Resource 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ment p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pare for additiona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4A39-169F-4ABD-A6C1-0B3C9D55A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te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Operator Card and Workstation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 of authorized personal to request this fe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verify the authorized personn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y require a protocol such as, Call Back on known phone numb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dit trail for Remote Operator Card u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 the card – use – 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” does not necessarily mean a network operator (a combination of technician &amp; help desk support staf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net ATF/PKI/Security/system administration t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net remote engineers (ESnet has 3 non-California-based remote locat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sted non-ESnet operations/engineering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key component of our disaster recovery strategy and will  require updating the ESnet disaster recovery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F718-8074-413A-BFDD-DA47F2A5E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G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is a new development for ESn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derable effort is being invested in remaking the network management / reporting / status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acement for various proprietary / commercial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has promise for CA cloning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 the status information of our systems and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additional specialized reporting about CA/PKI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of status information to wider range of personnel, including various remote ESnet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obvious ris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gios control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under our control, ESnet fe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technology (to us, &amp; ESnet as a who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4557-8BA6-4A18-B0DC-6D212C13A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Management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LAN Definition – Defined and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s and VLAN configurations for local/remot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netHSM –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Test CA Transition - in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st netHSM usage configu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Remote Operator Card Machine –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96F-F32A-4532-8C22-3458740C9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A instance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up a Development CA  and clone with software tok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est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lover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ffects on active s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istency of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n we lose a pending reques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Other effects on publishing of certificates and cr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up a Development CA and clone using netH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ea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e don’t currently plan to replicate the CA database separately from the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ckup copy (strategy we use to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3DEE-65BD-46F6-9913-5A1D36B44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RL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l.doegrid.org is in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0% of the CRL download traffic has been mov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l.doegrids.org will get  ‘ANYCAST’ make-over so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ior structure – follow ESnet website replicas at ESnet co-location/peering points around the 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oking at Cloudfro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the rest of IGT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A6CD-4F0D-4188-B830-584E9954B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gios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ms are building initial configurations and mod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able argument about security fea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expect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stem administration team will provide a (several) passive reporting modules for various servers or classes of serv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will develop modules appropriate for our services where appropri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erimentation need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gration with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will rely on other ESnet services leading the 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03BE-1921-4683-B2E3-E3D4BC894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s &amp; Mitig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457200" y="838080"/>
          <a:ext cx="8229600" cy="37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failure between the CA machine and the netH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netHSM as primary and internal card (nShield) as backup (or vice-ver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setup at Remote Locations may not be desirable i.e not suitable for Certificate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using virtual remote location. Identify and correct remote site issues, then deploy remo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B6EB-9DA4-4C4A-A7D0-9DF28B881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D8C9-1773-4F27-A38E-B95D4290F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4"/>
          <p:cNvSpPr/>
          <p:nvPr/>
        </p:nvSpPr>
        <p:spPr>
          <a:xfrm>
            <a:off x="228600" y="9907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we need to do to ensure that this is tru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High Availability CA/PKI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some essential problems that we need to addres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icate essential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signing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database of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web portal serv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 publishing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 additional operator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perse all the above geograph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, the operators to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what is going on in this dispersed infra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implicit security concer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B12C-B2FC-48BD-A371-E4DBB6E04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 Essen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key managem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HSM compon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CA (signing initiator, UI, databas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Hat CS cl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CRL publishing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CAS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L Distribution from the Cloud – eg Amazon Cloudfro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operator &amp; geographic dispersion of opera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te operator servi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monitoring sys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new development for this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3E01-F973-4947-B4B6-3BE85594B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rc 47"/>
          <p:cNvSpPr/>
          <p:nvPr/>
        </p:nvSpPr>
        <p:spPr>
          <a:xfrm flipH="1" flipV="1">
            <a:off x="2898000" y="4136400"/>
            <a:ext cx="4349880" cy="888840"/>
          </a:xfrm>
          <a:custGeom>
            <a:avLst/>
            <a:gdLst>
              <a:gd name="textAreaLeft" fmla="*/ -360 w 4349880"/>
              <a:gd name="textAreaRight" fmla="*/ 4349880 w 434988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Curved Connector 67"/>
          <p:cNvCxnSpPr/>
          <p:nvPr/>
        </p:nvCxnSpPr>
        <p:spPr>
          <a:xfrm flipH="1" flipV="1" rot="5400000">
            <a:off x="-267120" y="3084480"/>
            <a:ext cx="2326680" cy="575640"/>
          </a:xfrm>
          <a:prstGeom prst="curvedConnector5">
            <a:avLst>
              <a:gd name="adj1" fmla="val 64577"/>
              <a:gd name="adj2" fmla="val 50000"/>
              <a:gd name="adj3" fmla="val 64577"/>
            </a:avLst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6" name="Picture 32" descr="MCj04349490000[1]"/>
          <p:cNvPicPr/>
          <p:nvPr/>
        </p:nvPicPr>
        <p:blipFill>
          <a:blip r:embed="rId1"/>
          <a:stretch/>
        </p:blipFill>
        <p:spPr>
          <a:xfrm>
            <a:off x="152280" y="4648320"/>
            <a:ext cx="127800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Grids CA with High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1" descr="Smart Card Reader - USB 2.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51451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287960" y="95076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612880" y="2389320"/>
            <a:ext cx="3287880" cy="1242720"/>
          </a:xfrm>
          <a:custGeom>
            <a:avLst/>
            <a:gdLst>
              <a:gd name="textAreaLeft" fmla="*/ 452880 w 3287880"/>
              <a:gd name="textAreaRight" fmla="*/ 2601000 w 32878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fbfbf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MCj04348450000[1]"/>
          <p:cNvPicPr/>
          <p:nvPr/>
        </p:nvPicPr>
        <p:blipFill>
          <a:blip r:embed="rId4"/>
          <a:stretch/>
        </p:blipFill>
        <p:spPr>
          <a:xfrm>
            <a:off x="1022400" y="110340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MCj04352420000[1]"/>
          <p:cNvPicPr/>
          <p:nvPr/>
        </p:nvPicPr>
        <p:blipFill>
          <a:blip r:embed="rId5"/>
          <a:stretch/>
        </p:blipFill>
        <p:spPr>
          <a:xfrm>
            <a:off x="3294000" y="1407960"/>
            <a:ext cx="638280" cy="1067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Cj04348450000[1]"/>
          <p:cNvPicPr/>
          <p:nvPr/>
        </p:nvPicPr>
        <p:blipFill>
          <a:blip r:embed="rId6"/>
          <a:stretch/>
        </p:blipFill>
        <p:spPr>
          <a:xfrm>
            <a:off x="7128000" y="102708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MCj04352420000[1]"/>
          <p:cNvPicPr/>
          <p:nvPr/>
        </p:nvPicPr>
        <p:blipFill>
          <a:blip r:embed="rId7"/>
          <a:stretch/>
        </p:blipFill>
        <p:spPr>
          <a:xfrm>
            <a:off x="4713120" y="1407960"/>
            <a:ext cx="640080" cy="106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8"/>
          <a:stretch/>
        </p:blipFill>
        <p:spPr>
          <a:xfrm>
            <a:off x="457200" y="3552840"/>
            <a:ext cx="284004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Line 19"/>
          <p:cNvSpPr/>
          <p:nvPr/>
        </p:nvSpPr>
        <p:spPr>
          <a:xfrm>
            <a:off x="3932280" y="171288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1803240" y="1636560"/>
            <a:ext cx="1490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94320" y="1712880"/>
            <a:ext cx="170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0" descr="Smart Card Reader - USB 2.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65960" y="4941720"/>
            <a:ext cx="88740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MCj04349490000[1]"/>
          <p:cNvPicPr/>
          <p:nvPr/>
        </p:nvPicPr>
        <p:blipFill>
          <a:blip r:embed="rId11"/>
          <a:stretch/>
        </p:blipFill>
        <p:spPr>
          <a:xfrm>
            <a:off x="1093680" y="4684680"/>
            <a:ext cx="127656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38"/>
          <p:cNvSpPr/>
          <p:nvPr/>
        </p:nvSpPr>
        <p:spPr>
          <a:xfrm>
            <a:off x="4495680" y="990720"/>
            <a:ext cx="182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7297560" y="2971800"/>
            <a:ext cx="18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1"/>
          <p:cNvSpPr/>
          <p:nvPr/>
        </p:nvSpPr>
        <p:spPr>
          <a:xfrm>
            <a:off x="5494320" y="5827680"/>
            <a:ext cx="184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1343160" y="5834160"/>
            <a:ext cx="184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45"/>
          <p:cNvSpPr/>
          <p:nvPr/>
        </p:nvSpPr>
        <p:spPr>
          <a:xfrm flipH="1">
            <a:off x="7492680" y="4075200"/>
            <a:ext cx="60120" cy="58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6"/>
          <p:cNvSpPr/>
          <p:nvPr/>
        </p:nvSpPr>
        <p:spPr>
          <a:xfrm>
            <a:off x="1590840" y="4151160"/>
            <a:ext cx="199800" cy="52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577800" y="888840"/>
            <a:ext cx="127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6772320" y="843120"/>
            <a:ext cx="156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3" descr=""/>
          <p:cNvPicPr/>
          <p:nvPr/>
        </p:nvPicPr>
        <p:blipFill>
          <a:blip r:embed="rId12"/>
          <a:stretch/>
        </p:blipFill>
        <p:spPr>
          <a:xfrm>
            <a:off x="5494320" y="3389400"/>
            <a:ext cx="284004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Line 53"/>
          <p:cNvSpPr/>
          <p:nvPr/>
        </p:nvSpPr>
        <p:spPr>
          <a:xfrm>
            <a:off x="1803240" y="1712880"/>
            <a:ext cx="12067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59"/>
          <p:cNvSpPr/>
          <p:nvPr/>
        </p:nvSpPr>
        <p:spPr>
          <a:xfrm>
            <a:off x="4713120" y="2855880"/>
            <a:ext cx="355680" cy="152280"/>
          </a:xfrm>
          <a:prstGeom prst="leftRightArrow">
            <a:avLst>
              <a:gd name="adj1" fmla="val 50000"/>
              <a:gd name="adj2" fmla="val 5014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60"/>
          <p:cNvSpPr/>
          <p:nvPr/>
        </p:nvSpPr>
        <p:spPr>
          <a:xfrm>
            <a:off x="4003560" y="2855880"/>
            <a:ext cx="355680" cy="152280"/>
          </a:xfrm>
          <a:prstGeom prst="leftRightArrow">
            <a:avLst>
              <a:gd name="adj1" fmla="val 50000"/>
              <a:gd name="adj2" fmla="val 5014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61"/>
          <p:cNvSpPr/>
          <p:nvPr/>
        </p:nvSpPr>
        <p:spPr>
          <a:xfrm>
            <a:off x="3294000" y="2779560"/>
            <a:ext cx="354240" cy="152640"/>
          </a:xfrm>
          <a:prstGeom prst="leftRightArrow">
            <a:avLst>
              <a:gd name="adj1" fmla="val 50000"/>
              <a:gd name="adj2" fmla="val 4982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4"/>
          <p:cNvSpPr/>
          <p:nvPr/>
        </p:nvSpPr>
        <p:spPr>
          <a:xfrm>
            <a:off x="3081240" y="4075200"/>
            <a:ext cx="92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65"/>
          <p:cNvSpPr/>
          <p:nvPr/>
        </p:nvSpPr>
        <p:spPr>
          <a:xfrm>
            <a:off x="5281560" y="4075200"/>
            <a:ext cx="92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2" descr=""/>
          <p:cNvPicPr/>
          <p:nvPr/>
        </p:nvPicPr>
        <p:blipFill>
          <a:blip r:embed="rId13"/>
          <a:stretch/>
        </p:blipFill>
        <p:spPr>
          <a:xfrm>
            <a:off x="6377040" y="4284720"/>
            <a:ext cx="1247760" cy="127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Cj04352420000[1]"/>
          <p:cNvPicPr/>
          <p:nvPr/>
        </p:nvPicPr>
        <p:blipFill>
          <a:blip r:embed="rId14"/>
          <a:stretch/>
        </p:blipFill>
        <p:spPr>
          <a:xfrm>
            <a:off x="3675240" y="2730600"/>
            <a:ext cx="29520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Cj04352420000[1]"/>
          <p:cNvPicPr/>
          <p:nvPr/>
        </p:nvPicPr>
        <p:blipFill>
          <a:blip r:embed="rId15"/>
          <a:stretch/>
        </p:blipFill>
        <p:spPr>
          <a:xfrm>
            <a:off x="4379760" y="2760840"/>
            <a:ext cx="295560" cy="59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Cj04352420000[1]"/>
          <p:cNvPicPr/>
          <p:nvPr/>
        </p:nvPicPr>
        <p:blipFill>
          <a:blip r:embed="rId16"/>
          <a:stretch/>
        </p:blipFill>
        <p:spPr>
          <a:xfrm>
            <a:off x="3024360" y="2624040"/>
            <a:ext cx="29664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j04352420000[1]"/>
          <p:cNvPicPr/>
          <p:nvPr/>
        </p:nvPicPr>
        <p:blipFill>
          <a:blip r:embed="rId17"/>
          <a:stretch/>
        </p:blipFill>
        <p:spPr>
          <a:xfrm>
            <a:off x="5092560" y="2746440"/>
            <a:ext cx="29556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Arc 47"/>
          <p:cNvSpPr/>
          <p:nvPr/>
        </p:nvSpPr>
        <p:spPr>
          <a:xfrm flipH="1" flipV="1">
            <a:off x="1571760" y="2093040"/>
            <a:ext cx="4349520" cy="1760760"/>
          </a:xfrm>
          <a:custGeom>
            <a:avLst/>
            <a:gdLst>
              <a:gd name="textAreaLeft" fmla="*/ 360 w 4349520"/>
              <a:gd name="textAreaRight" fmla="*/ 4350240 w 434952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rc 48"/>
          <p:cNvSpPr/>
          <p:nvPr/>
        </p:nvSpPr>
        <p:spPr>
          <a:xfrm flipV="1">
            <a:off x="2889360" y="2073960"/>
            <a:ext cx="4471920" cy="1688760"/>
          </a:xfrm>
          <a:custGeom>
            <a:avLst/>
            <a:gdLst>
              <a:gd name="textAreaLeft" fmla="*/ 0 w 4471920"/>
              <a:gd name="textAreaRight" fmla="*/ 4472280 w 4471920"/>
              <a:gd name="textAreaTop" fmla="*/ -360 h 1688760"/>
              <a:gd name="textAreaBottom" fmla="*/ 1688760 h 16887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rc 48"/>
          <p:cNvSpPr/>
          <p:nvPr/>
        </p:nvSpPr>
        <p:spPr>
          <a:xfrm flipV="1">
            <a:off x="1943280" y="3952080"/>
            <a:ext cx="4456080" cy="1104840"/>
          </a:xfrm>
          <a:custGeom>
            <a:avLst/>
            <a:gdLst>
              <a:gd name="textAreaLeft" fmla="*/ 0 w 4456080"/>
              <a:gd name="textAreaRight" fmla="*/ 4456080 w 445608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50C8-16AF-46FB-BA99-C077B65BF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Curved Connector 54"/>
          <p:cNvCxnSpPr/>
          <p:nvPr/>
        </p:nvCxnSpPr>
        <p:spPr>
          <a:xfrm flipH="1" rot="16200000">
            <a:off x="1044360" y="2720520"/>
            <a:ext cx="130716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5" name="Curved Connector 56"/>
          <p:cNvCxnSpPr/>
          <p:nvPr/>
        </p:nvCxnSpPr>
        <p:spPr>
          <a:xfrm rot="5400000">
            <a:off x="6658920" y="2423880"/>
            <a:ext cx="1220040" cy="712080"/>
          </a:xfrm>
          <a:prstGeom prst="curvedConnector5">
            <a:avLst>
              <a:gd name="adj1" fmla="val 48288"/>
              <a:gd name="adj2" fmla="val 49974"/>
              <a:gd name="adj3" fmla="val 48288"/>
            </a:avLst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6" name="Text Box 38"/>
          <p:cNvSpPr/>
          <p:nvPr/>
        </p:nvSpPr>
        <p:spPr>
          <a:xfrm>
            <a:off x="7297560" y="533520"/>
            <a:ext cx="18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0" descr="Smart Card Reader - USB 2.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5360" y="4522680"/>
            <a:ext cx="596880" cy="328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Grids CA with High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5491080" y="164628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loud"/>
          <p:cNvSpPr/>
          <p:nvPr/>
        </p:nvSpPr>
        <p:spPr>
          <a:xfrm>
            <a:off x="4365720" y="2639880"/>
            <a:ext cx="2211120" cy="858960"/>
          </a:xfrm>
          <a:custGeom>
            <a:avLst/>
            <a:gdLst>
              <a:gd name="textAreaLeft" fmla="*/ 304560 w 2211120"/>
              <a:gd name="textAreaRight" fmla="*/ 1749240 w 2211120"/>
              <a:gd name="textAreaTop" fmla="*/ 129600 h 858960"/>
              <a:gd name="textAreaBottom" fmla="*/ 689400 h 8589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Cj04348450000[1]"/>
          <p:cNvPicPr/>
          <p:nvPr/>
        </p:nvPicPr>
        <p:blipFill>
          <a:blip r:embed="rId3"/>
          <a:stretch/>
        </p:blipFill>
        <p:spPr>
          <a:xfrm>
            <a:off x="3294000" y="1751040"/>
            <a:ext cx="668520" cy="7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Cj04352420000[1]"/>
          <p:cNvPicPr/>
          <p:nvPr/>
        </p:nvPicPr>
        <p:blipFill>
          <a:blip r:embed="rId4"/>
          <a:stretch/>
        </p:blipFill>
        <p:spPr>
          <a:xfrm>
            <a:off x="4822920" y="1962000"/>
            <a:ext cx="430200" cy="73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4348450000[1]"/>
          <p:cNvPicPr/>
          <p:nvPr/>
        </p:nvPicPr>
        <p:blipFill>
          <a:blip r:embed="rId5"/>
          <a:stretch/>
        </p:blipFill>
        <p:spPr>
          <a:xfrm>
            <a:off x="7400880" y="1698480"/>
            <a:ext cx="668520" cy="79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MCj04352420000[1]"/>
          <p:cNvPicPr/>
          <p:nvPr/>
        </p:nvPicPr>
        <p:blipFill>
          <a:blip r:embed="rId6"/>
          <a:stretch/>
        </p:blipFill>
        <p:spPr>
          <a:xfrm>
            <a:off x="5776920" y="1962000"/>
            <a:ext cx="430200" cy="73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7"/>
          <a:stretch/>
        </p:blipFill>
        <p:spPr>
          <a:xfrm>
            <a:off x="2914560" y="3444840"/>
            <a:ext cx="1909800" cy="420840"/>
          </a:xfrm>
          <a:prstGeom prst="rect">
            <a:avLst/>
          </a:prstGeom>
          <a:ln w="0">
            <a:noFill/>
          </a:ln>
        </p:spPr>
      </p:pic>
      <p:sp>
        <p:nvSpPr>
          <p:cNvPr id="136" name="Line 19"/>
          <p:cNvSpPr/>
          <p:nvPr/>
        </p:nvSpPr>
        <p:spPr>
          <a:xfrm>
            <a:off x="5253120" y="217188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3819600" y="211932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6302520" y="2171880"/>
            <a:ext cx="114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0" descr="Smart Card Reader - USB 2.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62880" y="4405320"/>
            <a:ext cx="59688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2" descr="MCj04349490000[1]"/>
          <p:cNvPicPr/>
          <p:nvPr/>
        </p:nvPicPr>
        <p:blipFill>
          <a:blip r:embed="rId10"/>
          <a:stretch/>
        </p:blipFill>
        <p:spPr>
          <a:xfrm>
            <a:off x="3341520" y="4227480"/>
            <a:ext cx="860760" cy="6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8"/>
          <p:cNvSpPr/>
          <p:nvPr/>
        </p:nvSpPr>
        <p:spPr>
          <a:xfrm>
            <a:off x="7112160" y="1219320"/>
            <a:ext cx="1338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5634000" y="1749600"/>
            <a:ext cx="124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257960" y="3002040"/>
            <a:ext cx="1320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6302520" y="5016600"/>
            <a:ext cx="1423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3510000" y="5019840"/>
            <a:ext cx="132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3581280" y="2577960"/>
            <a:ext cx="333360" cy="73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7647120" y="3805200"/>
            <a:ext cx="41040" cy="4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6"/>
          <p:cNvSpPr/>
          <p:nvPr/>
        </p:nvSpPr>
        <p:spPr>
          <a:xfrm>
            <a:off x="3676680" y="3857760"/>
            <a:ext cx="135000" cy="36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847960" y="1890720"/>
            <a:ext cx="1130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7162920" y="1571760"/>
            <a:ext cx="1050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3" descr=""/>
          <p:cNvPicPr/>
          <p:nvPr/>
        </p:nvPicPr>
        <p:blipFill>
          <a:blip r:embed="rId11"/>
          <a:stretch/>
        </p:blipFill>
        <p:spPr>
          <a:xfrm>
            <a:off x="6302520" y="3332160"/>
            <a:ext cx="1911240" cy="420840"/>
          </a:xfrm>
          <a:prstGeom prst="rect">
            <a:avLst/>
          </a:prstGeom>
          <a:ln w="0">
            <a:noFill/>
          </a:ln>
        </p:spPr>
      </p:pic>
      <p:sp>
        <p:nvSpPr>
          <p:cNvPr id="152" name="Line 53"/>
          <p:cNvSpPr/>
          <p:nvPr/>
        </p:nvSpPr>
        <p:spPr>
          <a:xfrm>
            <a:off x="3819600" y="2171880"/>
            <a:ext cx="812880" cy="63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59"/>
          <p:cNvSpPr/>
          <p:nvPr/>
        </p:nvSpPr>
        <p:spPr>
          <a:xfrm>
            <a:off x="5776920" y="2962440"/>
            <a:ext cx="239760" cy="106200"/>
          </a:xfrm>
          <a:prstGeom prst="leftRightArrow">
            <a:avLst>
              <a:gd name="adj1" fmla="val 50000"/>
              <a:gd name="adj2" fmla="val 44943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60"/>
          <p:cNvSpPr/>
          <p:nvPr/>
        </p:nvSpPr>
        <p:spPr>
          <a:xfrm>
            <a:off x="5300640" y="2962440"/>
            <a:ext cx="238320" cy="106200"/>
          </a:xfrm>
          <a:prstGeom prst="leftRightArrow">
            <a:avLst>
              <a:gd name="adj1" fmla="val 50000"/>
              <a:gd name="adj2" fmla="val 44673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61"/>
          <p:cNvSpPr/>
          <p:nvPr/>
        </p:nvSpPr>
        <p:spPr>
          <a:xfrm>
            <a:off x="4822920" y="2909880"/>
            <a:ext cx="237960" cy="104760"/>
          </a:xfrm>
          <a:prstGeom prst="leftRightArrow">
            <a:avLst>
              <a:gd name="adj1" fmla="val 50000"/>
              <a:gd name="adj2" fmla="val 4521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280" bIns="828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64"/>
          <p:cNvSpPr/>
          <p:nvPr/>
        </p:nvSpPr>
        <p:spPr>
          <a:xfrm>
            <a:off x="4680000" y="3803760"/>
            <a:ext cx="79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6159600" y="3803760"/>
            <a:ext cx="716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2" descr=""/>
          <p:cNvPicPr/>
          <p:nvPr/>
        </p:nvPicPr>
        <p:blipFill>
          <a:blip r:embed="rId12"/>
          <a:stretch/>
        </p:blipFill>
        <p:spPr>
          <a:xfrm>
            <a:off x="6896160" y="3949560"/>
            <a:ext cx="839880" cy="879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Cj04352420000[1]"/>
          <p:cNvPicPr/>
          <p:nvPr/>
        </p:nvPicPr>
        <p:blipFill>
          <a:blip r:embed="rId13"/>
          <a:stretch/>
        </p:blipFill>
        <p:spPr>
          <a:xfrm>
            <a:off x="5079960" y="2876400"/>
            <a:ext cx="198360" cy="41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Cj04352420000[1]"/>
          <p:cNvPicPr/>
          <p:nvPr/>
        </p:nvPicPr>
        <p:blipFill>
          <a:blip r:embed="rId14"/>
          <a:stretch/>
        </p:blipFill>
        <p:spPr>
          <a:xfrm>
            <a:off x="5553000" y="2897280"/>
            <a:ext cx="198360" cy="41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MCj04352420000[1]"/>
          <p:cNvPicPr/>
          <p:nvPr/>
        </p:nvPicPr>
        <p:blipFill>
          <a:blip r:embed="rId15"/>
          <a:stretch/>
        </p:blipFill>
        <p:spPr>
          <a:xfrm>
            <a:off x="4641840" y="2801880"/>
            <a:ext cx="198360" cy="41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MCj04352420000[1]"/>
          <p:cNvPicPr/>
          <p:nvPr/>
        </p:nvPicPr>
        <p:blipFill>
          <a:blip r:embed="rId16"/>
          <a:stretch/>
        </p:blipFill>
        <p:spPr>
          <a:xfrm>
            <a:off x="6032520" y="2887560"/>
            <a:ext cx="198360" cy="414360"/>
          </a:xfrm>
          <a:prstGeom prst="rect">
            <a:avLst/>
          </a:prstGeom>
          <a:ln w="0">
            <a:noFill/>
          </a:ln>
        </p:spPr>
      </p:pic>
      <p:sp>
        <p:nvSpPr>
          <p:cNvPr id="163" name="Arc 47"/>
          <p:cNvSpPr/>
          <p:nvPr/>
        </p:nvSpPr>
        <p:spPr>
          <a:xfrm flipH="1" flipV="1">
            <a:off x="3663360" y="2435400"/>
            <a:ext cx="2925720" cy="1217520"/>
          </a:xfrm>
          <a:custGeom>
            <a:avLst/>
            <a:gdLst>
              <a:gd name="textAreaLeft" fmla="*/ -360 w 2925720"/>
              <a:gd name="textAreaRight" fmla="*/ 2925720 w 2925720"/>
              <a:gd name="textAreaTop" fmla="*/ 360 h 1217520"/>
              <a:gd name="textAreaBottom" fmla="*/ 1218240 h 121752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rc 48"/>
          <p:cNvSpPr/>
          <p:nvPr/>
        </p:nvSpPr>
        <p:spPr>
          <a:xfrm flipV="1">
            <a:off x="4549680" y="2422080"/>
            <a:ext cx="3008520" cy="1168560"/>
          </a:xfrm>
          <a:custGeom>
            <a:avLst/>
            <a:gdLst>
              <a:gd name="textAreaLeft" fmla="*/ 0 w 3008520"/>
              <a:gd name="textAreaRight" fmla="*/ 3008880 w 3008520"/>
              <a:gd name="textAreaTop" fmla="*/ 360 h 1168560"/>
              <a:gd name="textAreaBottom" fmla="*/ 1169280 h 11685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rc 48"/>
          <p:cNvSpPr/>
          <p:nvPr/>
        </p:nvSpPr>
        <p:spPr>
          <a:xfrm flipV="1">
            <a:off x="3914640" y="3720240"/>
            <a:ext cx="2997360" cy="763560"/>
          </a:xfrm>
          <a:custGeom>
            <a:avLst/>
            <a:gdLst>
              <a:gd name="textAreaLeft" fmla="*/ 0 w 2997360"/>
              <a:gd name="textAreaRight" fmla="*/ 2997720 w 2997360"/>
              <a:gd name="textAreaTop" fmla="*/ -360 h 763560"/>
              <a:gd name="textAreaBottom" fmla="*/ 763560 h 7635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rc 47"/>
          <p:cNvSpPr/>
          <p:nvPr/>
        </p:nvSpPr>
        <p:spPr>
          <a:xfrm flipH="1" flipV="1">
            <a:off x="4556880" y="3847320"/>
            <a:ext cx="2925720" cy="614520"/>
          </a:xfrm>
          <a:custGeom>
            <a:avLst/>
            <a:gdLst>
              <a:gd name="textAreaLeft" fmla="*/ -360 w 2925720"/>
              <a:gd name="textAreaRight" fmla="*/ 2925720 w 2925720"/>
              <a:gd name="textAreaTop" fmla="*/ -360 h 614520"/>
              <a:gd name="textAreaBottom" fmla="*/ 614520 h 61452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5" descr="j0299125"/>
          <p:cNvPicPr/>
          <p:nvPr/>
        </p:nvPicPr>
        <p:blipFill>
          <a:blip r:embed="rId17"/>
          <a:stretch/>
        </p:blipFill>
        <p:spPr>
          <a:xfrm>
            <a:off x="720720" y="181116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46"/>
          <p:cNvSpPr/>
          <p:nvPr/>
        </p:nvSpPr>
        <p:spPr>
          <a:xfrm>
            <a:off x="581040" y="1079640"/>
            <a:ext cx="1639800" cy="173340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1733400"/>
              <a:gd name="textAreaBottom" fmla="*/ 1733760 h 1733400"/>
            </a:gdLst>
            <a:ahLst/>
            <a:rect l="textAreaLeft" t="textAreaTop" r="textAreaRight" b="textAreaBottom"/>
            <a:pathLst>
              <a:path w="1022" h="1086">
                <a:moveTo>
                  <a:pt x="2" y="296"/>
                </a:moveTo>
                <a:cubicBezTo>
                  <a:pt x="4" y="409"/>
                  <a:pt x="5" y="845"/>
                  <a:pt x="23" y="867"/>
                </a:cubicBezTo>
                <a:cubicBezTo>
                  <a:pt x="41" y="889"/>
                  <a:pt x="81" y="887"/>
                  <a:pt x="106" y="900"/>
                </a:cubicBezTo>
                <a:cubicBezTo>
                  <a:pt x="133" y="939"/>
                  <a:pt x="138" y="983"/>
                  <a:pt x="172" y="1015"/>
                </a:cubicBezTo>
                <a:cubicBezTo>
                  <a:pt x="174" y="1033"/>
                  <a:pt x="165" y="1056"/>
                  <a:pt x="177" y="1070"/>
                </a:cubicBezTo>
                <a:cubicBezTo>
                  <a:pt x="191" y="1086"/>
                  <a:pt x="253" y="1040"/>
                  <a:pt x="265" y="1032"/>
                </a:cubicBezTo>
                <a:cubicBezTo>
                  <a:pt x="276" y="1025"/>
                  <a:pt x="298" y="1010"/>
                  <a:pt x="298" y="1010"/>
                </a:cubicBezTo>
                <a:cubicBezTo>
                  <a:pt x="335" y="1022"/>
                  <a:pt x="294" y="1005"/>
                  <a:pt x="325" y="1032"/>
                </a:cubicBezTo>
                <a:cubicBezTo>
                  <a:pt x="343" y="1048"/>
                  <a:pt x="368" y="1061"/>
                  <a:pt x="391" y="1070"/>
                </a:cubicBezTo>
                <a:cubicBezTo>
                  <a:pt x="421" y="1066"/>
                  <a:pt x="451" y="1065"/>
                  <a:pt x="479" y="1053"/>
                </a:cubicBezTo>
                <a:cubicBezTo>
                  <a:pt x="499" y="1045"/>
                  <a:pt x="514" y="1033"/>
                  <a:pt x="534" y="1026"/>
                </a:cubicBezTo>
                <a:cubicBezTo>
                  <a:pt x="560" y="988"/>
                  <a:pt x="605" y="967"/>
                  <a:pt x="643" y="944"/>
                </a:cubicBezTo>
                <a:cubicBezTo>
                  <a:pt x="682" y="921"/>
                  <a:pt x="709" y="871"/>
                  <a:pt x="742" y="840"/>
                </a:cubicBezTo>
                <a:cubicBezTo>
                  <a:pt x="781" y="761"/>
                  <a:pt x="845" y="681"/>
                  <a:pt x="896" y="609"/>
                </a:cubicBezTo>
                <a:cubicBezTo>
                  <a:pt x="932" y="559"/>
                  <a:pt x="933" y="556"/>
                  <a:pt x="956" y="521"/>
                </a:cubicBezTo>
                <a:cubicBezTo>
                  <a:pt x="971" y="497"/>
                  <a:pt x="994" y="445"/>
                  <a:pt x="994" y="445"/>
                </a:cubicBezTo>
                <a:cubicBezTo>
                  <a:pt x="1019" y="332"/>
                  <a:pt x="1011" y="379"/>
                  <a:pt x="1022" y="302"/>
                </a:cubicBezTo>
                <a:cubicBezTo>
                  <a:pt x="1019" y="246"/>
                  <a:pt x="1022" y="195"/>
                  <a:pt x="1005" y="143"/>
                </a:cubicBezTo>
                <a:cubicBezTo>
                  <a:pt x="978" y="61"/>
                  <a:pt x="869" y="14"/>
                  <a:pt x="791" y="0"/>
                </a:cubicBezTo>
                <a:cubicBezTo>
                  <a:pt x="722" y="2"/>
                  <a:pt x="652" y="2"/>
                  <a:pt x="583" y="6"/>
                </a:cubicBezTo>
                <a:cubicBezTo>
                  <a:pt x="531" y="9"/>
                  <a:pt x="429" y="22"/>
                  <a:pt x="429" y="22"/>
                </a:cubicBezTo>
                <a:cubicBezTo>
                  <a:pt x="271" y="67"/>
                  <a:pt x="449" y="20"/>
                  <a:pt x="325" y="44"/>
                </a:cubicBezTo>
                <a:cubicBezTo>
                  <a:pt x="278" y="53"/>
                  <a:pt x="235" y="77"/>
                  <a:pt x="188" y="88"/>
                </a:cubicBezTo>
                <a:cubicBezTo>
                  <a:pt x="141" y="116"/>
                  <a:pt x="104" y="154"/>
                  <a:pt x="56" y="181"/>
                </a:cubicBezTo>
                <a:cubicBezTo>
                  <a:pt x="39" y="204"/>
                  <a:pt x="27" y="205"/>
                  <a:pt x="7" y="225"/>
                </a:cubicBezTo>
                <a:cubicBezTo>
                  <a:pt x="0" y="250"/>
                  <a:pt x="10" y="271"/>
                  <a:pt x="2" y="2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47"/>
          <p:cNvSpPr/>
          <p:nvPr/>
        </p:nvSpPr>
        <p:spPr>
          <a:xfrm flipV="1">
            <a:off x="1836720" y="2630160"/>
            <a:ext cx="85392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48"/>
          <p:cNvSpPr/>
          <p:nvPr/>
        </p:nvSpPr>
        <p:spPr>
          <a:xfrm flipV="1">
            <a:off x="1849320" y="2879640"/>
            <a:ext cx="9414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9"/>
          <p:cNvSpPr/>
          <p:nvPr/>
        </p:nvSpPr>
        <p:spPr>
          <a:xfrm>
            <a:off x="1846440" y="3030480"/>
            <a:ext cx="958680" cy="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50"/>
          <p:cNvSpPr/>
          <p:nvPr/>
        </p:nvSpPr>
        <p:spPr>
          <a:xfrm>
            <a:off x="1866960" y="3025800"/>
            <a:ext cx="8110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51"/>
          <p:cNvSpPr/>
          <p:nvPr/>
        </p:nvSpPr>
        <p:spPr>
          <a:xfrm>
            <a:off x="704880" y="345744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g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3095640" y="1563840"/>
            <a:ext cx="137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22A7-F6CA-4319-8A76-34331264E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SM Deployment 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22360" y="1170000"/>
            <a:ext cx="6362640" cy="486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210960" y="612720"/>
            <a:ext cx="272124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rrent 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SM + 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4179960"/>
            <a:ext cx="279072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tHSM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651720" y="743040"/>
            <a:ext cx="24922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aybe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ybrid HSM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87480" y="2405160"/>
            <a:ext cx="10461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CI nShield Dev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031840" y="2562120"/>
            <a:ext cx="621000" cy="101880"/>
          </a:xfrm>
          <a:prstGeom prst="rightArrow">
            <a:avLst>
              <a:gd name="adj1" fmla="val 47824"/>
              <a:gd name="adj2" fmla="val 1231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6195960" y="5311800"/>
            <a:ext cx="10461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tHSM  Dev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5602320" y="5438880"/>
            <a:ext cx="590400" cy="171360"/>
          </a:xfrm>
          <a:prstGeom prst="leftArrow">
            <a:avLst>
              <a:gd name="adj1" fmla="val 50000"/>
              <a:gd name="adj2" fmla="val 86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6521400" y="4840200"/>
            <a:ext cx="149400" cy="471600"/>
          </a:xfrm>
          <a:prstGeom prst="upArrow">
            <a:avLst>
              <a:gd name="adj1" fmla="val 50000"/>
              <a:gd name="adj2" fmla="val 78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7286760" y="3659040"/>
            <a:ext cx="1639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th(inter-module path)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6494400" y="3790800"/>
            <a:ext cx="793800" cy="157320"/>
          </a:xfrm>
          <a:prstGeom prst="leftArrow">
            <a:avLst>
              <a:gd name="adj1" fmla="val 50000"/>
              <a:gd name="adj2" fmla="val 1261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2894040" y="1187280"/>
            <a:ext cx="1568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511360" y="1187280"/>
            <a:ext cx="914400" cy="341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2538360" y="4830840"/>
            <a:ext cx="3272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3"/>
          <p:cNvSpPr/>
          <p:nvPr/>
        </p:nvSpPr>
        <p:spPr>
          <a:xfrm flipH="1">
            <a:off x="6400800" y="1774800"/>
            <a:ext cx="519120" cy="546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7DC6-AB06-48B3-9076-41FB03A17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Will DOEGrids CA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14560" y="41958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66720" y="31939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389400" y="33940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082520" y="14558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54000" y="19638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599240" y="53020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272280" y="29624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56360" y="29163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7967520" y="39942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851360" y="28717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295360" y="2975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832040" y="24051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297080" y="45356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589880" y="31813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8215200" y="34624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7048440" y="39178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20"/>
          <p:cNvGrpSpPr/>
          <p:nvPr/>
        </p:nvGrpSpPr>
        <p:grpSpPr>
          <a:xfrm>
            <a:off x="746280" y="1336680"/>
            <a:ext cx="8397360" cy="5082840"/>
            <a:chOff x="746280" y="1336680"/>
            <a:chExt cx="8397360" cy="5082840"/>
          </a:xfrm>
        </p:grpSpPr>
        <p:sp>
          <p:nvSpPr>
            <p:cNvPr id="215" name="Freeform 21"/>
            <p:cNvSpPr/>
            <p:nvPr/>
          </p:nvSpPr>
          <p:spPr>
            <a:xfrm>
              <a:off x="746280" y="2626200"/>
              <a:ext cx="1294560" cy="213480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2134800"/>
                <a:gd name="textAreaBottom" fmla="*/ 2135160 h 2134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46" y="10000"/>
                  </a:moveTo>
                  <a:lnTo>
                    <a:pt x="5692" y="9833"/>
                  </a:lnTo>
                  <a:lnTo>
                    <a:pt x="5692" y="9754"/>
                  </a:lnTo>
                  <a:lnTo>
                    <a:pt x="5559" y="9666"/>
                  </a:lnTo>
                  <a:lnTo>
                    <a:pt x="5692" y="9666"/>
                  </a:lnTo>
                  <a:lnTo>
                    <a:pt x="5559" y="9666"/>
                  </a:lnTo>
                  <a:lnTo>
                    <a:pt x="5559" y="9587"/>
                  </a:lnTo>
                  <a:lnTo>
                    <a:pt x="5559" y="9508"/>
                  </a:lnTo>
                  <a:lnTo>
                    <a:pt x="5559" y="9253"/>
                  </a:lnTo>
                  <a:lnTo>
                    <a:pt x="5280" y="8841"/>
                  </a:lnTo>
                  <a:lnTo>
                    <a:pt x="5147" y="8762"/>
                  </a:lnTo>
                  <a:lnTo>
                    <a:pt x="5000" y="8674"/>
                  </a:lnTo>
                  <a:lnTo>
                    <a:pt x="4719" y="8516"/>
                  </a:lnTo>
                  <a:lnTo>
                    <a:pt x="4439" y="8516"/>
                  </a:lnTo>
                  <a:lnTo>
                    <a:pt x="4439" y="8349"/>
                  </a:lnTo>
                  <a:lnTo>
                    <a:pt x="4439" y="8261"/>
                  </a:lnTo>
                  <a:lnTo>
                    <a:pt x="4439" y="8182"/>
                  </a:lnTo>
                  <a:lnTo>
                    <a:pt x="4026" y="8182"/>
                  </a:lnTo>
                  <a:lnTo>
                    <a:pt x="3892" y="8094"/>
                  </a:lnTo>
                  <a:lnTo>
                    <a:pt x="3612" y="8015"/>
                  </a:lnTo>
                  <a:lnTo>
                    <a:pt x="3480" y="7848"/>
                  </a:lnTo>
                  <a:lnTo>
                    <a:pt x="3333" y="7682"/>
                  </a:lnTo>
                  <a:lnTo>
                    <a:pt x="3053" y="7682"/>
                  </a:lnTo>
                  <a:lnTo>
                    <a:pt x="2507" y="7524"/>
                  </a:lnTo>
                  <a:lnTo>
                    <a:pt x="2359" y="7524"/>
                  </a:lnTo>
                  <a:lnTo>
                    <a:pt x="2079" y="7436"/>
                  </a:lnTo>
                  <a:lnTo>
                    <a:pt x="1946" y="7357"/>
                  </a:lnTo>
                  <a:lnTo>
                    <a:pt x="1946" y="7269"/>
                  </a:lnTo>
                  <a:lnTo>
                    <a:pt x="2079" y="7269"/>
                  </a:lnTo>
                  <a:lnTo>
                    <a:pt x="2079" y="7023"/>
                  </a:lnTo>
                  <a:lnTo>
                    <a:pt x="2227" y="6944"/>
                  </a:lnTo>
                  <a:lnTo>
                    <a:pt x="2079" y="6777"/>
                  </a:lnTo>
                  <a:lnTo>
                    <a:pt x="1946" y="6690"/>
                  </a:lnTo>
                  <a:lnTo>
                    <a:pt x="1946" y="6611"/>
                  </a:lnTo>
                  <a:lnTo>
                    <a:pt x="2079" y="6611"/>
                  </a:lnTo>
                  <a:lnTo>
                    <a:pt x="2079" y="6532"/>
                  </a:lnTo>
                  <a:lnTo>
                    <a:pt x="1946" y="6444"/>
                  </a:lnTo>
                  <a:lnTo>
                    <a:pt x="1532" y="6109"/>
                  </a:lnTo>
                  <a:lnTo>
                    <a:pt x="1532" y="5951"/>
                  </a:lnTo>
                  <a:lnTo>
                    <a:pt x="1386" y="5864"/>
                  </a:lnTo>
                  <a:lnTo>
                    <a:pt x="1386" y="5784"/>
                  </a:lnTo>
                  <a:lnTo>
                    <a:pt x="1106" y="5539"/>
                  </a:lnTo>
                  <a:lnTo>
                    <a:pt x="1253" y="5284"/>
                  </a:lnTo>
                  <a:lnTo>
                    <a:pt x="1253" y="5206"/>
                  </a:lnTo>
                  <a:lnTo>
                    <a:pt x="1386" y="5206"/>
                  </a:lnTo>
                  <a:lnTo>
                    <a:pt x="1386" y="4959"/>
                  </a:lnTo>
                  <a:lnTo>
                    <a:pt x="1253" y="4872"/>
                  </a:lnTo>
                  <a:lnTo>
                    <a:pt x="973" y="4792"/>
                  </a:lnTo>
                  <a:lnTo>
                    <a:pt x="973" y="4626"/>
                  </a:lnTo>
                  <a:lnTo>
                    <a:pt x="973" y="4381"/>
                  </a:lnTo>
                  <a:lnTo>
                    <a:pt x="973" y="4292"/>
                  </a:lnTo>
                  <a:lnTo>
                    <a:pt x="973" y="4047"/>
                  </a:lnTo>
                  <a:lnTo>
                    <a:pt x="1106" y="4047"/>
                  </a:lnTo>
                  <a:lnTo>
                    <a:pt x="1106" y="4126"/>
                  </a:lnTo>
                  <a:lnTo>
                    <a:pt x="1106" y="4292"/>
                  </a:lnTo>
                  <a:lnTo>
                    <a:pt x="1253" y="4292"/>
                  </a:lnTo>
                  <a:lnTo>
                    <a:pt x="1386" y="4381"/>
                  </a:lnTo>
                  <a:lnTo>
                    <a:pt x="1386" y="4292"/>
                  </a:lnTo>
                  <a:lnTo>
                    <a:pt x="1386" y="4047"/>
                  </a:lnTo>
                  <a:lnTo>
                    <a:pt x="1386" y="3880"/>
                  </a:lnTo>
                  <a:lnTo>
                    <a:pt x="1386" y="3801"/>
                  </a:lnTo>
                  <a:lnTo>
                    <a:pt x="1106" y="3967"/>
                  </a:lnTo>
                  <a:lnTo>
                    <a:pt x="1106" y="4047"/>
                  </a:lnTo>
                  <a:lnTo>
                    <a:pt x="973" y="4047"/>
                  </a:lnTo>
                  <a:lnTo>
                    <a:pt x="839" y="3801"/>
                  </a:lnTo>
                  <a:lnTo>
                    <a:pt x="560" y="3801"/>
                  </a:lnTo>
                  <a:lnTo>
                    <a:pt x="693" y="3712"/>
                  </a:lnTo>
                  <a:lnTo>
                    <a:pt x="693" y="3387"/>
                  </a:lnTo>
                  <a:lnTo>
                    <a:pt x="412" y="3134"/>
                  </a:lnTo>
                  <a:lnTo>
                    <a:pt x="412" y="3055"/>
                  </a:lnTo>
                  <a:lnTo>
                    <a:pt x="132" y="2809"/>
                  </a:lnTo>
                  <a:lnTo>
                    <a:pt x="280" y="2721"/>
                  </a:lnTo>
                  <a:lnTo>
                    <a:pt x="280" y="2563"/>
                  </a:lnTo>
                  <a:lnTo>
                    <a:pt x="132" y="2563"/>
                  </a:lnTo>
                  <a:lnTo>
                    <a:pt x="280" y="2309"/>
                  </a:lnTo>
                  <a:lnTo>
                    <a:pt x="412" y="2230"/>
                  </a:lnTo>
                  <a:lnTo>
                    <a:pt x="412" y="1984"/>
                  </a:lnTo>
                  <a:lnTo>
                    <a:pt x="280" y="1817"/>
                  </a:lnTo>
                  <a:lnTo>
                    <a:pt x="280" y="1729"/>
                  </a:lnTo>
                  <a:lnTo>
                    <a:pt x="132" y="1650"/>
                  </a:lnTo>
                  <a:lnTo>
                    <a:pt x="0" y="1571"/>
                  </a:lnTo>
                  <a:lnTo>
                    <a:pt x="0" y="1404"/>
                  </a:lnTo>
                  <a:lnTo>
                    <a:pt x="0" y="1316"/>
                  </a:lnTo>
                  <a:lnTo>
                    <a:pt x="280" y="1150"/>
                  </a:lnTo>
                  <a:lnTo>
                    <a:pt x="693" y="825"/>
                  </a:lnTo>
                  <a:lnTo>
                    <a:pt x="693" y="737"/>
                  </a:lnTo>
                  <a:lnTo>
                    <a:pt x="839" y="657"/>
                  </a:lnTo>
                  <a:lnTo>
                    <a:pt x="973" y="491"/>
                  </a:lnTo>
                  <a:lnTo>
                    <a:pt x="973" y="245"/>
                  </a:lnTo>
                  <a:lnTo>
                    <a:pt x="973" y="157"/>
                  </a:lnTo>
                  <a:lnTo>
                    <a:pt x="973" y="79"/>
                  </a:lnTo>
                  <a:lnTo>
                    <a:pt x="973" y="0"/>
                  </a:lnTo>
                  <a:lnTo>
                    <a:pt x="5692" y="737"/>
                  </a:lnTo>
                  <a:lnTo>
                    <a:pt x="4439" y="3467"/>
                  </a:lnTo>
                  <a:lnTo>
                    <a:pt x="9587" y="7936"/>
                  </a:lnTo>
                  <a:lnTo>
                    <a:pt x="9587" y="8094"/>
                  </a:lnTo>
                  <a:lnTo>
                    <a:pt x="9587" y="8182"/>
                  </a:lnTo>
                  <a:lnTo>
                    <a:pt x="9719" y="8261"/>
                  </a:lnTo>
                  <a:lnTo>
                    <a:pt x="9719" y="8349"/>
                  </a:lnTo>
                  <a:lnTo>
                    <a:pt x="9719" y="8428"/>
                  </a:lnTo>
                  <a:lnTo>
                    <a:pt x="9867" y="8516"/>
                  </a:lnTo>
                  <a:lnTo>
                    <a:pt x="9867" y="8595"/>
                  </a:lnTo>
                  <a:lnTo>
                    <a:pt x="10000" y="8674"/>
                  </a:lnTo>
                  <a:lnTo>
                    <a:pt x="10000" y="8762"/>
                  </a:lnTo>
                  <a:lnTo>
                    <a:pt x="9719" y="8762"/>
                  </a:lnTo>
                  <a:lnTo>
                    <a:pt x="9454" y="8841"/>
                  </a:lnTo>
                  <a:lnTo>
                    <a:pt x="9454" y="8928"/>
                  </a:lnTo>
                  <a:lnTo>
                    <a:pt x="9306" y="9174"/>
                  </a:lnTo>
                  <a:lnTo>
                    <a:pt x="9026" y="9341"/>
                  </a:lnTo>
                  <a:lnTo>
                    <a:pt x="9026" y="9420"/>
                  </a:lnTo>
                  <a:lnTo>
                    <a:pt x="9026" y="9508"/>
                  </a:lnTo>
                  <a:lnTo>
                    <a:pt x="9026" y="9587"/>
                  </a:lnTo>
                  <a:lnTo>
                    <a:pt x="8893" y="9666"/>
                  </a:lnTo>
                  <a:lnTo>
                    <a:pt x="9026" y="9754"/>
                  </a:lnTo>
                  <a:lnTo>
                    <a:pt x="9026" y="9833"/>
                  </a:lnTo>
                  <a:lnTo>
                    <a:pt x="9174" y="9833"/>
                  </a:lnTo>
                  <a:lnTo>
                    <a:pt x="9026" y="9920"/>
                  </a:lnTo>
                  <a:lnTo>
                    <a:pt x="9026" y="10000"/>
                  </a:lnTo>
                  <a:lnTo>
                    <a:pt x="8893" y="10000"/>
                  </a:lnTo>
                  <a:lnTo>
                    <a:pt x="8746" y="10000"/>
                  </a:lnTo>
                  <a:close/>
                  <a:moveTo>
                    <a:pt x="8746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2"/>
            <p:cNvSpPr/>
            <p:nvPr/>
          </p:nvSpPr>
          <p:spPr>
            <a:xfrm>
              <a:off x="1914840" y="1531440"/>
              <a:ext cx="952920" cy="15181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06" y="0"/>
                  </a:moveTo>
                  <a:lnTo>
                    <a:pt x="4529" y="234"/>
                  </a:lnTo>
                  <a:lnTo>
                    <a:pt x="4148" y="1506"/>
                  </a:lnTo>
                  <a:lnTo>
                    <a:pt x="4348" y="1739"/>
                  </a:lnTo>
                  <a:lnTo>
                    <a:pt x="4529" y="1975"/>
                  </a:lnTo>
                  <a:lnTo>
                    <a:pt x="4348" y="2086"/>
                  </a:lnTo>
                  <a:lnTo>
                    <a:pt x="4348" y="2209"/>
                  </a:lnTo>
                  <a:lnTo>
                    <a:pt x="4529" y="2320"/>
                  </a:lnTo>
                  <a:lnTo>
                    <a:pt x="4729" y="2444"/>
                  </a:lnTo>
                  <a:lnTo>
                    <a:pt x="4909" y="2666"/>
                  </a:lnTo>
                  <a:lnTo>
                    <a:pt x="5290" y="2901"/>
                  </a:lnTo>
                  <a:lnTo>
                    <a:pt x="5290" y="3134"/>
                  </a:lnTo>
                  <a:lnTo>
                    <a:pt x="5470" y="3245"/>
                  </a:lnTo>
                  <a:lnTo>
                    <a:pt x="5670" y="3370"/>
                  </a:lnTo>
                  <a:lnTo>
                    <a:pt x="6051" y="3481"/>
                  </a:lnTo>
                  <a:lnTo>
                    <a:pt x="5670" y="3950"/>
                  </a:lnTo>
                  <a:lnTo>
                    <a:pt x="5670" y="4061"/>
                  </a:lnTo>
                  <a:lnTo>
                    <a:pt x="5470" y="4061"/>
                  </a:lnTo>
                  <a:lnTo>
                    <a:pt x="5470" y="4295"/>
                  </a:lnTo>
                  <a:lnTo>
                    <a:pt x="5670" y="4295"/>
                  </a:lnTo>
                  <a:lnTo>
                    <a:pt x="5470" y="4419"/>
                  </a:lnTo>
                  <a:lnTo>
                    <a:pt x="5470" y="4530"/>
                  </a:lnTo>
                  <a:lnTo>
                    <a:pt x="5470" y="4641"/>
                  </a:lnTo>
                  <a:lnTo>
                    <a:pt x="5290" y="4765"/>
                  </a:lnTo>
                  <a:lnTo>
                    <a:pt x="5470" y="4876"/>
                  </a:lnTo>
                  <a:lnTo>
                    <a:pt x="5670" y="4876"/>
                  </a:lnTo>
                  <a:lnTo>
                    <a:pt x="6051" y="4765"/>
                  </a:lnTo>
                  <a:lnTo>
                    <a:pt x="6231" y="4765"/>
                  </a:lnTo>
                  <a:lnTo>
                    <a:pt x="6231" y="4876"/>
                  </a:lnTo>
                  <a:lnTo>
                    <a:pt x="6412" y="4876"/>
                  </a:lnTo>
                  <a:lnTo>
                    <a:pt x="6412" y="5000"/>
                  </a:lnTo>
                  <a:lnTo>
                    <a:pt x="6412" y="5345"/>
                  </a:lnTo>
                  <a:lnTo>
                    <a:pt x="6613" y="5456"/>
                  </a:lnTo>
                  <a:lnTo>
                    <a:pt x="6793" y="5691"/>
                  </a:lnTo>
                  <a:lnTo>
                    <a:pt x="6613" y="5814"/>
                  </a:lnTo>
                  <a:lnTo>
                    <a:pt x="6793" y="6037"/>
                  </a:lnTo>
                  <a:lnTo>
                    <a:pt x="6993" y="6159"/>
                  </a:lnTo>
                  <a:lnTo>
                    <a:pt x="7174" y="6159"/>
                  </a:lnTo>
                  <a:lnTo>
                    <a:pt x="6993" y="6395"/>
                  </a:lnTo>
                  <a:lnTo>
                    <a:pt x="7174" y="6629"/>
                  </a:lnTo>
                  <a:lnTo>
                    <a:pt x="7374" y="6629"/>
                  </a:lnTo>
                  <a:lnTo>
                    <a:pt x="7374" y="6506"/>
                  </a:lnTo>
                  <a:lnTo>
                    <a:pt x="7555" y="6506"/>
                  </a:lnTo>
                  <a:lnTo>
                    <a:pt x="7935" y="6629"/>
                  </a:lnTo>
                  <a:lnTo>
                    <a:pt x="8116" y="6629"/>
                  </a:lnTo>
                  <a:lnTo>
                    <a:pt x="8116" y="6506"/>
                  </a:lnTo>
                  <a:lnTo>
                    <a:pt x="8316" y="6506"/>
                  </a:lnTo>
                  <a:lnTo>
                    <a:pt x="8316" y="6629"/>
                  </a:lnTo>
                  <a:lnTo>
                    <a:pt x="8877" y="6629"/>
                  </a:lnTo>
                  <a:lnTo>
                    <a:pt x="9058" y="6629"/>
                  </a:lnTo>
                  <a:lnTo>
                    <a:pt x="9438" y="6629"/>
                  </a:lnTo>
                  <a:lnTo>
                    <a:pt x="9438" y="6506"/>
                  </a:lnTo>
                  <a:lnTo>
                    <a:pt x="9639" y="6395"/>
                  </a:lnTo>
                  <a:lnTo>
                    <a:pt x="9819" y="6629"/>
                  </a:lnTo>
                  <a:lnTo>
                    <a:pt x="10000" y="6740"/>
                  </a:lnTo>
                  <a:lnTo>
                    <a:pt x="9258" y="10000"/>
                  </a:lnTo>
                  <a:lnTo>
                    <a:pt x="4729" y="9530"/>
                  </a:lnTo>
                  <a:lnTo>
                    <a:pt x="0" y="8950"/>
                  </a:lnTo>
                  <a:lnTo>
                    <a:pt x="761" y="6629"/>
                  </a:lnTo>
                  <a:lnTo>
                    <a:pt x="941" y="6395"/>
                  </a:lnTo>
                  <a:lnTo>
                    <a:pt x="1142" y="6270"/>
                  </a:lnTo>
                  <a:lnTo>
                    <a:pt x="1142" y="6159"/>
                  </a:lnTo>
                  <a:lnTo>
                    <a:pt x="1142" y="6037"/>
                  </a:lnTo>
                  <a:lnTo>
                    <a:pt x="761" y="5925"/>
                  </a:lnTo>
                  <a:lnTo>
                    <a:pt x="761" y="5814"/>
                  </a:lnTo>
                  <a:lnTo>
                    <a:pt x="761" y="5691"/>
                  </a:lnTo>
                  <a:lnTo>
                    <a:pt x="1322" y="5345"/>
                  </a:lnTo>
                  <a:lnTo>
                    <a:pt x="1703" y="5234"/>
                  </a:lnTo>
                  <a:lnTo>
                    <a:pt x="1703" y="5111"/>
                  </a:lnTo>
                  <a:lnTo>
                    <a:pt x="1703" y="5000"/>
                  </a:lnTo>
                  <a:lnTo>
                    <a:pt x="2464" y="4419"/>
                  </a:lnTo>
                  <a:lnTo>
                    <a:pt x="2464" y="4184"/>
                  </a:lnTo>
                  <a:lnTo>
                    <a:pt x="2264" y="4061"/>
                  </a:lnTo>
                  <a:lnTo>
                    <a:pt x="2084" y="4061"/>
                  </a:lnTo>
                  <a:lnTo>
                    <a:pt x="1882" y="3950"/>
                  </a:lnTo>
                  <a:lnTo>
                    <a:pt x="1882" y="3839"/>
                  </a:lnTo>
                  <a:lnTo>
                    <a:pt x="1882" y="3603"/>
                  </a:lnTo>
                  <a:lnTo>
                    <a:pt x="1882" y="3370"/>
                  </a:lnTo>
                  <a:lnTo>
                    <a:pt x="1882" y="3245"/>
                  </a:lnTo>
                  <a:lnTo>
                    <a:pt x="3206" y="0"/>
                  </a:lnTo>
                  <a:close/>
                  <a:moveTo>
                    <a:pt x="3206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>
              <a:off x="1914840" y="1531440"/>
              <a:ext cx="952920" cy="15181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06" y="0"/>
                  </a:moveTo>
                  <a:lnTo>
                    <a:pt x="4529" y="234"/>
                  </a:lnTo>
                  <a:lnTo>
                    <a:pt x="4148" y="1506"/>
                  </a:lnTo>
                  <a:lnTo>
                    <a:pt x="4348" y="1739"/>
                  </a:lnTo>
                  <a:lnTo>
                    <a:pt x="4529" y="1975"/>
                  </a:lnTo>
                  <a:lnTo>
                    <a:pt x="4348" y="2086"/>
                  </a:lnTo>
                  <a:lnTo>
                    <a:pt x="4348" y="2209"/>
                  </a:lnTo>
                  <a:lnTo>
                    <a:pt x="4529" y="2320"/>
                  </a:lnTo>
                  <a:lnTo>
                    <a:pt x="4729" y="2444"/>
                  </a:lnTo>
                  <a:lnTo>
                    <a:pt x="4909" y="2666"/>
                  </a:lnTo>
                  <a:lnTo>
                    <a:pt x="5290" y="2901"/>
                  </a:lnTo>
                  <a:lnTo>
                    <a:pt x="5290" y="3134"/>
                  </a:lnTo>
                  <a:lnTo>
                    <a:pt x="5470" y="3245"/>
                  </a:lnTo>
                  <a:lnTo>
                    <a:pt x="5670" y="3370"/>
                  </a:lnTo>
                  <a:lnTo>
                    <a:pt x="6051" y="3481"/>
                  </a:lnTo>
                  <a:lnTo>
                    <a:pt x="5670" y="3950"/>
                  </a:lnTo>
                  <a:lnTo>
                    <a:pt x="5670" y="4061"/>
                  </a:lnTo>
                  <a:lnTo>
                    <a:pt x="5470" y="4061"/>
                  </a:lnTo>
                  <a:lnTo>
                    <a:pt x="5470" y="4295"/>
                  </a:lnTo>
                  <a:lnTo>
                    <a:pt x="5670" y="4295"/>
                  </a:lnTo>
                  <a:lnTo>
                    <a:pt x="5470" y="4419"/>
                  </a:lnTo>
                  <a:lnTo>
                    <a:pt x="5470" y="4530"/>
                  </a:lnTo>
                  <a:lnTo>
                    <a:pt x="5470" y="4641"/>
                  </a:lnTo>
                  <a:lnTo>
                    <a:pt x="5290" y="4765"/>
                  </a:lnTo>
                  <a:lnTo>
                    <a:pt x="5470" y="4876"/>
                  </a:lnTo>
                  <a:lnTo>
                    <a:pt x="5670" y="4876"/>
                  </a:lnTo>
                  <a:lnTo>
                    <a:pt x="6051" y="4765"/>
                  </a:lnTo>
                  <a:lnTo>
                    <a:pt x="6231" y="4765"/>
                  </a:lnTo>
                  <a:lnTo>
                    <a:pt x="6231" y="4876"/>
                  </a:lnTo>
                  <a:lnTo>
                    <a:pt x="6412" y="4876"/>
                  </a:lnTo>
                  <a:lnTo>
                    <a:pt x="6412" y="5000"/>
                  </a:lnTo>
                  <a:lnTo>
                    <a:pt x="6412" y="5345"/>
                  </a:lnTo>
                  <a:lnTo>
                    <a:pt x="6613" y="5456"/>
                  </a:lnTo>
                  <a:lnTo>
                    <a:pt x="6793" y="5691"/>
                  </a:lnTo>
                  <a:lnTo>
                    <a:pt x="6613" y="5814"/>
                  </a:lnTo>
                  <a:lnTo>
                    <a:pt x="6793" y="6037"/>
                  </a:lnTo>
                  <a:lnTo>
                    <a:pt x="6993" y="6159"/>
                  </a:lnTo>
                  <a:lnTo>
                    <a:pt x="7174" y="6159"/>
                  </a:lnTo>
                  <a:lnTo>
                    <a:pt x="6993" y="6395"/>
                  </a:lnTo>
                  <a:lnTo>
                    <a:pt x="7174" y="6629"/>
                  </a:lnTo>
                  <a:lnTo>
                    <a:pt x="7374" y="6629"/>
                  </a:lnTo>
                  <a:lnTo>
                    <a:pt x="7374" y="6506"/>
                  </a:lnTo>
                  <a:lnTo>
                    <a:pt x="7555" y="6506"/>
                  </a:lnTo>
                  <a:lnTo>
                    <a:pt x="7935" y="6629"/>
                  </a:lnTo>
                  <a:lnTo>
                    <a:pt x="8116" y="6629"/>
                  </a:lnTo>
                  <a:lnTo>
                    <a:pt x="8116" y="6506"/>
                  </a:lnTo>
                  <a:lnTo>
                    <a:pt x="8316" y="6506"/>
                  </a:lnTo>
                  <a:lnTo>
                    <a:pt x="8316" y="6629"/>
                  </a:lnTo>
                  <a:lnTo>
                    <a:pt x="8877" y="6629"/>
                  </a:lnTo>
                  <a:lnTo>
                    <a:pt x="9058" y="6629"/>
                  </a:lnTo>
                  <a:lnTo>
                    <a:pt x="9438" y="6629"/>
                  </a:lnTo>
                  <a:lnTo>
                    <a:pt x="9438" y="6506"/>
                  </a:lnTo>
                  <a:lnTo>
                    <a:pt x="9639" y="6395"/>
                  </a:lnTo>
                  <a:lnTo>
                    <a:pt x="9819" y="6629"/>
                  </a:lnTo>
                  <a:lnTo>
                    <a:pt x="10000" y="6740"/>
                  </a:lnTo>
                  <a:lnTo>
                    <a:pt x="9258" y="10000"/>
                  </a:lnTo>
                  <a:lnTo>
                    <a:pt x="4729" y="9530"/>
                  </a:lnTo>
                  <a:lnTo>
                    <a:pt x="0" y="8950"/>
                  </a:lnTo>
                  <a:lnTo>
                    <a:pt x="761" y="6629"/>
                  </a:lnTo>
                  <a:lnTo>
                    <a:pt x="941" y="6395"/>
                  </a:lnTo>
                  <a:lnTo>
                    <a:pt x="1142" y="6270"/>
                  </a:lnTo>
                  <a:lnTo>
                    <a:pt x="1142" y="6159"/>
                  </a:lnTo>
                  <a:lnTo>
                    <a:pt x="1142" y="6037"/>
                  </a:lnTo>
                  <a:lnTo>
                    <a:pt x="761" y="5925"/>
                  </a:lnTo>
                  <a:lnTo>
                    <a:pt x="761" y="5814"/>
                  </a:lnTo>
                  <a:lnTo>
                    <a:pt x="761" y="5691"/>
                  </a:lnTo>
                  <a:lnTo>
                    <a:pt x="1322" y="5345"/>
                  </a:lnTo>
                  <a:lnTo>
                    <a:pt x="1703" y="5234"/>
                  </a:lnTo>
                  <a:lnTo>
                    <a:pt x="1703" y="5111"/>
                  </a:lnTo>
                  <a:lnTo>
                    <a:pt x="1703" y="5000"/>
                  </a:lnTo>
                  <a:lnTo>
                    <a:pt x="2464" y="4419"/>
                  </a:lnTo>
                  <a:lnTo>
                    <a:pt x="2464" y="4184"/>
                  </a:lnTo>
                  <a:lnTo>
                    <a:pt x="2264" y="4061"/>
                  </a:lnTo>
                  <a:lnTo>
                    <a:pt x="2084" y="4061"/>
                  </a:lnTo>
                  <a:lnTo>
                    <a:pt x="1882" y="3950"/>
                  </a:lnTo>
                  <a:lnTo>
                    <a:pt x="1882" y="3839"/>
                  </a:lnTo>
                  <a:lnTo>
                    <a:pt x="1882" y="3603"/>
                  </a:lnTo>
                  <a:lnTo>
                    <a:pt x="1882" y="3370"/>
                  </a:lnTo>
                  <a:lnTo>
                    <a:pt x="1882" y="3245"/>
                  </a:lnTo>
                  <a:lnTo>
                    <a:pt x="3206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4"/>
            <p:cNvSpPr/>
            <p:nvPr/>
          </p:nvSpPr>
          <p:spPr>
            <a:xfrm>
              <a:off x="872280" y="1831320"/>
              <a:ext cx="1277640" cy="105912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7504"/>
                  </a:moveTo>
                  <a:lnTo>
                    <a:pt x="0" y="7327"/>
                  </a:lnTo>
                  <a:lnTo>
                    <a:pt x="0" y="6991"/>
                  </a:lnTo>
                  <a:lnTo>
                    <a:pt x="0" y="6831"/>
                  </a:lnTo>
                  <a:lnTo>
                    <a:pt x="0" y="6672"/>
                  </a:lnTo>
                  <a:lnTo>
                    <a:pt x="0" y="6336"/>
                  </a:lnTo>
                  <a:lnTo>
                    <a:pt x="0" y="5823"/>
                  </a:lnTo>
                  <a:lnTo>
                    <a:pt x="0" y="5662"/>
                  </a:lnTo>
                  <a:lnTo>
                    <a:pt x="134" y="5504"/>
                  </a:lnTo>
                  <a:lnTo>
                    <a:pt x="284" y="5326"/>
                  </a:lnTo>
                  <a:lnTo>
                    <a:pt x="418" y="5167"/>
                  </a:lnTo>
                  <a:lnTo>
                    <a:pt x="418" y="4831"/>
                  </a:lnTo>
                  <a:lnTo>
                    <a:pt x="702" y="4495"/>
                  </a:lnTo>
                  <a:lnTo>
                    <a:pt x="986" y="4159"/>
                  </a:lnTo>
                  <a:lnTo>
                    <a:pt x="1121" y="3662"/>
                  </a:lnTo>
                  <a:lnTo>
                    <a:pt x="1405" y="2495"/>
                  </a:lnTo>
                  <a:lnTo>
                    <a:pt x="1689" y="2000"/>
                  </a:lnTo>
                  <a:lnTo>
                    <a:pt x="1823" y="1327"/>
                  </a:lnTo>
                  <a:lnTo>
                    <a:pt x="1973" y="672"/>
                  </a:lnTo>
                  <a:lnTo>
                    <a:pt x="2107" y="336"/>
                  </a:lnTo>
                  <a:lnTo>
                    <a:pt x="2107" y="0"/>
                  </a:lnTo>
                  <a:lnTo>
                    <a:pt x="2257" y="0"/>
                  </a:lnTo>
                  <a:lnTo>
                    <a:pt x="2541" y="0"/>
                  </a:lnTo>
                  <a:lnTo>
                    <a:pt x="2675" y="0"/>
                  </a:lnTo>
                  <a:lnTo>
                    <a:pt x="2809" y="159"/>
                  </a:lnTo>
                  <a:lnTo>
                    <a:pt x="2809" y="336"/>
                  </a:lnTo>
                  <a:lnTo>
                    <a:pt x="2959" y="336"/>
                  </a:lnTo>
                  <a:lnTo>
                    <a:pt x="3242" y="495"/>
                  </a:lnTo>
                  <a:lnTo>
                    <a:pt x="3242" y="831"/>
                  </a:lnTo>
                  <a:lnTo>
                    <a:pt x="3242" y="1327"/>
                  </a:lnTo>
                  <a:lnTo>
                    <a:pt x="3242" y="1504"/>
                  </a:lnTo>
                  <a:lnTo>
                    <a:pt x="3512" y="1823"/>
                  </a:lnTo>
                  <a:lnTo>
                    <a:pt x="4080" y="1823"/>
                  </a:lnTo>
                  <a:lnTo>
                    <a:pt x="4230" y="1823"/>
                  </a:lnTo>
                  <a:lnTo>
                    <a:pt x="4498" y="1823"/>
                  </a:lnTo>
                  <a:lnTo>
                    <a:pt x="4931" y="1823"/>
                  </a:lnTo>
                  <a:lnTo>
                    <a:pt x="5067" y="2000"/>
                  </a:lnTo>
                  <a:lnTo>
                    <a:pt x="5484" y="2000"/>
                  </a:lnTo>
                  <a:lnTo>
                    <a:pt x="5634" y="2000"/>
                  </a:lnTo>
                  <a:lnTo>
                    <a:pt x="5634" y="2159"/>
                  </a:lnTo>
                  <a:lnTo>
                    <a:pt x="6053" y="2159"/>
                  </a:lnTo>
                  <a:lnTo>
                    <a:pt x="6187" y="2000"/>
                  </a:lnTo>
                  <a:lnTo>
                    <a:pt x="6472" y="2000"/>
                  </a:lnTo>
                  <a:lnTo>
                    <a:pt x="6621" y="2000"/>
                  </a:lnTo>
                  <a:lnTo>
                    <a:pt x="6756" y="2000"/>
                  </a:lnTo>
                  <a:lnTo>
                    <a:pt x="6905" y="2000"/>
                  </a:lnTo>
                  <a:lnTo>
                    <a:pt x="7040" y="2000"/>
                  </a:lnTo>
                  <a:lnTo>
                    <a:pt x="7040" y="2159"/>
                  </a:lnTo>
                  <a:lnTo>
                    <a:pt x="7174" y="2159"/>
                  </a:lnTo>
                  <a:lnTo>
                    <a:pt x="7458" y="2000"/>
                  </a:lnTo>
                  <a:lnTo>
                    <a:pt x="9566" y="2671"/>
                  </a:lnTo>
                  <a:lnTo>
                    <a:pt x="9566" y="2831"/>
                  </a:lnTo>
                  <a:lnTo>
                    <a:pt x="9715" y="2991"/>
                  </a:lnTo>
                  <a:lnTo>
                    <a:pt x="9850" y="2991"/>
                  </a:lnTo>
                  <a:lnTo>
                    <a:pt x="10000" y="3167"/>
                  </a:lnTo>
                  <a:lnTo>
                    <a:pt x="10000" y="3503"/>
                  </a:lnTo>
                  <a:lnTo>
                    <a:pt x="9431" y="4336"/>
                  </a:lnTo>
                  <a:lnTo>
                    <a:pt x="9431" y="4495"/>
                  </a:lnTo>
                  <a:lnTo>
                    <a:pt x="9431" y="4672"/>
                  </a:lnTo>
                  <a:lnTo>
                    <a:pt x="9147" y="4831"/>
                  </a:lnTo>
                  <a:lnTo>
                    <a:pt x="8729" y="5326"/>
                  </a:lnTo>
                  <a:lnTo>
                    <a:pt x="8729" y="5504"/>
                  </a:lnTo>
                  <a:lnTo>
                    <a:pt x="8729" y="5662"/>
                  </a:lnTo>
                  <a:lnTo>
                    <a:pt x="9013" y="5823"/>
                  </a:lnTo>
                  <a:lnTo>
                    <a:pt x="9013" y="6000"/>
                  </a:lnTo>
                  <a:lnTo>
                    <a:pt x="9013" y="6159"/>
                  </a:lnTo>
                  <a:lnTo>
                    <a:pt x="8863" y="6336"/>
                  </a:lnTo>
                  <a:lnTo>
                    <a:pt x="8729" y="6672"/>
                  </a:lnTo>
                  <a:lnTo>
                    <a:pt x="8161" y="10000"/>
                  </a:lnTo>
                  <a:lnTo>
                    <a:pt x="4783" y="8991"/>
                  </a:lnTo>
                  <a:lnTo>
                    <a:pt x="0" y="7504"/>
                  </a:lnTo>
                  <a:close/>
                  <a:moveTo>
                    <a:pt x="0" y="750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872280" y="1831320"/>
              <a:ext cx="1277640" cy="105912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7504"/>
                  </a:moveTo>
                  <a:lnTo>
                    <a:pt x="0" y="7327"/>
                  </a:lnTo>
                  <a:lnTo>
                    <a:pt x="0" y="6991"/>
                  </a:lnTo>
                  <a:lnTo>
                    <a:pt x="0" y="6831"/>
                  </a:lnTo>
                  <a:lnTo>
                    <a:pt x="0" y="6672"/>
                  </a:lnTo>
                  <a:lnTo>
                    <a:pt x="0" y="6336"/>
                  </a:lnTo>
                  <a:lnTo>
                    <a:pt x="0" y="5823"/>
                  </a:lnTo>
                  <a:lnTo>
                    <a:pt x="0" y="5662"/>
                  </a:lnTo>
                  <a:lnTo>
                    <a:pt x="134" y="5504"/>
                  </a:lnTo>
                  <a:lnTo>
                    <a:pt x="284" y="5326"/>
                  </a:lnTo>
                  <a:lnTo>
                    <a:pt x="418" y="5167"/>
                  </a:lnTo>
                  <a:lnTo>
                    <a:pt x="418" y="4831"/>
                  </a:lnTo>
                  <a:lnTo>
                    <a:pt x="702" y="4495"/>
                  </a:lnTo>
                  <a:lnTo>
                    <a:pt x="986" y="4159"/>
                  </a:lnTo>
                  <a:lnTo>
                    <a:pt x="1121" y="3662"/>
                  </a:lnTo>
                  <a:lnTo>
                    <a:pt x="1405" y="2495"/>
                  </a:lnTo>
                  <a:lnTo>
                    <a:pt x="1689" y="2000"/>
                  </a:lnTo>
                  <a:lnTo>
                    <a:pt x="1823" y="1327"/>
                  </a:lnTo>
                  <a:lnTo>
                    <a:pt x="1973" y="672"/>
                  </a:lnTo>
                  <a:lnTo>
                    <a:pt x="2107" y="336"/>
                  </a:lnTo>
                  <a:lnTo>
                    <a:pt x="2107" y="0"/>
                  </a:lnTo>
                  <a:lnTo>
                    <a:pt x="2257" y="0"/>
                  </a:lnTo>
                  <a:lnTo>
                    <a:pt x="2541" y="0"/>
                  </a:lnTo>
                  <a:lnTo>
                    <a:pt x="2675" y="0"/>
                  </a:lnTo>
                  <a:lnTo>
                    <a:pt x="2809" y="159"/>
                  </a:lnTo>
                  <a:lnTo>
                    <a:pt x="2809" y="336"/>
                  </a:lnTo>
                  <a:lnTo>
                    <a:pt x="2959" y="336"/>
                  </a:lnTo>
                  <a:lnTo>
                    <a:pt x="3242" y="495"/>
                  </a:lnTo>
                  <a:lnTo>
                    <a:pt x="3242" y="831"/>
                  </a:lnTo>
                  <a:lnTo>
                    <a:pt x="3242" y="1327"/>
                  </a:lnTo>
                  <a:lnTo>
                    <a:pt x="3242" y="1504"/>
                  </a:lnTo>
                  <a:lnTo>
                    <a:pt x="3512" y="1823"/>
                  </a:lnTo>
                  <a:lnTo>
                    <a:pt x="4080" y="1823"/>
                  </a:lnTo>
                  <a:lnTo>
                    <a:pt x="4230" y="1823"/>
                  </a:lnTo>
                  <a:lnTo>
                    <a:pt x="4498" y="1823"/>
                  </a:lnTo>
                  <a:lnTo>
                    <a:pt x="4931" y="1823"/>
                  </a:lnTo>
                  <a:lnTo>
                    <a:pt x="5067" y="2000"/>
                  </a:lnTo>
                  <a:lnTo>
                    <a:pt x="5484" y="2000"/>
                  </a:lnTo>
                  <a:lnTo>
                    <a:pt x="5634" y="2000"/>
                  </a:lnTo>
                  <a:lnTo>
                    <a:pt x="5634" y="2159"/>
                  </a:lnTo>
                  <a:lnTo>
                    <a:pt x="6053" y="2159"/>
                  </a:lnTo>
                  <a:lnTo>
                    <a:pt x="6187" y="2000"/>
                  </a:lnTo>
                  <a:lnTo>
                    <a:pt x="6472" y="2000"/>
                  </a:lnTo>
                  <a:lnTo>
                    <a:pt x="6621" y="2000"/>
                  </a:lnTo>
                  <a:lnTo>
                    <a:pt x="6756" y="2000"/>
                  </a:lnTo>
                  <a:lnTo>
                    <a:pt x="6905" y="2000"/>
                  </a:lnTo>
                  <a:lnTo>
                    <a:pt x="7040" y="2000"/>
                  </a:lnTo>
                  <a:lnTo>
                    <a:pt x="7040" y="2159"/>
                  </a:lnTo>
                  <a:lnTo>
                    <a:pt x="7174" y="2159"/>
                  </a:lnTo>
                  <a:lnTo>
                    <a:pt x="7458" y="2000"/>
                  </a:lnTo>
                  <a:lnTo>
                    <a:pt x="9566" y="2671"/>
                  </a:lnTo>
                  <a:lnTo>
                    <a:pt x="9566" y="2831"/>
                  </a:lnTo>
                  <a:lnTo>
                    <a:pt x="9715" y="2991"/>
                  </a:lnTo>
                  <a:lnTo>
                    <a:pt x="9850" y="2991"/>
                  </a:lnTo>
                  <a:lnTo>
                    <a:pt x="10000" y="3167"/>
                  </a:lnTo>
                  <a:lnTo>
                    <a:pt x="10000" y="3503"/>
                  </a:lnTo>
                  <a:lnTo>
                    <a:pt x="9431" y="4336"/>
                  </a:lnTo>
                  <a:lnTo>
                    <a:pt x="9431" y="4495"/>
                  </a:lnTo>
                  <a:lnTo>
                    <a:pt x="9431" y="4672"/>
                  </a:lnTo>
                  <a:lnTo>
                    <a:pt x="9147" y="4831"/>
                  </a:lnTo>
                  <a:lnTo>
                    <a:pt x="8729" y="5326"/>
                  </a:lnTo>
                  <a:lnTo>
                    <a:pt x="8729" y="5504"/>
                  </a:lnTo>
                  <a:lnTo>
                    <a:pt x="8729" y="5662"/>
                  </a:lnTo>
                  <a:lnTo>
                    <a:pt x="9013" y="5823"/>
                  </a:lnTo>
                  <a:lnTo>
                    <a:pt x="9013" y="6000"/>
                  </a:lnTo>
                  <a:lnTo>
                    <a:pt x="9013" y="6159"/>
                  </a:lnTo>
                  <a:lnTo>
                    <a:pt x="8863" y="6336"/>
                  </a:lnTo>
                  <a:lnTo>
                    <a:pt x="8729" y="6672"/>
                  </a:lnTo>
                  <a:lnTo>
                    <a:pt x="8161" y="10000"/>
                  </a:lnTo>
                  <a:lnTo>
                    <a:pt x="4783" y="8991"/>
                  </a:lnTo>
                  <a:lnTo>
                    <a:pt x="0" y="750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746280" y="2626200"/>
              <a:ext cx="1294560" cy="213480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2134800"/>
                <a:gd name="textAreaBottom" fmla="*/ 2135160 h 2134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46" y="10000"/>
                  </a:moveTo>
                  <a:lnTo>
                    <a:pt x="5692" y="9833"/>
                  </a:lnTo>
                  <a:lnTo>
                    <a:pt x="5692" y="9754"/>
                  </a:lnTo>
                  <a:lnTo>
                    <a:pt x="5559" y="9666"/>
                  </a:lnTo>
                  <a:lnTo>
                    <a:pt x="5692" y="9666"/>
                  </a:lnTo>
                  <a:lnTo>
                    <a:pt x="5559" y="9666"/>
                  </a:lnTo>
                  <a:lnTo>
                    <a:pt x="5559" y="9587"/>
                  </a:lnTo>
                  <a:lnTo>
                    <a:pt x="5559" y="9508"/>
                  </a:lnTo>
                  <a:lnTo>
                    <a:pt x="5559" y="9253"/>
                  </a:lnTo>
                  <a:lnTo>
                    <a:pt x="5280" y="8841"/>
                  </a:lnTo>
                  <a:lnTo>
                    <a:pt x="5147" y="8762"/>
                  </a:lnTo>
                  <a:lnTo>
                    <a:pt x="5000" y="8674"/>
                  </a:lnTo>
                  <a:lnTo>
                    <a:pt x="4719" y="8516"/>
                  </a:lnTo>
                  <a:lnTo>
                    <a:pt x="4439" y="8516"/>
                  </a:lnTo>
                  <a:lnTo>
                    <a:pt x="4439" y="8349"/>
                  </a:lnTo>
                  <a:lnTo>
                    <a:pt x="4439" y="8261"/>
                  </a:lnTo>
                  <a:lnTo>
                    <a:pt x="4439" y="8182"/>
                  </a:lnTo>
                  <a:lnTo>
                    <a:pt x="4026" y="8182"/>
                  </a:lnTo>
                  <a:lnTo>
                    <a:pt x="3892" y="8094"/>
                  </a:lnTo>
                  <a:lnTo>
                    <a:pt x="3612" y="8015"/>
                  </a:lnTo>
                  <a:lnTo>
                    <a:pt x="3480" y="7848"/>
                  </a:lnTo>
                  <a:lnTo>
                    <a:pt x="3333" y="7682"/>
                  </a:lnTo>
                  <a:lnTo>
                    <a:pt x="3053" y="7682"/>
                  </a:lnTo>
                  <a:lnTo>
                    <a:pt x="2507" y="7524"/>
                  </a:lnTo>
                  <a:lnTo>
                    <a:pt x="2359" y="7524"/>
                  </a:lnTo>
                  <a:lnTo>
                    <a:pt x="2079" y="7436"/>
                  </a:lnTo>
                  <a:lnTo>
                    <a:pt x="1946" y="7357"/>
                  </a:lnTo>
                  <a:lnTo>
                    <a:pt x="1946" y="7269"/>
                  </a:lnTo>
                  <a:lnTo>
                    <a:pt x="2079" y="7269"/>
                  </a:lnTo>
                  <a:lnTo>
                    <a:pt x="2079" y="7023"/>
                  </a:lnTo>
                  <a:lnTo>
                    <a:pt x="2227" y="6944"/>
                  </a:lnTo>
                  <a:lnTo>
                    <a:pt x="2079" y="6777"/>
                  </a:lnTo>
                  <a:lnTo>
                    <a:pt x="1946" y="6690"/>
                  </a:lnTo>
                  <a:lnTo>
                    <a:pt x="1946" y="6611"/>
                  </a:lnTo>
                  <a:lnTo>
                    <a:pt x="2079" y="6611"/>
                  </a:lnTo>
                  <a:lnTo>
                    <a:pt x="2079" y="6532"/>
                  </a:lnTo>
                  <a:lnTo>
                    <a:pt x="1946" y="6444"/>
                  </a:lnTo>
                  <a:lnTo>
                    <a:pt x="1532" y="6109"/>
                  </a:lnTo>
                  <a:lnTo>
                    <a:pt x="1532" y="5951"/>
                  </a:lnTo>
                  <a:lnTo>
                    <a:pt x="1386" y="5864"/>
                  </a:lnTo>
                  <a:lnTo>
                    <a:pt x="1386" y="5784"/>
                  </a:lnTo>
                  <a:lnTo>
                    <a:pt x="1106" y="5539"/>
                  </a:lnTo>
                  <a:lnTo>
                    <a:pt x="1253" y="5284"/>
                  </a:lnTo>
                  <a:lnTo>
                    <a:pt x="1253" y="5206"/>
                  </a:lnTo>
                  <a:lnTo>
                    <a:pt x="1386" y="5206"/>
                  </a:lnTo>
                  <a:lnTo>
                    <a:pt x="1386" y="4959"/>
                  </a:lnTo>
                  <a:lnTo>
                    <a:pt x="1253" y="4872"/>
                  </a:lnTo>
                  <a:lnTo>
                    <a:pt x="973" y="4792"/>
                  </a:lnTo>
                  <a:lnTo>
                    <a:pt x="973" y="4626"/>
                  </a:lnTo>
                  <a:lnTo>
                    <a:pt x="973" y="4381"/>
                  </a:lnTo>
                  <a:lnTo>
                    <a:pt x="973" y="4292"/>
                  </a:lnTo>
                  <a:lnTo>
                    <a:pt x="973" y="4047"/>
                  </a:lnTo>
                  <a:lnTo>
                    <a:pt x="1106" y="4047"/>
                  </a:lnTo>
                  <a:lnTo>
                    <a:pt x="1106" y="4126"/>
                  </a:lnTo>
                  <a:lnTo>
                    <a:pt x="1106" y="4292"/>
                  </a:lnTo>
                  <a:lnTo>
                    <a:pt x="1253" y="4292"/>
                  </a:lnTo>
                  <a:lnTo>
                    <a:pt x="1386" y="4381"/>
                  </a:lnTo>
                  <a:lnTo>
                    <a:pt x="1386" y="4292"/>
                  </a:lnTo>
                  <a:lnTo>
                    <a:pt x="1386" y="4047"/>
                  </a:lnTo>
                  <a:lnTo>
                    <a:pt x="1386" y="3880"/>
                  </a:lnTo>
                  <a:lnTo>
                    <a:pt x="1386" y="3801"/>
                  </a:lnTo>
                  <a:lnTo>
                    <a:pt x="1106" y="3967"/>
                  </a:lnTo>
                  <a:lnTo>
                    <a:pt x="1106" y="4047"/>
                  </a:lnTo>
                  <a:lnTo>
                    <a:pt x="973" y="4047"/>
                  </a:lnTo>
                  <a:lnTo>
                    <a:pt x="839" y="3801"/>
                  </a:lnTo>
                  <a:lnTo>
                    <a:pt x="560" y="3801"/>
                  </a:lnTo>
                  <a:lnTo>
                    <a:pt x="693" y="3712"/>
                  </a:lnTo>
                  <a:lnTo>
                    <a:pt x="693" y="3387"/>
                  </a:lnTo>
                  <a:lnTo>
                    <a:pt x="412" y="3134"/>
                  </a:lnTo>
                  <a:lnTo>
                    <a:pt x="412" y="3055"/>
                  </a:lnTo>
                  <a:lnTo>
                    <a:pt x="132" y="2809"/>
                  </a:lnTo>
                  <a:lnTo>
                    <a:pt x="280" y="2721"/>
                  </a:lnTo>
                  <a:lnTo>
                    <a:pt x="280" y="2563"/>
                  </a:lnTo>
                  <a:lnTo>
                    <a:pt x="132" y="2563"/>
                  </a:lnTo>
                  <a:lnTo>
                    <a:pt x="280" y="2309"/>
                  </a:lnTo>
                  <a:lnTo>
                    <a:pt x="412" y="2230"/>
                  </a:lnTo>
                  <a:lnTo>
                    <a:pt x="412" y="1984"/>
                  </a:lnTo>
                  <a:lnTo>
                    <a:pt x="280" y="1817"/>
                  </a:lnTo>
                  <a:lnTo>
                    <a:pt x="280" y="1729"/>
                  </a:lnTo>
                  <a:lnTo>
                    <a:pt x="132" y="1650"/>
                  </a:lnTo>
                  <a:lnTo>
                    <a:pt x="0" y="1571"/>
                  </a:lnTo>
                  <a:lnTo>
                    <a:pt x="0" y="1404"/>
                  </a:lnTo>
                  <a:lnTo>
                    <a:pt x="0" y="1316"/>
                  </a:lnTo>
                  <a:lnTo>
                    <a:pt x="280" y="1150"/>
                  </a:lnTo>
                  <a:lnTo>
                    <a:pt x="693" y="825"/>
                  </a:lnTo>
                  <a:lnTo>
                    <a:pt x="693" y="737"/>
                  </a:lnTo>
                  <a:lnTo>
                    <a:pt x="839" y="657"/>
                  </a:lnTo>
                  <a:lnTo>
                    <a:pt x="973" y="491"/>
                  </a:lnTo>
                  <a:lnTo>
                    <a:pt x="973" y="245"/>
                  </a:lnTo>
                  <a:lnTo>
                    <a:pt x="973" y="157"/>
                  </a:lnTo>
                  <a:lnTo>
                    <a:pt x="973" y="79"/>
                  </a:lnTo>
                  <a:lnTo>
                    <a:pt x="973" y="0"/>
                  </a:lnTo>
                  <a:lnTo>
                    <a:pt x="5692" y="737"/>
                  </a:lnTo>
                  <a:lnTo>
                    <a:pt x="4439" y="3467"/>
                  </a:lnTo>
                  <a:lnTo>
                    <a:pt x="9587" y="7936"/>
                  </a:lnTo>
                  <a:lnTo>
                    <a:pt x="9587" y="8094"/>
                  </a:lnTo>
                  <a:lnTo>
                    <a:pt x="9587" y="8182"/>
                  </a:lnTo>
                  <a:lnTo>
                    <a:pt x="9719" y="8261"/>
                  </a:lnTo>
                  <a:lnTo>
                    <a:pt x="9719" y="8349"/>
                  </a:lnTo>
                  <a:lnTo>
                    <a:pt x="9719" y="8428"/>
                  </a:lnTo>
                  <a:lnTo>
                    <a:pt x="9867" y="8516"/>
                  </a:lnTo>
                  <a:lnTo>
                    <a:pt x="9867" y="8595"/>
                  </a:lnTo>
                  <a:lnTo>
                    <a:pt x="10000" y="8674"/>
                  </a:lnTo>
                  <a:lnTo>
                    <a:pt x="10000" y="8762"/>
                  </a:lnTo>
                  <a:lnTo>
                    <a:pt x="9719" y="8762"/>
                  </a:lnTo>
                  <a:lnTo>
                    <a:pt x="9454" y="8841"/>
                  </a:lnTo>
                  <a:lnTo>
                    <a:pt x="9454" y="8928"/>
                  </a:lnTo>
                  <a:lnTo>
                    <a:pt x="9306" y="9174"/>
                  </a:lnTo>
                  <a:lnTo>
                    <a:pt x="9026" y="9341"/>
                  </a:lnTo>
                  <a:lnTo>
                    <a:pt x="9026" y="9420"/>
                  </a:lnTo>
                  <a:lnTo>
                    <a:pt x="9026" y="9508"/>
                  </a:lnTo>
                  <a:lnTo>
                    <a:pt x="9026" y="9587"/>
                  </a:lnTo>
                  <a:lnTo>
                    <a:pt x="8893" y="9666"/>
                  </a:lnTo>
                  <a:lnTo>
                    <a:pt x="9026" y="9754"/>
                  </a:lnTo>
                  <a:lnTo>
                    <a:pt x="9026" y="9833"/>
                  </a:lnTo>
                  <a:lnTo>
                    <a:pt x="9174" y="9833"/>
                  </a:lnTo>
                  <a:lnTo>
                    <a:pt x="9026" y="9920"/>
                  </a:lnTo>
                  <a:lnTo>
                    <a:pt x="9026" y="10000"/>
                  </a:lnTo>
                  <a:lnTo>
                    <a:pt x="8893" y="10000"/>
                  </a:lnTo>
                  <a:lnTo>
                    <a:pt x="8746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1861560" y="3949200"/>
              <a:ext cx="1097640" cy="125208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8521" y="10000"/>
                  </a:moveTo>
                  <a:lnTo>
                    <a:pt x="10000" y="988"/>
                  </a:lnTo>
                  <a:lnTo>
                    <a:pt x="2782" y="0"/>
                  </a:lnTo>
                  <a:lnTo>
                    <a:pt x="2452" y="838"/>
                  </a:lnTo>
                  <a:lnTo>
                    <a:pt x="2121" y="1541"/>
                  </a:lnTo>
                  <a:lnTo>
                    <a:pt x="1964" y="1407"/>
                  </a:lnTo>
                  <a:lnTo>
                    <a:pt x="1964" y="1272"/>
                  </a:lnTo>
                  <a:lnTo>
                    <a:pt x="1634" y="1272"/>
                  </a:lnTo>
                  <a:lnTo>
                    <a:pt x="1478" y="1272"/>
                  </a:lnTo>
                  <a:lnTo>
                    <a:pt x="1304" y="1407"/>
                  </a:lnTo>
                  <a:lnTo>
                    <a:pt x="1304" y="1541"/>
                  </a:lnTo>
                  <a:lnTo>
                    <a:pt x="1304" y="2395"/>
                  </a:lnTo>
                  <a:lnTo>
                    <a:pt x="1147" y="2814"/>
                  </a:lnTo>
                  <a:lnTo>
                    <a:pt x="1147" y="2964"/>
                  </a:lnTo>
                  <a:lnTo>
                    <a:pt x="1147" y="3233"/>
                  </a:lnTo>
                  <a:lnTo>
                    <a:pt x="1147" y="3383"/>
                  </a:lnTo>
                  <a:lnTo>
                    <a:pt x="1304" y="3517"/>
                  </a:lnTo>
                  <a:lnTo>
                    <a:pt x="1304" y="3667"/>
                  </a:lnTo>
                  <a:lnTo>
                    <a:pt x="1304" y="3802"/>
                  </a:lnTo>
                  <a:lnTo>
                    <a:pt x="1478" y="3952"/>
                  </a:lnTo>
                  <a:lnTo>
                    <a:pt x="1478" y="4086"/>
                  </a:lnTo>
                  <a:lnTo>
                    <a:pt x="1634" y="4220"/>
                  </a:lnTo>
                  <a:lnTo>
                    <a:pt x="1634" y="4370"/>
                  </a:lnTo>
                  <a:lnTo>
                    <a:pt x="1304" y="4370"/>
                  </a:lnTo>
                  <a:lnTo>
                    <a:pt x="991" y="4505"/>
                  </a:lnTo>
                  <a:lnTo>
                    <a:pt x="991" y="4655"/>
                  </a:lnTo>
                  <a:lnTo>
                    <a:pt x="817" y="5073"/>
                  </a:lnTo>
                  <a:lnTo>
                    <a:pt x="486" y="5359"/>
                  </a:lnTo>
                  <a:lnTo>
                    <a:pt x="486" y="5494"/>
                  </a:lnTo>
                  <a:lnTo>
                    <a:pt x="486" y="5642"/>
                  </a:lnTo>
                  <a:lnTo>
                    <a:pt x="486" y="5778"/>
                  </a:lnTo>
                  <a:lnTo>
                    <a:pt x="330" y="5912"/>
                  </a:lnTo>
                  <a:lnTo>
                    <a:pt x="486" y="6062"/>
                  </a:lnTo>
                  <a:lnTo>
                    <a:pt x="486" y="6197"/>
                  </a:lnTo>
                  <a:lnTo>
                    <a:pt x="660" y="6197"/>
                  </a:lnTo>
                  <a:lnTo>
                    <a:pt x="486" y="6347"/>
                  </a:lnTo>
                  <a:lnTo>
                    <a:pt x="486" y="6482"/>
                  </a:lnTo>
                  <a:lnTo>
                    <a:pt x="330" y="6482"/>
                  </a:lnTo>
                  <a:lnTo>
                    <a:pt x="156" y="6482"/>
                  </a:lnTo>
                  <a:lnTo>
                    <a:pt x="0" y="6901"/>
                  </a:lnTo>
                  <a:lnTo>
                    <a:pt x="5234" y="9446"/>
                  </a:lnTo>
                  <a:lnTo>
                    <a:pt x="8521" y="10000"/>
                  </a:lnTo>
                  <a:close/>
                  <a:moveTo>
                    <a:pt x="8521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1861560" y="3949200"/>
              <a:ext cx="1097640" cy="125208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8521" y="10000"/>
                  </a:moveTo>
                  <a:lnTo>
                    <a:pt x="10000" y="988"/>
                  </a:lnTo>
                  <a:lnTo>
                    <a:pt x="2782" y="0"/>
                  </a:lnTo>
                  <a:lnTo>
                    <a:pt x="2452" y="838"/>
                  </a:lnTo>
                  <a:lnTo>
                    <a:pt x="2121" y="1541"/>
                  </a:lnTo>
                  <a:lnTo>
                    <a:pt x="1964" y="1407"/>
                  </a:lnTo>
                  <a:lnTo>
                    <a:pt x="1964" y="1272"/>
                  </a:lnTo>
                  <a:lnTo>
                    <a:pt x="1634" y="1272"/>
                  </a:lnTo>
                  <a:lnTo>
                    <a:pt x="1478" y="1272"/>
                  </a:lnTo>
                  <a:lnTo>
                    <a:pt x="1304" y="1407"/>
                  </a:lnTo>
                  <a:lnTo>
                    <a:pt x="1304" y="1541"/>
                  </a:lnTo>
                  <a:lnTo>
                    <a:pt x="1304" y="2395"/>
                  </a:lnTo>
                  <a:lnTo>
                    <a:pt x="1147" y="2814"/>
                  </a:lnTo>
                  <a:lnTo>
                    <a:pt x="1147" y="2964"/>
                  </a:lnTo>
                  <a:lnTo>
                    <a:pt x="1147" y="3233"/>
                  </a:lnTo>
                  <a:lnTo>
                    <a:pt x="1147" y="3383"/>
                  </a:lnTo>
                  <a:lnTo>
                    <a:pt x="1304" y="3517"/>
                  </a:lnTo>
                  <a:lnTo>
                    <a:pt x="1304" y="3667"/>
                  </a:lnTo>
                  <a:lnTo>
                    <a:pt x="1304" y="3802"/>
                  </a:lnTo>
                  <a:lnTo>
                    <a:pt x="1478" y="3952"/>
                  </a:lnTo>
                  <a:lnTo>
                    <a:pt x="1478" y="4086"/>
                  </a:lnTo>
                  <a:lnTo>
                    <a:pt x="1634" y="4220"/>
                  </a:lnTo>
                  <a:lnTo>
                    <a:pt x="1634" y="4370"/>
                  </a:lnTo>
                  <a:lnTo>
                    <a:pt x="1304" y="4370"/>
                  </a:lnTo>
                  <a:lnTo>
                    <a:pt x="991" y="4505"/>
                  </a:lnTo>
                  <a:lnTo>
                    <a:pt x="991" y="4655"/>
                  </a:lnTo>
                  <a:lnTo>
                    <a:pt x="817" y="5073"/>
                  </a:lnTo>
                  <a:lnTo>
                    <a:pt x="486" y="5359"/>
                  </a:lnTo>
                  <a:lnTo>
                    <a:pt x="486" y="5494"/>
                  </a:lnTo>
                  <a:lnTo>
                    <a:pt x="486" y="5642"/>
                  </a:lnTo>
                  <a:lnTo>
                    <a:pt x="486" y="5778"/>
                  </a:lnTo>
                  <a:lnTo>
                    <a:pt x="330" y="5912"/>
                  </a:lnTo>
                  <a:lnTo>
                    <a:pt x="486" y="6062"/>
                  </a:lnTo>
                  <a:lnTo>
                    <a:pt x="486" y="6197"/>
                  </a:lnTo>
                  <a:lnTo>
                    <a:pt x="660" y="6197"/>
                  </a:lnTo>
                  <a:lnTo>
                    <a:pt x="486" y="6347"/>
                  </a:lnTo>
                  <a:lnTo>
                    <a:pt x="486" y="6482"/>
                  </a:lnTo>
                  <a:lnTo>
                    <a:pt x="330" y="6482"/>
                  </a:lnTo>
                  <a:lnTo>
                    <a:pt x="156" y="6482"/>
                  </a:lnTo>
                  <a:lnTo>
                    <a:pt x="0" y="6901"/>
                  </a:lnTo>
                  <a:lnTo>
                    <a:pt x="5234" y="9446"/>
                  </a:lnTo>
                  <a:lnTo>
                    <a:pt x="8521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321200" y="2783880"/>
              <a:ext cx="1044360" cy="15368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53" y="0"/>
                  </a:moveTo>
                  <a:lnTo>
                    <a:pt x="0" y="3792"/>
                  </a:lnTo>
                  <a:lnTo>
                    <a:pt x="6380" y="10000"/>
                  </a:lnTo>
                  <a:lnTo>
                    <a:pt x="6380" y="9878"/>
                  </a:lnTo>
                  <a:lnTo>
                    <a:pt x="6544" y="9536"/>
                  </a:lnTo>
                  <a:lnTo>
                    <a:pt x="6544" y="8841"/>
                  </a:lnTo>
                  <a:lnTo>
                    <a:pt x="6544" y="8731"/>
                  </a:lnTo>
                  <a:lnTo>
                    <a:pt x="6727" y="8621"/>
                  </a:lnTo>
                  <a:lnTo>
                    <a:pt x="6892" y="8621"/>
                  </a:lnTo>
                  <a:lnTo>
                    <a:pt x="7239" y="8621"/>
                  </a:lnTo>
                  <a:lnTo>
                    <a:pt x="7239" y="8731"/>
                  </a:lnTo>
                  <a:lnTo>
                    <a:pt x="7404" y="8841"/>
                  </a:lnTo>
                  <a:lnTo>
                    <a:pt x="7751" y="8268"/>
                  </a:lnTo>
                  <a:lnTo>
                    <a:pt x="8098" y="7585"/>
                  </a:lnTo>
                  <a:lnTo>
                    <a:pt x="10000" y="1268"/>
                  </a:lnTo>
                  <a:lnTo>
                    <a:pt x="5684" y="695"/>
                  </a:lnTo>
                  <a:lnTo>
                    <a:pt x="1553" y="0"/>
                  </a:lnTo>
                  <a:close/>
                  <a:moveTo>
                    <a:pt x="1553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1321200" y="2783880"/>
              <a:ext cx="1044360" cy="15368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53" y="0"/>
                  </a:moveTo>
                  <a:lnTo>
                    <a:pt x="0" y="3792"/>
                  </a:lnTo>
                  <a:lnTo>
                    <a:pt x="6380" y="10000"/>
                  </a:lnTo>
                  <a:lnTo>
                    <a:pt x="6380" y="9878"/>
                  </a:lnTo>
                  <a:lnTo>
                    <a:pt x="6544" y="9536"/>
                  </a:lnTo>
                  <a:lnTo>
                    <a:pt x="6544" y="8841"/>
                  </a:lnTo>
                  <a:lnTo>
                    <a:pt x="6544" y="8731"/>
                  </a:lnTo>
                  <a:lnTo>
                    <a:pt x="6727" y="8621"/>
                  </a:lnTo>
                  <a:lnTo>
                    <a:pt x="6892" y="8621"/>
                  </a:lnTo>
                  <a:lnTo>
                    <a:pt x="7239" y="8621"/>
                  </a:lnTo>
                  <a:lnTo>
                    <a:pt x="7239" y="8731"/>
                  </a:lnTo>
                  <a:lnTo>
                    <a:pt x="7404" y="8841"/>
                  </a:lnTo>
                  <a:lnTo>
                    <a:pt x="7751" y="8268"/>
                  </a:lnTo>
                  <a:lnTo>
                    <a:pt x="8098" y="7585"/>
                  </a:lnTo>
                  <a:lnTo>
                    <a:pt x="10000" y="1268"/>
                  </a:lnTo>
                  <a:lnTo>
                    <a:pt x="5684" y="695"/>
                  </a:lnTo>
                  <a:lnTo>
                    <a:pt x="1553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2166840" y="2978280"/>
              <a:ext cx="899280" cy="109440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11" y="10000"/>
                  </a:moveTo>
                  <a:lnTo>
                    <a:pt x="10000" y="2892"/>
                  </a:lnTo>
                  <a:lnTo>
                    <a:pt x="6602" y="2414"/>
                  </a:lnTo>
                  <a:lnTo>
                    <a:pt x="7006" y="650"/>
                  </a:lnTo>
                  <a:lnTo>
                    <a:pt x="2208" y="0"/>
                  </a:lnTo>
                  <a:lnTo>
                    <a:pt x="0" y="8869"/>
                  </a:lnTo>
                  <a:lnTo>
                    <a:pt x="8811" y="10000"/>
                  </a:lnTo>
                  <a:close/>
                  <a:moveTo>
                    <a:pt x="8811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2166840" y="2978280"/>
              <a:ext cx="899280" cy="109440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11" y="10000"/>
                  </a:moveTo>
                  <a:lnTo>
                    <a:pt x="10000" y="2892"/>
                  </a:lnTo>
                  <a:lnTo>
                    <a:pt x="6602" y="2414"/>
                  </a:lnTo>
                  <a:lnTo>
                    <a:pt x="7006" y="650"/>
                  </a:lnTo>
                  <a:lnTo>
                    <a:pt x="2208" y="0"/>
                  </a:lnTo>
                  <a:lnTo>
                    <a:pt x="0" y="8869"/>
                  </a:lnTo>
                  <a:lnTo>
                    <a:pt x="8811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2310120" y="1567440"/>
              <a:ext cx="1638000" cy="102276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57" y="10000"/>
                  </a:moveTo>
                  <a:lnTo>
                    <a:pt x="3519" y="8791"/>
                  </a:lnTo>
                  <a:lnTo>
                    <a:pt x="3403" y="9652"/>
                  </a:lnTo>
                  <a:lnTo>
                    <a:pt x="3298" y="9487"/>
                  </a:lnTo>
                  <a:lnTo>
                    <a:pt x="3192" y="9139"/>
                  </a:lnTo>
                  <a:lnTo>
                    <a:pt x="3076" y="9304"/>
                  </a:lnTo>
                  <a:lnTo>
                    <a:pt x="3076" y="9487"/>
                  </a:lnTo>
                  <a:lnTo>
                    <a:pt x="2855" y="9487"/>
                  </a:lnTo>
                  <a:lnTo>
                    <a:pt x="2750" y="9487"/>
                  </a:lnTo>
                  <a:lnTo>
                    <a:pt x="2424" y="9487"/>
                  </a:lnTo>
                  <a:lnTo>
                    <a:pt x="2424" y="9304"/>
                  </a:lnTo>
                  <a:lnTo>
                    <a:pt x="2307" y="9304"/>
                  </a:lnTo>
                  <a:lnTo>
                    <a:pt x="2307" y="9487"/>
                  </a:lnTo>
                  <a:lnTo>
                    <a:pt x="2202" y="9487"/>
                  </a:lnTo>
                  <a:lnTo>
                    <a:pt x="1981" y="9304"/>
                  </a:lnTo>
                  <a:lnTo>
                    <a:pt x="1876" y="9304"/>
                  </a:lnTo>
                  <a:lnTo>
                    <a:pt x="1876" y="9487"/>
                  </a:lnTo>
                  <a:lnTo>
                    <a:pt x="1759" y="9487"/>
                  </a:lnTo>
                  <a:lnTo>
                    <a:pt x="1655" y="9139"/>
                  </a:lnTo>
                  <a:lnTo>
                    <a:pt x="1759" y="8791"/>
                  </a:lnTo>
                  <a:lnTo>
                    <a:pt x="1655" y="8791"/>
                  </a:lnTo>
                  <a:lnTo>
                    <a:pt x="1538" y="8608"/>
                  </a:lnTo>
                  <a:lnTo>
                    <a:pt x="1432" y="8278"/>
                  </a:lnTo>
                  <a:lnTo>
                    <a:pt x="1538" y="8095"/>
                  </a:lnTo>
                  <a:lnTo>
                    <a:pt x="1432" y="7747"/>
                  </a:lnTo>
                  <a:lnTo>
                    <a:pt x="1317" y="7582"/>
                  </a:lnTo>
                  <a:lnTo>
                    <a:pt x="1317" y="7069"/>
                  </a:lnTo>
                  <a:lnTo>
                    <a:pt x="1317" y="6886"/>
                  </a:lnTo>
                  <a:lnTo>
                    <a:pt x="1212" y="6886"/>
                  </a:lnTo>
                  <a:lnTo>
                    <a:pt x="1212" y="6721"/>
                  </a:lnTo>
                  <a:lnTo>
                    <a:pt x="1107" y="6721"/>
                  </a:lnTo>
                  <a:lnTo>
                    <a:pt x="885" y="6886"/>
                  </a:lnTo>
                  <a:lnTo>
                    <a:pt x="769" y="6886"/>
                  </a:lnTo>
                  <a:lnTo>
                    <a:pt x="664" y="6721"/>
                  </a:lnTo>
                  <a:lnTo>
                    <a:pt x="769" y="6538"/>
                  </a:lnTo>
                  <a:lnTo>
                    <a:pt x="769" y="6373"/>
                  </a:lnTo>
                  <a:lnTo>
                    <a:pt x="769" y="6208"/>
                  </a:lnTo>
                  <a:lnTo>
                    <a:pt x="885" y="6025"/>
                  </a:lnTo>
                  <a:lnTo>
                    <a:pt x="769" y="6025"/>
                  </a:lnTo>
                  <a:lnTo>
                    <a:pt x="769" y="5676"/>
                  </a:lnTo>
                  <a:lnTo>
                    <a:pt x="885" y="5676"/>
                  </a:lnTo>
                  <a:lnTo>
                    <a:pt x="885" y="5512"/>
                  </a:lnTo>
                  <a:lnTo>
                    <a:pt x="1107" y="4816"/>
                  </a:lnTo>
                  <a:lnTo>
                    <a:pt x="885" y="4652"/>
                  </a:lnTo>
                  <a:lnTo>
                    <a:pt x="769" y="4467"/>
                  </a:lnTo>
                  <a:lnTo>
                    <a:pt x="664" y="4304"/>
                  </a:lnTo>
                  <a:lnTo>
                    <a:pt x="664" y="3956"/>
                  </a:lnTo>
                  <a:lnTo>
                    <a:pt x="442" y="3608"/>
                  </a:lnTo>
                  <a:lnTo>
                    <a:pt x="337" y="3278"/>
                  </a:lnTo>
                  <a:lnTo>
                    <a:pt x="221" y="3095"/>
                  </a:lnTo>
                  <a:lnTo>
                    <a:pt x="116" y="2930"/>
                  </a:lnTo>
                  <a:lnTo>
                    <a:pt x="116" y="2746"/>
                  </a:lnTo>
                  <a:lnTo>
                    <a:pt x="221" y="2582"/>
                  </a:lnTo>
                  <a:lnTo>
                    <a:pt x="116" y="2234"/>
                  </a:lnTo>
                  <a:lnTo>
                    <a:pt x="0" y="1886"/>
                  </a:lnTo>
                  <a:lnTo>
                    <a:pt x="221" y="0"/>
                  </a:lnTo>
                  <a:lnTo>
                    <a:pt x="1107" y="164"/>
                  </a:lnTo>
                  <a:lnTo>
                    <a:pt x="3519" y="860"/>
                  </a:lnTo>
                  <a:lnTo>
                    <a:pt x="6153" y="1538"/>
                  </a:lnTo>
                  <a:lnTo>
                    <a:pt x="10000" y="2069"/>
                  </a:lnTo>
                  <a:lnTo>
                    <a:pt x="9778" y="8095"/>
                  </a:lnTo>
                  <a:lnTo>
                    <a:pt x="9557" y="10000"/>
                  </a:lnTo>
                  <a:close/>
                  <a:moveTo>
                    <a:pt x="9557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2310120" y="1567440"/>
              <a:ext cx="1638000" cy="102276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57" y="10000"/>
                  </a:moveTo>
                  <a:lnTo>
                    <a:pt x="3519" y="8791"/>
                  </a:lnTo>
                  <a:lnTo>
                    <a:pt x="3403" y="9652"/>
                  </a:lnTo>
                  <a:lnTo>
                    <a:pt x="3298" y="9487"/>
                  </a:lnTo>
                  <a:lnTo>
                    <a:pt x="3192" y="9139"/>
                  </a:lnTo>
                  <a:lnTo>
                    <a:pt x="3076" y="9304"/>
                  </a:lnTo>
                  <a:lnTo>
                    <a:pt x="3076" y="9487"/>
                  </a:lnTo>
                  <a:lnTo>
                    <a:pt x="2855" y="9487"/>
                  </a:lnTo>
                  <a:lnTo>
                    <a:pt x="2750" y="9487"/>
                  </a:lnTo>
                  <a:lnTo>
                    <a:pt x="2424" y="9487"/>
                  </a:lnTo>
                  <a:lnTo>
                    <a:pt x="2424" y="9304"/>
                  </a:lnTo>
                  <a:lnTo>
                    <a:pt x="2307" y="9304"/>
                  </a:lnTo>
                  <a:lnTo>
                    <a:pt x="2307" y="9487"/>
                  </a:lnTo>
                  <a:lnTo>
                    <a:pt x="2202" y="9487"/>
                  </a:lnTo>
                  <a:lnTo>
                    <a:pt x="1981" y="9304"/>
                  </a:lnTo>
                  <a:lnTo>
                    <a:pt x="1876" y="9304"/>
                  </a:lnTo>
                  <a:lnTo>
                    <a:pt x="1876" y="9487"/>
                  </a:lnTo>
                  <a:lnTo>
                    <a:pt x="1759" y="9487"/>
                  </a:lnTo>
                  <a:lnTo>
                    <a:pt x="1655" y="9139"/>
                  </a:lnTo>
                  <a:lnTo>
                    <a:pt x="1759" y="8791"/>
                  </a:lnTo>
                  <a:lnTo>
                    <a:pt x="1655" y="8791"/>
                  </a:lnTo>
                  <a:lnTo>
                    <a:pt x="1538" y="8608"/>
                  </a:lnTo>
                  <a:lnTo>
                    <a:pt x="1432" y="8278"/>
                  </a:lnTo>
                  <a:lnTo>
                    <a:pt x="1538" y="8095"/>
                  </a:lnTo>
                  <a:lnTo>
                    <a:pt x="1432" y="7747"/>
                  </a:lnTo>
                  <a:lnTo>
                    <a:pt x="1317" y="7582"/>
                  </a:lnTo>
                  <a:lnTo>
                    <a:pt x="1317" y="7069"/>
                  </a:lnTo>
                  <a:lnTo>
                    <a:pt x="1317" y="6886"/>
                  </a:lnTo>
                  <a:lnTo>
                    <a:pt x="1212" y="6886"/>
                  </a:lnTo>
                  <a:lnTo>
                    <a:pt x="1212" y="6721"/>
                  </a:lnTo>
                  <a:lnTo>
                    <a:pt x="1107" y="6721"/>
                  </a:lnTo>
                  <a:lnTo>
                    <a:pt x="885" y="6886"/>
                  </a:lnTo>
                  <a:lnTo>
                    <a:pt x="769" y="6886"/>
                  </a:lnTo>
                  <a:lnTo>
                    <a:pt x="664" y="6721"/>
                  </a:lnTo>
                  <a:lnTo>
                    <a:pt x="769" y="6538"/>
                  </a:lnTo>
                  <a:lnTo>
                    <a:pt x="769" y="6373"/>
                  </a:lnTo>
                  <a:lnTo>
                    <a:pt x="769" y="6208"/>
                  </a:lnTo>
                  <a:lnTo>
                    <a:pt x="885" y="6025"/>
                  </a:lnTo>
                  <a:lnTo>
                    <a:pt x="769" y="6025"/>
                  </a:lnTo>
                  <a:lnTo>
                    <a:pt x="769" y="5676"/>
                  </a:lnTo>
                  <a:lnTo>
                    <a:pt x="885" y="5676"/>
                  </a:lnTo>
                  <a:lnTo>
                    <a:pt x="885" y="5512"/>
                  </a:lnTo>
                  <a:lnTo>
                    <a:pt x="1107" y="4816"/>
                  </a:lnTo>
                  <a:lnTo>
                    <a:pt x="885" y="4652"/>
                  </a:lnTo>
                  <a:lnTo>
                    <a:pt x="769" y="4467"/>
                  </a:lnTo>
                  <a:lnTo>
                    <a:pt x="664" y="4304"/>
                  </a:lnTo>
                  <a:lnTo>
                    <a:pt x="664" y="3956"/>
                  </a:lnTo>
                  <a:lnTo>
                    <a:pt x="442" y="3608"/>
                  </a:lnTo>
                  <a:lnTo>
                    <a:pt x="337" y="3278"/>
                  </a:lnTo>
                  <a:lnTo>
                    <a:pt x="221" y="3095"/>
                  </a:lnTo>
                  <a:lnTo>
                    <a:pt x="116" y="2930"/>
                  </a:lnTo>
                  <a:lnTo>
                    <a:pt x="116" y="2746"/>
                  </a:lnTo>
                  <a:lnTo>
                    <a:pt x="221" y="2582"/>
                  </a:lnTo>
                  <a:lnTo>
                    <a:pt x="116" y="2234"/>
                  </a:lnTo>
                  <a:lnTo>
                    <a:pt x="0" y="1886"/>
                  </a:lnTo>
                  <a:lnTo>
                    <a:pt x="221" y="0"/>
                  </a:lnTo>
                  <a:lnTo>
                    <a:pt x="1107" y="164"/>
                  </a:lnTo>
                  <a:lnTo>
                    <a:pt x="3519" y="860"/>
                  </a:lnTo>
                  <a:lnTo>
                    <a:pt x="6153" y="1538"/>
                  </a:lnTo>
                  <a:lnTo>
                    <a:pt x="10000" y="2069"/>
                  </a:lnTo>
                  <a:lnTo>
                    <a:pt x="9778" y="8095"/>
                  </a:lnTo>
                  <a:lnTo>
                    <a:pt x="9557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2760840" y="2466720"/>
              <a:ext cx="1114920" cy="8996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20" y="10000"/>
                  </a:moveTo>
                  <a:lnTo>
                    <a:pt x="9828" y="5687"/>
                  </a:lnTo>
                  <a:lnTo>
                    <a:pt x="10000" y="1375"/>
                  </a:lnTo>
                  <a:lnTo>
                    <a:pt x="1130" y="0"/>
                  </a:lnTo>
                  <a:lnTo>
                    <a:pt x="957" y="979"/>
                  </a:lnTo>
                  <a:lnTo>
                    <a:pt x="325" y="6479"/>
                  </a:lnTo>
                  <a:lnTo>
                    <a:pt x="0" y="8625"/>
                  </a:lnTo>
                  <a:lnTo>
                    <a:pt x="2739" y="9208"/>
                  </a:lnTo>
                  <a:lnTo>
                    <a:pt x="9520" y="10000"/>
                  </a:lnTo>
                  <a:close/>
                  <a:moveTo>
                    <a:pt x="952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2760840" y="2466720"/>
              <a:ext cx="1114920" cy="8996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20" y="10000"/>
                  </a:moveTo>
                  <a:lnTo>
                    <a:pt x="9828" y="5687"/>
                  </a:lnTo>
                  <a:lnTo>
                    <a:pt x="10000" y="1375"/>
                  </a:lnTo>
                  <a:lnTo>
                    <a:pt x="1130" y="0"/>
                  </a:lnTo>
                  <a:lnTo>
                    <a:pt x="957" y="979"/>
                  </a:lnTo>
                  <a:lnTo>
                    <a:pt x="325" y="6479"/>
                  </a:lnTo>
                  <a:lnTo>
                    <a:pt x="0" y="8625"/>
                  </a:lnTo>
                  <a:lnTo>
                    <a:pt x="2739" y="9208"/>
                  </a:lnTo>
                  <a:lnTo>
                    <a:pt x="952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2796840" y="4073040"/>
              <a:ext cx="1132200" cy="112824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432" y="0"/>
                  </a:moveTo>
                  <a:lnTo>
                    <a:pt x="0" y="10000"/>
                  </a:lnTo>
                  <a:lnTo>
                    <a:pt x="1264" y="10000"/>
                  </a:lnTo>
                  <a:lnTo>
                    <a:pt x="1432" y="9385"/>
                  </a:lnTo>
                  <a:lnTo>
                    <a:pt x="3811" y="9534"/>
                  </a:lnTo>
                  <a:lnTo>
                    <a:pt x="3642" y="9385"/>
                  </a:lnTo>
                  <a:lnTo>
                    <a:pt x="3811" y="9385"/>
                  </a:lnTo>
                  <a:lnTo>
                    <a:pt x="3642" y="9219"/>
                  </a:lnTo>
                  <a:lnTo>
                    <a:pt x="9055" y="9700"/>
                  </a:lnTo>
                  <a:lnTo>
                    <a:pt x="9848" y="1877"/>
                  </a:lnTo>
                  <a:lnTo>
                    <a:pt x="10000" y="930"/>
                  </a:lnTo>
                  <a:lnTo>
                    <a:pt x="1432" y="0"/>
                  </a:lnTo>
                  <a:close/>
                  <a:moveTo>
                    <a:pt x="1432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2796840" y="4073040"/>
              <a:ext cx="1132200" cy="112824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432" y="0"/>
                  </a:moveTo>
                  <a:lnTo>
                    <a:pt x="0" y="10000"/>
                  </a:lnTo>
                  <a:lnTo>
                    <a:pt x="1264" y="10000"/>
                  </a:lnTo>
                  <a:lnTo>
                    <a:pt x="1432" y="9385"/>
                  </a:lnTo>
                  <a:lnTo>
                    <a:pt x="3811" y="9534"/>
                  </a:lnTo>
                  <a:lnTo>
                    <a:pt x="3642" y="9385"/>
                  </a:lnTo>
                  <a:lnTo>
                    <a:pt x="3811" y="9385"/>
                  </a:lnTo>
                  <a:lnTo>
                    <a:pt x="3642" y="9219"/>
                  </a:lnTo>
                  <a:lnTo>
                    <a:pt x="9055" y="9700"/>
                  </a:lnTo>
                  <a:lnTo>
                    <a:pt x="9848" y="1877"/>
                  </a:lnTo>
                  <a:lnTo>
                    <a:pt x="10000" y="930"/>
                  </a:lnTo>
                  <a:lnTo>
                    <a:pt x="1432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3209400" y="4285080"/>
              <a:ext cx="2266200" cy="2134440"/>
            </a:xfrm>
            <a:custGeom>
              <a:avLst/>
              <a:gdLst>
                <a:gd name="textAreaLeft" fmla="*/ 0 w 2266200"/>
                <a:gd name="textAreaRight" fmla="*/ 2266560 w 2266200"/>
                <a:gd name="textAreaTop" fmla="*/ 0 h 2134440"/>
                <a:gd name="textAreaBottom" fmla="*/ 2134800 h 2134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08" y="2809"/>
                  </a:moveTo>
                  <a:lnTo>
                    <a:pt x="9123" y="2809"/>
                  </a:lnTo>
                  <a:lnTo>
                    <a:pt x="9048" y="2730"/>
                  </a:lnTo>
                  <a:lnTo>
                    <a:pt x="8652" y="2475"/>
                  </a:lnTo>
                  <a:lnTo>
                    <a:pt x="8652" y="2563"/>
                  </a:lnTo>
                  <a:lnTo>
                    <a:pt x="8576" y="2563"/>
                  </a:lnTo>
                  <a:lnTo>
                    <a:pt x="8416" y="2563"/>
                  </a:lnTo>
                  <a:lnTo>
                    <a:pt x="8331" y="2563"/>
                  </a:lnTo>
                  <a:lnTo>
                    <a:pt x="8171" y="2642"/>
                  </a:lnTo>
                  <a:lnTo>
                    <a:pt x="8020" y="2642"/>
                  </a:lnTo>
                  <a:lnTo>
                    <a:pt x="7935" y="2642"/>
                  </a:lnTo>
                  <a:lnTo>
                    <a:pt x="7775" y="2809"/>
                  </a:lnTo>
                  <a:lnTo>
                    <a:pt x="7775" y="2642"/>
                  </a:lnTo>
                  <a:lnTo>
                    <a:pt x="7700" y="2642"/>
                  </a:lnTo>
                  <a:lnTo>
                    <a:pt x="7624" y="2563"/>
                  </a:lnTo>
                  <a:lnTo>
                    <a:pt x="7540" y="2563"/>
                  </a:lnTo>
                  <a:lnTo>
                    <a:pt x="7540" y="2642"/>
                  </a:lnTo>
                  <a:lnTo>
                    <a:pt x="7464" y="2642"/>
                  </a:lnTo>
                  <a:lnTo>
                    <a:pt x="7464" y="2563"/>
                  </a:lnTo>
                  <a:lnTo>
                    <a:pt x="7464" y="2475"/>
                  </a:lnTo>
                  <a:lnTo>
                    <a:pt x="7304" y="2563"/>
                  </a:lnTo>
                  <a:lnTo>
                    <a:pt x="7219" y="2642"/>
                  </a:lnTo>
                  <a:lnTo>
                    <a:pt x="7304" y="2730"/>
                  </a:lnTo>
                  <a:lnTo>
                    <a:pt x="7219" y="2809"/>
                  </a:lnTo>
                  <a:lnTo>
                    <a:pt x="7219" y="2730"/>
                  </a:lnTo>
                  <a:lnTo>
                    <a:pt x="7219" y="2642"/>
                  </a:lnTo>
                  <a:lnTo>
                    <a:pt x="7219" y="2563"/>
                  </a:lnTo>
                  <a:lnTo>
                    <a:pt x="7144" y="2563"/>
                  </a:lnTo>
                  <a:lnTo>
                    <a:pt x="7068" y="2642"/>
                  </a:lnTo>
                  <a:lnTo>
                    <a:pt x="6908" y="2475"/>
                  </a:lnTo>
                  <a:lnTo>
                    <a:pt x="6823" y="2475"/>
                  </a:lnTo>
                  <a:lnTo>
                    <a:pt x="6823" y="2642"/>
                  </a:lnTo>
                  <a:lnTo>
                    <a:pt x="6588" y="2563"/>
                  </a:lnTo>
                  <a:lnTo>
                    <a:pt x="6588" y="2475"/>
                  </a:lnTo>
                  <a:lnTo>
                    <a:pt x="6588" y="2396"/>
                  </a:lnTo>
                  <a:lnTo>
                    <a:pt x="6351" y="2309"/>
                  </a:lnTo>
                  <a:lnTo>
                    <a:pt x="6351" y="2396"/>
                  </a:lnTo>
                  <a:lnTo>
                    <a:pt x="6267" y="2396"/>
                  </a:lnTo>
                  <a:lnTo>
                    <a:pt x="6192" y="2309"/>
                  </a:lnTo>
                  <a:lnTo>
                    <a:pt x="6116" y="2309"/>
                  </a:lnTo>
                  <a:lnTo>
                    <a:pt x="6031" y="2309"/>
                  </a:lnTo>
                  <a:lnTo>
                    <a:pt x="5795" y="2230"/>
                  </a:lnTo>
                  <a:lnTo>
                    <a:pt x="5711" y="2230"/>
                  </a:lnTo>
                  <a:lnTo>
                    <a:pt x="5711" y="2151"/>
                  </a:lnTo>
                  <a:lnTo>
                    <a:pt x="5711" y="2063"/>
                  </a:lnTo>
                  <a:lnTo>
                    <a:pt x="5636" y="2063"/>
                  </a:lnTo>
                  <a:lnTo>
                    <a:pt x="5559" y="2063"/>
                  </a:lnTo>
                  <a:lnTo>
                    <a:pt x="5475" y="2151"/>
                  </a:lnTo>
                  <a:lnTo>
                    <a:pt x="5400" y="2063"/>
                  </a:lnTo>
                  <a:lnTo>
                    <a:pt x="5240" y="1896"/>
                  </a:lnTo>
                  <a:lnTo>
                    <a:pt x="5164" y="1896"/>
                  </a:lnTo>
                  <a:lnTo>
                    <a:pt x="5164" y="79"/>
                  </a:lnTo>
                  <a:lnTo>
                    <a:pt x="3100" y="0"/>
                  </a:lnTo>
                  <a:lnTo>
                    <a:pt x="2704" y="4134"/>
                  </a:lnTo>
                  <a:lnTo>
                    <a:pt x="0" y="3880"/>
                  </a:lnTo>
                  <a:lnTo>
                    <a:pt x="84" y="3967"/>
                  </a:lnTo>
                  <a:lnTo>
                    <a:pt x="0" y="3967"/>
                  </a:lnTo>
                  <a:lnTo>
                    <a:pt x="84" y="4047"/>
                  </a:lnTo>
                  <a:lnTo>
                    <a:pt x="243" y="4214"/>
                  </a:lnTo>
                  <a:lnTo>
                    <a:pt x="320" y="4292"/>
                  </a:lnTo>
                  <a:lnTo>
                    <a:pt x="320" y="4381"/>
                  </a:lnTo>
                  <a:lnTo>
                    <a:pt x="480" y="4547"/>
                  </a:lnTo>
                  <a:lnTo>
                    <a:pt x="875" y="5039"/>
                  </a:lnTo>
                  <a:lnTo>
                    <a:pt x="1196" y="5284"/>
                  </a:lnTo>
                  <a:lnTo>
                    <a:pt x="1272" y="5373"/>
                  </a:lnTo>
                  <a:lnTo>
                    <a:pt x="1272" y="5451"/>
                  </a:lnTo>
                  <a:lnTo>
                    <a:pt x="1272" y="5539"/>
                  </a:lnTo>
                  <a:lnTo>
                    <a:pt x="1347" y="5706"/>
                  </a:lnTo>
                  <a:lnTo>
                    <a:pt x="1347" y="6031"/>
                  </a:lnTo>
                  <a:lnTo>
                    <a:pt x="1432" y="6031"/>
                  </a:lnTo>
                  <a:lnTo>
                    <a:pt x="1507" y="6276"/>
                  </a:lnTo>
                  <a:lnTo>
                    <a:pt x="1988" y="6698"/>
                  </a:lnTo>
                  <a:lnTo>
                    <a:pt x="2384" y="6944"/>
                  </a:lnTo>
                  <a:lnTo>
                    <a:pt x="2459" y="6944"/>
                  </a:lnTo>
                  <a:lnTo>
                    <a:pt x="2620" y="6944"/>
                  </a:lnTo>
                  <a:lnTo>
                    <a:pt x="2620" y="6777"/>
                  </a:lnTo>
                  <a:lnTo>
                    <a:pt x="2704" y="6698"/>
                  </a:lnTo>
                  <a:lnTo>
                    <a:pt x="2855" y="6365"/>
                  </a:lnTo>
                  <a:lnTo>
                    <a:pt x="2855" y="6276"/>
                  </a:lnTo>
                  <a:lnTo>
                    <a:pt x="2940" y="6198"/>
                  </a:lnTo>
                  <a:lnTo>
                    <a:pt x="3100" y="6276"/>
                  </a:lnTo>
                  <a:lnTo>
                    <a:pt x="3176" y="6276"/>
                  </a:lnTo>
                  <a:lnTo>
                    <a:pt x="3176" y="6198"/>
                  </a:lnTo>
                  <a:lnTo>
                    <a:pt x="3176" y="6119"/>
                  </a:lnTo>
                  <a:lnTo>
                    <a:pt x="3259" y="6198"/>
                  </a:lnTo>
                  <a:lnTo>
                    <a:pt x="3336" y="6198"/>
                  </a:lnTo>
                  <a:lnTo>
                    <a:pt x="3495" y="6276"/>
                  </a:lnTo>
                  <a:lnTo>
                    <a:pt x="3572" y="6276"/>
                  </a:lnTo>
                  <a:lnTo>
                    <a:pt x="3731" y="6365"/>
                  </a:lnTo>
                  <a:lnTo>
                    <a:pt x="3731" y="6276"/>
                  </a:lnTo>
                  <a:lnTo>
                    <a:pt x="3967" y="6365"/>
                  </a:lnTo>
                  <a:lnTo>
                    <a:pt x="3967" y="6444"/>
                  </a:lnTo>
                  <a:lnTo>
                    <a:pt x="4052" y="6532"/>
                  </a:lnTo>
                  <a:lnTo>
                    <a:pt x="4052" y="6611"/>
                  </a:lnTo>
                  <a:lnTo>
                    <a:pt x="4212" y="6698"/>
                  </a:lnTo>
                  <a:lnTo>
                    <a:pt x="4287" y="6856"/>
                  </a:lnTo>
                  <a:lnTo>
                    <a:pt x="4448" y="6944"/>
                  </a:lnTo>
                  <a:lnTo>
                    <a:pt x="4448" y="7023"/>
                  </a:lnTo>
                  <a:lnTo>
                    <a:pt x="4608" y="7603"/>
                  </a:lnTo>
                  <a:lnTo>
                    <a:pt x="4684" y="7690"/>
                  </a:lnTo>
                  <a:lnTo>
                    <a:pt x="4919" y="8015"/>
                  </a:lnTo>
                  <a:lnTo>
                    <a:pt x="4919" y="8103"/>
                  </a:lnTo>
                  <a:lnTo>
                    <a:pt x="5164" y="8261"/>
                  </a:lnTo>
                  <a:lnTo>
                    <a:pt x="5164" y="8349"/>
                  </a:lnTo>
                  <a:lnTo>
                    <a:pt x="5240" y="8428"/>
                  </a:lnTo>
                  <a:lnTo>
                    <a:pt x="5240" y="8683"/>
                  </a:lnTo>
                  <a:lnTo>
                    <a:pt x="5315" y="8762"/>
                  </a:lnTo>
                  <a:lnTo>
                    <a:pt x="5315" y="8928"/>
                  </a:lnTo>
                  <a:lnTo>
                    <a:pt x="5400" y="9007"/>
                  </a:lnTo>
                  <a:lnTo>
                    <a:pt x="5559" y="9341"/>
                  </a:lnTo>
                  <a:lnTo>
                    <a:pt x="5636" y="9508"/>
                  </a:lnTo>
                  <a:lnTo>
                    <a:pt x="5711" y="9508"/>
                  </a:lnTo>
                  <a:lnTo>
                    <a:pt x="5870" y="9587"/>
                  </a:lnTo>
                  <a:lnTo>
                    <a:pt x="6031" y="9675"/>
                  </a:lnTo>
                  <a:lnTo>
                    <a:pt x="6351" y="9833"/>
                  </a:lnTo>
                  <a:lnTo>
                    <a:pt x="6588" y="9833"/>
                  </a:lnTo>
                  <a:lnTo>
                    <a:pt x="6672" y="9833"/>
                  </a:lnTo>
                  <a:lnTo>
                    <a:pt x="6908" y="9920"/>
                  </a:lnTo>
                  <a:lnTo>
                    <a:pt x="6908" y="10000"/>
                  </a:lnTo>
                  <a:lnTo>
                    <a:pt x="7068" y="9920"/>
                  </a:lnTo>
                  <a:lnTo>
                    <a:pt x="7144" y="9920"/>
                  </a:lnTo>
                  <a:lnTo>
                    <a:pt x="7144" y="9833"/>
                  </a:lnTo>
                  <a:lnTo>
                    <a:pt x="7068" y="9833"/>
                  </a:lnTo>
                  <a:lnTo>
                    <a:pt x="7068" y="9754"/>
                  </a:lnTo>
                  <a:lnTo>
                    <a:pt x="6983" y="9675"/>
                  </a:lnTo>
                  <a:lnTo>
                    <a:pt x="6908" y="9253"/>
                  </a:lnTo>
                  <a:lnTo>
                    <a:pt x="6908" y="9095"/>
                  </a:lnTo>
                  <a:lnTo>
                    <a:pt x="6908" y="8841"/>
                  </a:lnTo>
                  <a:lnTo>
                    <a:pt x="6908" y="8762"/>
                  </a:lnTo>
                  <a:lnTo>
                    <a:pt x="6908" y="8683"/>
                  </a:lnTo>
                  <a:lnTo>
                    <a:pt x="6983" y="8595"/>
                  </a:lnTo>
                  <a:lnTo>
                    <a:pt x="7068" y="8349"/>
                  </a:lnTo>
                  <a:lnTo>
                    <a:pt x="6983" y="8349"/>
                  </a:lnTo>
                  <a:lnTo>
                    <a:pt x="6983" y="8182"/>
                  </a:lnTo>
                  <a:lnTo>
                    <a:pt x="7068" y="8182"/>
                  </a:lnTo>
                  <a:lnTo>
                    <a:pt x="7144" y="8182"/>
                  </a:lnTo>
                  <a:lnTo>
                    <a:pt x="7219" y="8103"/>
                  </a:lnTo>
                  <a:lnTo>
                    <a:pt x="7219" y="8015"/>
                  </a:lnTo>
                  <a:lnTo>
                    <a:pt x="7219" y="7936"/>
                  </a:lnTo>
                  <a:lnTo>
                    <a:pt x="7219" y="7848"/>
                  </a:lnTo>
                  <a:lnTo>
                    <a:pt x="7304" y="7848"/>
                  </a:lnTo>
                  <a:lnTo>
                    <a:pt x="7379" y="7848"/>
                  </a:lnTo>
                  <a:lnTo>
                    <a:pt x="7464" y="7848"/>
                  </a:lnTo>
                  <a:lnTo>
                    <a:pt x="7464" y="7769"/>
                  </a:lnTo>
                  <a:lnTo>
                    <a:pt x="7464" y="7690"/>
                  </a:lnTo>
                  <a:lnTo>
                    <a:pt x="7540" y="7690"/>
                  </a:lnTo>
                  <a:lnTo>
                    <a:pt x="7775" y="7690"/>
                  </a:lnTo>
                  <a:lnTo>
                    <a:pt x="7775" y="7603"/>
                  </a:lnTo>
                  <a:lnTo>
                    <a:pt x="7700" y="7524"/>
                  </a:lnTo>
                  <a:lnTo>
                    <a:pt x="7775" y="7436"/>
                  </a:lnTo>
                  <a:lnTo>
                    <a:pt x="7860" y="7436"/>
                  </a:lnTo>
                  <a:lnTo>
                    <a:pt x="7935" y="7436"/>
                  </a:lnTo>
                  <a:lnTo>
                    <a:pt x="7860" y="7436"/>
                  </a:lnTo>
                  <a:lnTo>
                    <a:pt x="7935" y="7524"/>
                  </a:lnTo>
                  <a:lnTo>
                    <a:pt x="8020" y="7436"/>
                  </a:lnTo>
                  <a:lnTo>
                    <a:pt x="8256" y="7357"/>
                  </a:lnTo>
                  <a:lnTo>
                    <a:pt x="8727" y="7023"/>
                  </a:lnTo>
                  <a:lnTo>
                    <a:pt x="8727" y="6944"/>
                  </a:lnTo>
                  <a:lnTo>
                    <a:pt x="8887" y="6777"/>
                  </a:lnTo>
                  <a:lnTo>
                    <a:pt x="8887" y="6698"/>
                  </a:lnTo>
                  <a:lnTo>
                    <a:pt x="8887" y="6611"/>
                  </a:lnTo>
                  <a:lnTo>
                    <a:pt x="8887" y="6532"/>
                  </a:lnTo>
                  <a:lnTo>
                    <a:pt x="9048" y="6444"/>
                  </a:lnTo>
                  <a:lnTo>
                    <a:pt x="9048" y="6611"/>
                  </a:lnTo>
                  <a:lnTo>
                    <a:pt x="9208" y="6611"/>
                  </a:lnTo>
                  <a:lnTo>
                    <a:pt x="9528" y="6444"/>
                  </a:lnTo>
                  <a:lnTo>
                    <a:pt x="9764" y="6444"/>
                  </a:lnTo>
                  <a:lnTo>
                    <a:pt x="9764" y="6365"/>
                  </a:lnTo>
                  <a:lnTo>
                    <a:pt x="9679" y="6365"/>
                  </a:lnTo>
                  <a:lnTo>
                    <a:pt x="9764" y="6276"/>
                  </a:lnTo>
                  <a:lnTo>
                    <a:pt x="9764" y="6198"/>
                  </a:lnTo>
                  <a:lnTo>
                    <a:pt x="9839" y="6031"/>
                  </a:lnTo>
                  <a:lnTo>
                    <a:pt x="9764" y="5864"/>
                  </a:lnTo>
                  <a:lnTo>
                    <a:pt x="9764" y="5784"/>
                  </a:lnTo>
                  <a:lnTo>
                    <a:pt x="9839" y="5617"/>
                  </a:lnTo>
                  <a:lnTo>
                    <a:pt x="9924" y="5539"/>
                  </a:lnTo>
                  <a:lnTo>
                    <a:pt x="9924" y="5451"/>
                  </a:lnTo>
                  <a:lnTo>
                    <a:pt x="10000" y="5284"/>
                  </a:lnTo>
                  <a:lnTo>
                    <a:pt x="10000" y="5206"/>
                  </a:lnTo>
                  <a:lnTo>
                    <a:pt x="9924" y="5039"/>
                  </a:lnTo>
                  <a:lnTo>
                    <a:pt x="9839" y="4959"/>
                  </a:lnTo>
                  <a:lnTo>
                    <a:pt x="9839" y="4872"/>
                  </a:lnTo>
                  <a:lnTo>
                    <a:pt x="9764" y="4872"/>
                  </a:lnTo>
                  <a:lnTo>
                    <a:pt x="9764" y="4792"/>
                  </a:lnTo>
                  <a:lnTo>
                    <a:pt x="9764" y="4714"/>
                  </a:lnTo>
                  <a:lnTo>
                    <a:pt x="9764" y="4547"/>
                  </a:lnTo>
                  <a:lnTo>
                    <a:pt x="9679" y="4459"/>
                  </a:lnTo>
                  <a:lnTo>
                    <a:pt x="9604" y="4292"/>
                  </a:lnTo>
                  <a:lnTo>
                    <a:pt x="9528" y="4292"/>
                  </a:lnTo>
                  <a:lnTo>
                    <a:pt x="9528" y="3387"/>
                  </a:lnTo>
                  <a:lnTo>
                    <a:pt x="9528" y="2887"/>
                  </a:lnTo>
                  <a:lnTo>
                    <a:pt x="9443" y="2809"/>
                  </a:lnTo>
                  <a:lnTo>
                    <a:pt x="9283" y="2887"/>
                  </a:lnTo>
                  <a:lnTo>
                    <a:pt x="9208" y="2809"/>
                  </a:lnTo>
                  <a:close/>
                  <a:moveTo>
                    <a:pt x="9208" y="280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>
              <a:off x="3209400" y="4285080"/>
              <a:ext cx="2266200" cy="2134440"/>
            </a:xfrm>
            <a:custGeom>
              <a:avLst/>
              <a:gdLst>
                <a:gd name="textAreaLeft" fmla="*/ 0 w 2266200"/>
                <a:gd name="textAreaRight" fmla="*/ 2266560 w 2266200"/>
                <a:gd name="textAreaTop" fmla="*/ 0 h 2134440"/>
                <a:gd name="textAreaBottom" fmla="*/ 2134800 h 2134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08" y="2809"/>
                  </a:moveTo>
                  <a:lnTo>
                    <a:pt x="9123" y="2809"/>
                  </a:lnTo>
                  <a:lnTo>
                    <a:pt x="9048" y="2730"/>
                  </a:lnTo>
                  <a:lnTo>
                    <a:pt x="8652" y="2475"/>
                  </a:lnTo>
                  <a:lnTo>
                    <a:pt x="8652" y="2563"/>
                  </a:lnTo>
                  <a:lnTo>
                    <a:pt x="8576" y="2563"/>
                  </a:lnTo>
                  <a:lnTo>
                    <a:pt x="8416" y="2563"/>
                  </a:lnTo>
                  <a:lnTo>
                    <a:pt x="8331" y="2563"/>
                  </a:lnTo>
                  <a:lnTo>
                    <a:pt x="8171" y="2642"/>
                  </a:lnTo>
                  <a:lnTo>
                    <a:pt x="8020" y="2642"/>
                  </a:lnTo>
                  <a:lnTo>
                    <a:pt x="7935" y="2642"/>
                  </a:lnTo>
                  <a:lnTo>
                    <a:pt x="7775" y="2809"/>
                  </a:lnTo>
                  <a:lnTo>
                    <a:pt x="7775" y="2642"/>
                  </a:lnTo>
                  <a:lnTo>
                    <a:pt x="7700" y="2642"/>
                  </a:lnTo>
                  <a:lnTo>
                    <a:pt x="7624" y="2563"/>
                  </a:lnTo>
                  <a:lnTo>
                    <a:pt x="7540" y="2563"/>
                  </a:lnTo>
                  <a:lnTo>
                    <a:pt x="7540" y="2642"/>
                  </a:lnTo>
                  <a:lnTo>
                    <a:pt x="7464" y="2642"/>
                  </a:lnTo>
                  <a:lnTo>
                    <a:pt x="7464" y="2563"/>
                  </a:lnTo>
                  <a:lnTo>
                    <a:pt x="7464" y="2475"/>
                  </a:lnTo>
                  <a:lnTo>
                    <a:pt x="7304" y="2563"/>
                  </a:lnTo>
                  <a:lnTo>
                    <a:pt x="7219" y="2642"/>
                  </a:lnTo>
                  <a:lnTo>
                    <a:pt x="7304" y="2730"/>
                  </a:lnTo>
                  <a:lnTo>
                    <a:pt x="7219" y="2809"/>
                  </a:lnTo>
                  <a:lnTo>
                    <a:pt x="7219" y="2730"/>
                  </a:lnTo>
                  <a:lnTo>
                    <a:pt x="7219" y="2642"/>
                  </a:lnTo>
                  <a:lnTo>
                    <a:pt x="7219" y="2563"/>
                  </a:lnTo>
                  <a:lnTo>
                    <a:pt x="7144" y="2563"/>
                  </a:lnTo>
                  <a:lnTo>
                    <a:pt x="7068" y="2642"/>
                  </a:lnTo>
                  <a:lnTo>
                    <a:pt x="6908" y="2475"/>
                  </a:lnTo>
                  <a:lnTo>
                    <a:pt x="6823" y="2475"/>
                  </a:lnTo>
                  <a:lnTo>
                    <a:pt x="6823" y="2642"/>
                  </a:lnTo>
                  <a:lnTo>
                    <a:pt x="6588" y="2563"/>
                  </a:lnTo>
                  <a:lnTo>
                    <a:pt x="6588" y="2475"/>
                  </a:lnTo>
                  <a:lnTo>
                    <a:pt x="6588" y="2396"/>
                  </a:lnTo>
                  <a:lnTo>
                    <a:pt x="6351" y="2309"/>
                  </a:lnTo>
                  <a:lnTo>
                    <a:pt x="6351" y="2396"/>
                  </a:lnTo>
                  <a:lnTo>
                    <a:pt x="6267" y="2396"/>
                  </a:lnTo>
                  <a:lnTo>
                    <a:pt x="6192" y="2309"/>
                  </a:lnTo>
                  <a:lnTo>
                    <a:pt x="6116" y="2309"/>
                  </a:lnTo>
                  <a:lnTo>
                    <a:pt x="6031" y="2309"/>
                  </a:lnTo>
                  <a:lnTo>
                    <a:pt x="5795" y="2230"/>
                  </a:lnTo>
                  <a:lnTo>
                    <a:pt x="5711" y="2230"/>
                  </a:lnTo>
                  <a:lnTo>
                    <a:pt x="5711" y="2151"/>
                  </a:lnTo>
                  <a:lnTo>
                    <a:pt x="5711" y="2063"/>
                  </a:lnTo>
                  <a:lnTo>
                    <a:pt x="5636" y="2063"/>
                  </a:lnTo>
                  <a:lnTo>
                    <a:pt x="5559" y="2063"/>
                  </a:lnTo>
                  <a:lnTo>
                    <a:pt x="5475" y="2151"/>
                  </a:lnTo>
                  <a:lnTo>
                    <a:pt x="5400" y="2063"/>
                  </a:lnTo>
                  <a:lnTo>
                    <a:pt x="5240" y="1896"/>
                  </a:lnTo>
                  <a:lnTo>
                    <a:pt x="5164" y="1896"/>
                  </a:lnTo>
                  <a:lnTo>
                    <a:pt x="5164" y="79"/>
                  </a:lnTo>
                  <a:lnTo>
                    <a:pt x="3100" y="0"/>
                  </a:lnTo>
                  <a:lnTo>
                    <a:pt x="2704" y="4134"/>
                  </a:lnTo>
                  <a:lnTo>
                    <a:pt x="0" y="3880"/>
                  </a:lnTo>
                  <a:lnTo>
                    <a:pt x="84" y="3967"/>
                  </a:lnTo>
                  <a:lnTo>
                    <a:pt x="0" y="3967"/>
                  </a:lnTo>
                  <a:lnTo>
                    <a:pt x="84" y="4047"/>
                  </a:lnTo>
                  <a:lnTo>
                    <a:pt x="243" y="4214"/>
                  </a:lnTo>
                  <a:lnTo>
                    <a:pt x="320" y="4292"/>
                  </a:lnTo>
                  <a:lnTo>
                    <a:pt x="320" y="4381"/>
                  </a:lnTo>
                  <a:lnTo>
                    <a:pt x="480" y="4547"/>
                  </a:lnTo>
                  <a:lnTo>
                    <a:pt x="875" y="5039"/>
                  </a:lnTo>
                  <a:lnTo>
                    <a:pt x="1196" y="5284"/>
                  </a:lnTo>
                  <a:lnTo>
                    <a:pt x="1272" y="5373"/>
                  </a:lnTo>
                  <a:lnTo>
                    <a:pt x="1272" y="5451"/>
                  </a:lnTo>
                  <a:lnTo>
                    <a:pt x="1272" y="5539"/>
                  </a:lnTo>
                  <a:lnTo>
                    <a:pt x="1347" y="5706"/>
                  </a:lnTo>
                  <a:lnTo>
                    <a:pt x="1347" y="6031"/>
                  </a:lnTo>
                  <a:lnTo>
                    <a:pt x="1432" y="6031"/>
                  </a:lnTo>
                  <a:lnTo>
                    <a:pt x="1507" y="6276"/>
                  </a:lnTo>
                  <a:lnTo>
                    <a:pt x="1988" y="6698"/>
                  </a:lnTo>
                  <a:lnTo>
                    <a:pt x="2384" y="6944"/>
                  </a:lnTo>
                  <a:lnTo>
                    <a:pt x="2459" y="6944"/>
                  </a:lnTo>
                  <a:lnTo>
                    <a:pt x="2620" y="6944"/>
                  </a:lnTo>
                  <a:lnTo>
                    <a:pt x="2620" y="6777"/>
                  </a:lnTo>
                  <a:lnTo>
                    <a:pt x="2704" y="6698"/>
                  </a:lnTo>
                  <a:lnTo>
                    <a:pt x="2855" y="6365"/>
                  </a:lnTo>
                  <a:lnTo>
                    <a:pt x="2855" y="6276"/>
                  </a:lnTo>
                  <a:lnTo>
                    <a:pt x="2940" y="6198"/>
                  </a:lnTo>
                  <a:lnTo>
                    <a:pt x="3100" y="6276"/>
                  </a:lnTo>
                  <a:lnTo>
                    <a:pt x="3176" y="6276"/>
                  </a:lnTo>
                  <a:lnTo>
                    <a:pt x="3176" y="6198"/>
                  </a:lnTo>
                  <a:lnTo>
                    <a:pt x="3176" y="6119"/>
                  </a:lnTo>
                  <a:lnTo>
                    <a:pt x="3259" y="6198"/>
                  </a:lnTo>
                  <a:lnTo>
                    <a:pt x="3336" y="6198"/>
                  </a:lnTo>
                  <a:lnTo>
                    <a:pt x="3495" y="6276"/>
                  </a:lnTo>
                  <a:lnTo>
                    <a:pt x="3572" y="6276"/>
                  </a:lnTo>
                  <a:lnTo>
                    <a:pt x="3731" y="6365"/>
                  </a:lnTo>
                  <a:lnTo>
                    <a:pt x="3731" y="6276"/>
                  </a:lnTo>
                  <a:lnTo>
                    <a:pt x="3967" y="6365"/>
                  </a:lnTo>
                  <a:lnTo>
                    <a:pt x="3967" y="6444"/>
                  </a:lnTo>
                  <a:lnTo>
                    <a:pt x="4052" y="6532"/>
                  </a:lnTo>
                  <a:lnTo>
                    <a:pt x="4052" y="6611"/>
                  </a:lnTo>
                  <a:lnTo>
                    <a:pt x="4212" y="6698"/>
                  </a:lnTo>
                  <a:lnTo>
                    <a:pt x="4287" y="6856"/>
                  </a:lnTo>
                  <a:lnTo>
                    <a:pt x="4448" y="6944"/>
                  </a:lnTo>
                  <a:lnTo>
                    <a:pt x="4448" y="7023"/>
                  </a:lnTo>
                  <a:lnTo>
                    <a:pt x="4608" y="7603"/>
                  </a:lnTo>
                  <a:lnTo>
                    <a:pt x="4684" y="7690"/>
                  </a:lnTo>
                  <a:lnTo>
                    <a:pt x="4919" y="8015"/>
                  </a:lnTo>
                  <a:lnTo>
                    <a:pt x="4919" y="8103"/>
                  </a:lnTo>
                  <a:lnTo>
                    <a:pt x="5164" y="8261"/>
                  </a:lnTo>
                  <a:lnTo>
                    <a:pt x="5164" y="8349"/>
                  </a:lnTo>
                  <a:lnTo>
                    <a:pt x="5240" y="8428"/>
                  </a:lnTo>
                  <a:lnTo>
                    <a:pt x="5240" y="8683"/>
                  </a:lnTo>
                  <a:lnTo>
                    <a:pt x="5315" y="8762"/>
                  </a:lnTo>
                  <a:lnTo>
                    <a:pt x="5315" y="8928"/>
                  </a:lnTo>
                  <a:lnTo>
                    <a:pt x="5400" y="9007"/>
                  </a:lnTo>
                  <a:lnTo>
                    <a:pt x="5559" y="9341"/>
                  </a:lnTo>
                  <a:lnTo>
                    <a:pt x="5636" y="9508"/>
                  </a:lnTo>
                  <a:lnTo>
                    <a:pt x="5711" y="9508"/>
                  </a:lnTo>
                  <a:lnTo>
                    <a:pt x="5870" y="9587"/>
                  </a:lnTo>
                  <a:lnTo>
                    <a:pt x="6031" y="9675"/>
                  </a:lnTo>
                  <a:lnTo>
                    <a:pt x="6351" y="9833"/>
                  </a:lnTo>
                  <a:lnTo>
                    <a:pt x="6588" y="9833"/>
                  </a:lnTo>
                  <a:lnTo>
                    <a:pt x="6672" y="9833"/>
                  </a:lnTo>
                  <a:lnTo>
                    <a:pt x="6908" y="9920"/>
                  </a:lnTo>
                  <a:lnTo>
                    <a:pt x="6908" y="10000"/>
                  </a:lnTo>
                  <a:lnTo>
                    <a:pt x="7068" y="9920"/>
                  </a:lnTo>
                  <a:lnTo>
                    <a:pt x="7144" y="9920"/>
                  </a:lnTo>
                  <a:lnTo>
                    <a:pt x="7144" y="9833"/>
                  </a:lnTo>
                  <a:lnTo>
                    <a:pt x="7068" y="9833"/>
                  </a:lnTo>
                  <a:lnTo>
                    <a:pt x="7068" y="9754"/>
                  </a:lnTo>
                  <a:lnTo>
                    <a:pt x="6983" y="9675"/>
                  </a:lnTo>
                  <a:lnTo>
                    <a:pt x="6908" y="9253"/>
                  </a:lnTo>
                  <a:lnTo>
                    <a:pt x="6908" y="9095"/>
                  </a:lnTo>
                  <a:lnTo>
                    <a:pt x="6908" y="8841"/>
                  </a:lnTo>
                  <a:lnTo>
                    <a:pt x="6908" y="8762"/>
                  </a:lnTo>
                  <a:lnTo>
                    <a:pt x="6908" y="8683"/>
                  </a:lnTo>
                  <a:lnTo>
                    <a:pt x="6983" y="8595"/>
                  </a:lnTo>
                  <a:lnTo>
                    <a:pt x="7068" y="8349"/>
                  </a:lnTo>
                  <a:lnTo>
                    <a:pt x="6983" y="8349"/>
                  </a:lnTo>
                  <a:lnTo>
                    <a:pt x="6983" y="8182"/>
                  </a:lnTo>
                  <a:lnTo>
                    <a:pt x="7068" y="8182"/>
                  </a:lnTo>
                  <a:lnTo>
                    <a:pt x="7144" y="8182"/>
                  </a:lnTo>
                  <a:lnTo>
                    <a:pt x="7219" y="8103"/>
                  </a:lnTo>
                  <a:lnTo>
                    <a:pt x="7219" y="8015"/>
                  </a:lnTo>
                  <a:lnTo>
                    <a:pt x="7219" y="7936"/>
                  </a:lnTo>
                  <a:lnTo>
                    <a:pt x="7219" y="7848"/>
                  </a:lnTo>
                  <a:lnTo>
                    <a:pt x="7304" y="7848"/>
                  </a:lnTo>
                  <a:lnTo>
                    <a:pt x="7379" y="7848"/>
                  </a:lnTo>
                  <a:lnTo>
                    <a:pt x="7464" y="7848"/>
                  </a:lnTo>
                  <a:lnTo>
                    <a:pt x="7464" y="7769"/>
                  </a:lnTo>
                  <a:lnTo>
                    <a:pt x="7464" y="7690"/>
                  </a:lnTo>
                  <a:lnTo>
                    <a:pt x="7540" y="7690"/>
                  </a:lnTo>
                  <a:lnTo>
                    <a:pt x="7775" y="7690"/>
                  </a:lnTo>
                  <a:lnTo>
                    <a:pt x="7775" y="7603"/>
                  </a:lnTo>
                  <a:lnTo>
                    <a:pt x="7700" y="7524"/>
                  </a:lnTo>
                  <a:lnTo>
                    <a:pt x="7775" y="7436"/>
                  </a:lnTo>
                  <a:lnTo>
                    <a:pt x="7860" y="7436"/>
                  </a:lnTo>
                  <a:lnTo>
                    <a:pt x="7935" y="7436"/>
                  </a:lnTo>
                  <a:lnTo>
                    <a:pt x="7860" y="7436"/>
                  </a:lnTo>
                  <a:lnTo>
                    <a:pt x="7935" y="7524"/>
                  </a:lnTo>
                  <a:lnTo>
                    <a:pt x="8020" y="7436"/>
                  </a:lnTo>
                  <a:lnTo>
                    <a:pt x="8256" y="7357"/>
                  </a:lnTo>
                  <a:lnTo>
                    <a:pt x="8727" y="7023"/>
                  </a:lnTo>
                  <a:lnTo>
                    <a:pt x="8727" y="6944"/>
                  </a:lnTo>
                  <a:lnTo>
                    <a:pt x="8887" y="6777"/>
                  </a:lnTo>
                  <a:lnTo>
                    <a:pt x="8887" y="6698"/>
                  </a:lnTo>
                  <a:lnTo>
                    <a:pt x="8887" y="6611"/>
                  </a:lnTo>
                  <a:lnTo>
                    <a:pt x="8887" y="6532"/>
                  </a:lnTo>
                  <a:lnTo>
                    <a:pt x="9048" y="6444"/>
                  </a:lnTo>
                  <a:lnTo>
                    <a:pt x="9048" y="6611"/>
                  </a:lnTo>
                  <a:lnTo>
                    <a:pt x="9208" y="6611"/>
                  </a:lnTo>
                  <a:lnTo>
                    <a:pt x="9528" y="6444"/>
                  </a:lnTo>
                  <a:lnTo>
                    <a:pt x="9764" y="6444"/>
                  </a:lnTo>
                  <a:lnTo>
                    <a:pt x="9764" y="6365"/>
                  </a:lnTo>
                  <a:lnTo>
                    <a:pt x="9679" y="6365"/>
                  </a:lnTo>
                  <a:lnTo>
                    <a:pt x="9764" y="6276"/>
                  </a:lnTo>
                  <a:lnTo>
                    <a:pt x="9764" y="6198"/>
                  </a:lnTo>
                  <a:lnTo>
                    <a:pt x="9839" y="6031"/>
                  </a:lnTo>
                  <a:lnTo>
                    <a:pt x="9764" y="5864"/>
                  </a:lnTo>
                  <a:lnTo>
                    <a:pt x="9764" y="5784"/>
                  </a:lnTo>
                  <a:lnTo>
                    <a:pt x="9839" y="5617"/>
                  </a:lnTo>
                  <a:lnTo>
                    <a:pt x="9924" y="5539"/>
                  </a:lnTo>
                  <a:lnTo>
                    <a:pt x="9924" y="5451"/>
                  </a:lnTo>
                  <a:lnTo>
                    <a:pt x="10000" y="5284"/>
                  </a:lnTo>
                  <a:lnTo>
                    <a:pt x="10000" y="5206"/>
                  </a:lnTo>
                  <a:lnTo>
                    <a:pt x="9924" y="5039"/>
                  </a:lnTo>
                  <a:lnTo>
                    <a:pt x="9839" y="4959"/>
                  </a:lnTo>
                  <a:lnTo>
                    <a:pt x="9839" y="4872"/>
                  </a:lnTo>
                  <a:lnTo>
                    <a:pt x="9764" y="4872"/>
                  </a:lnTo>
                  <a:lnTo>
                    <a:pt x="9764" y="4792"/>
                  </a:lnTo>
                  <a:lnTo>
                    <a:pt x="9764" y="4714"/>
                  </a:lnTo>
                  <a:lnTo>
                    <a:pt x="9764" y="4547"/>
                  </a:lnTo>
                  <a:lnTo>
                    <a:pt x="9679" y="4459"/>
                  </a:lnTo>
                  <a:lnTo>
                    <a:pt x="9604" y="4292"/>
                  </a:lnTo>
                  <a:lnTo>
                    <a:pt x="9528" y="4292"/>
                  </a:lnTo>
                  <a:lnTo>
                    <a:pt x="9528" y="3387"/>
                  </a:lnTo>
                  <a:lnTo>
                    <a:pt x="9528" y="2887"/>
                  </a:lnTo>
                  <a:lnTo>
                    <a:pt x="9443" y="2809"/>
                  </a:lnTo>
                  <a:lnTo>
                    <a:pt x="9283" y="2887"/>
                  </a:lnTo>
                  <a:lnTo>
                    <a:pt x="9208" y="280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2959200" y="3295080"/>
              <a:ext cx="1168560" cy="882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11"/>
                  </a:moveTo>
                  <a:lnTo>
                    <a:pt x="914" y="0"/>
                  </a:lnTo>
                  <a:lnTo>
                    <a:pt x="7385" y="806"/>
                  </a:lnTo>
                  <a:lnTo>
                    <a:pt x="10000" y="1210"/>
                  </a:lnTo>
                  <a:lnTo>
                    <a:pt x="9836" y="3417"/>
                  </a:lnTo>
                  <a:lnTo>
                    <a:pt x="9526" y="10000"/>
                  </a:lnTo>
                  <a:lnTo>
                    <a:pt x="8300" y="10000"/>
                  </a:lnTo>
                  <a:lnTo>
                    <a:pt x="0" y="8811"/>
                  </a:lnTo>
                  <a:close/>
                  <a:moveTo>
                    <a:pt x="0" y="881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>
              <a:off x="2959200" y="3295080"/>
              <a:ext cx="1168560" cy="882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11"/>
                  </a:moveTo>
                  <a:lnTo>
                    <a:pt x="914" y="0"/>
                  </a:lnTo>
                  <a:lnTo>
                    <a:pt x="7385" y="806"/>
                  </a:lnTo>
                  <a:lnTo>
                    <a:pt x="10000" y="1210"/>
                  </a:lnTo>
                  <a:lnTo>
                    <a:pt x="9836" y="3417"/>
                  </a:lnTo>
                  <a:lnTo>
                    <a:pt x="9526" y="10000"/>
                  </a:lnTo>
                  <a:lnTo>
                    <a:pt x="8300" y="10000"/>
                  </a:lnTo>
                  <a:lnTo>
                    <a:pt x="0" y="8811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4072320" y="3596760"/>
              <a:ext cx="1187640" cy="6166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05" y="0"/>
                  </a:moveTo>
                  <a:lnTo>
                    <a:pt x="8938" y="273"/>
                  </a:lnTo>
                  <a:lnTo>
                    <a:pt x="9549" y="1124"/>
                  </a:lnTo>
                  <a:lnTo>
                    <a:pt x="9389" y="1428"/>
                  </a:lnTo>
                  <a:lnTo>
                    <a:pt x="9244" y="1975"/>
                  </a:lnTo>
                  <a:lnTo>
                    <a:pt x="9389" y="2279"/>
                  </a:lnTo>
                  <a:lnTo>
                    <a:pt x="9549" y="2279"/>
                  </a:lnTo>
                  <a:lnTo>
                    <a:pt x="9694" y="2856"/>
                  </a:lnTo>
                  <a:lnTo>
                    <a:pt x="9855" y="3130"/>
                  </a:lnTo>
                  <a:lnTo>
                    <a:pt x="10000" y="3130"/>
                  </a:lnTo>
                  <a:lnTo>
                    <a:pt x="10000" y="10000"/>
                  </a:lnTo>
                  <a:lnTo>
                    <a:pt x="0" y="9422"/>
                  </a:lnTo>
                  <a:lnTo>
                    <a:pt x="305" y="0"/>
                  </a:lnTo>
                  <a:close/>
                  <a:moveTo>
                    <a:pt x="305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4072320" y="3596760"/>
              <a:ext cx="1187640" cy="6166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05" y="0"/>
                  </a:moveTo>
                  <a:lnTo>
                    <a:pt x="8938" y="273"/>
                  </a:lnTo>
                  <a:lnTo>
                    <a:pt x="9549" y="1124"/>
                  </a:lnTo>
                  <a:lnTo>
                    <a:pt x="9389" y="1428"/>
                  </a:lnTo>
                  <a:lnTo>
                    <a:pt x="9244" y="1975"/>
                  </a:lnTo>
                  <a:lnTo>
                    <a:pt x="9389" y="2279"/>
                  </a:lnTo>
                  <a:lnTo>
                    <a:pt x="9549" y="2279"/>
                  </a:lnTo>
                  <a:lnTo>
                    <a:pt x="9694" y="2856"/>
                  </a:lnTo>
                  <a:lnTo>
                    <a:pt x="9855" y="3130"/>
                  </a:lnTo>
                  <a:lnTo>
                    <a:pt x="10000" y="3130"/>
                  </a:lnTo>
                  <a:lnTo>
                    <a:pt x="10000" y="10000"/>
                  </a:lnTo>
                  <a:lnTo>
                    <a:pt x="0" y="9422"/>
                  </a:lnTo>
                  <a:lnTo>
                    <a:pt x="305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45"/>
            <p:cNvSpPr/>
            <p:nvPr/>
          </p:nvSpPr>
          <p:spPr>
            <a:xfrm>
              <a:off x="3822120" y="2978280"/>
              <a:ext cx="1330920" cy="6354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6106"/>
                  </a:moveTo>
                  <a:lnTo>
                    <a:pt x="257" y="0"/>
                  </a:lnTo>
                  <a:lnTo>
                    <a:pt x="6341" y="560"/>
                  </a:lnTo>
                  <a:lnTo>
                    <a:pt x="6614" y="825"/>
                  </a:lnTo>
                  <a:lnTo>
                    <a:pt x="6886" y="825"/>
                  </a:lnTo>
                  <a:lnTo>
                    <a:pt x="7015" y="1120"/>
                  </a:lnTo>
                  <a:lnTo>
                    <a:pt x="7159" y="1651"/>
                  </a:lnTo>
                  <a:lnTo>
                    <a:pt x="7431" y="1651"/>
                  </a:lnTo>
                  <a:lnTo>
                    <a:pt x="7560" y="1386"/>
                  </a:lnTo>
                  <a:lnTo>
                    <a:pt x="7690" y="1386"/>
                  </a:lnTo>
                  <a:lnTo>
                    <a:pt x="7833" y="1386"/>
                  </a:lnTo>
                  <a:lnTo>
                    <a:pt x="8378" y="1946"/>
                  </a:lnTo>
                  <a:lnTo>
                    <a:pt x="8637" y="2212"/>
                  </a:lnTo>
                  <a:lnTo>
                    <a:pt x="8637" y="2771"/>
                  </a:lnTo>
                  <a:lnTo>
                    <a:pt x="8780" y="3067"/>
                  </a:lnTo>
                  <a:lnTo>
                    <a:pt x="8637" y="3598"/>
                  </a:lnTo>
                  <a:lnTo>
                    <a:pt x="8780" y="3892"/>
                  </a:lnTo>
                  <a:lnTo>
                    <a:pt x="8909" y="4159"/>
                  </a:lnTo>
                  <a:lnTo>
                    <a:pt x="9053" y="4454"/>
                  </a:lnTo>
                  <a:lnTo>
                    <a:pt x="9053" y="4719"/>
                  </a:lnTo>
                  <a:lnTo>
                    <a:pt x="9053" y="4984"/>
                  </a:lnTo>
                  <a:lnTo>
                    <a:pt x="9182" y="5280"/>
                  </a:lnTo>
                  <a:lnTo>
                    <a:pt x="9182" y="5545"/>
                  </a:lnTo>
                  <a:lnTo>
                    <a:pt x="9182" y="5840"/>
                  </a:lnTo>
                  <a:lnTo>
                    <a:pt x="9053" y="6106"/>
                  </a:lnTo>
                  <a:lnTo>
                    <a:pt x="9311" y="6401"/>
                  </a:lnTo>
                  <a:lnTo>
                    <a:pt x="9311" y="6666"/>
                  </a:lnTo>
                  <a:lnTo>
                    <a:pt x="9311" y="6932"/>
                  </a:lnTo>
                  <a:lnTo>
                    <a:pt x="9311" y="7227"/>
                  </a:lnTo>
                  <a:lnTo>
                    <a:pt x="9454" y="7492"/>
                  </a:lnTo>
                  <a:lnTo>
                    <a:pt x="9311" y="7787"/>
                  </a:lnTo>
                  <a:lnTo>
                    <a:pt x="9454" y="8053"/>
                  </a:lnTo>
                  <a:lnTo>
                    <a:pt x="9583" y="8318"/>
                  </a:lnTo>
                  <a:lnTo>
                    <a:pt x="9583" y="8613"/>
                  </a:lnTo>
                  <a:lnTo>
                    <a:pt x="9583" y="8879"/>
                  </a:lnTo>
                  <a:lnTo>
                    <a:pt x="9856" y="9439"/>
                  </a:lnTo>
                  <a:lnTo>
                    <a:pt x="10000" y="9734"/>
                  </a:lnTo>
                  <a:lnTo>
                    <a:pt x="9856" y="10000"/>
                  </a:lnTo>
                  <a:lnTo>
                    <a:pt x="2152" y="9734"/>
                  </a:lnTo>
                  <a:lnTo>
                    <a:pt x="2295" y="6666"/>
                  </a:lnTo>
                  <a:lnTo>
                    <a:pt x="0" y="6106"/>
                  </a:lnTo>
                  <a:close/>
                  <a:moveTo>
                    <a:pt x="0" y="61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46"/>
            <p:cNvSpPr/>
            <p:nvPr/>
          </p:nvSpPr>
          <p:spPr>
            <a:xfrm>
              <a:off x="3822120" y="2978280"/>
              <a:ext cx="1330920" cy="6354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6106"/>
                  </a:moveTo>
                  <a:lnTo>
                    <a:pt x="257" y="0"/>
                  </a:lnTo>
                  <a:lnTo>
                    <a:pt x="6341" y="560"/>
                  </a:lnTo>
                  <a:lnTo>
                    <a:pt x="6614" y="825"/>
                  </a:lnTo>
                  <a:lnTo>
                    <a:pt x="6886" y="825"/>
                  </a:lnTo>
                  <a:lnTo>
                    <a:pt x="7015" y="1120"/>
                  </a:lnTo>
                  <a:lnTo>
                    <a:pt x="7159" y="1651"/>
                  </a:lnTo>
                  <a:lnTo>
                    <a:pt x="7431" y="1651"/>
                  </a:lnTo>
                  <a:lnTo>
                    <a:pt x="7560" y="1386"/>
                  </a:lnTo>
                  <a:lnTo>
                    <a:pt x="7690" y="1386"/>
                  </a:lnTo>
                  <a:lnTo>
                    <a:pt x="7833" y="1386"/>
                  </a:lnTo>
                  <a:lnTo>
                    <a:pt x="8378" y="1946"/>
                  </a:lnTo>
                  <a:lnTo>
                    <a:pt x="8637" y="2212"/>
                  </a:lnTo>
                  <a:lnTo>
                    <a:pt x="8637" y="2771"/>
                  </a:lnTo>
                  <a:lnTo>
                    <a:pt x="8780" y="3067"/>
                  </a:lnTo>
                  <a:lnTo>
                    <a:pt x="8637" y="3598"/>
                  </a:lnTo>
                  <a:lnTo>
                    <a:pt x="8780" y="3892"/>
                  </a:lnTo>
                  <a:lnTo>
                    <a:pt x="8909" y="4159"/>
                  </a:lnTo>
                  <a:lnTo>
                    <a:pt x="9053" y="4454"/>
                  </a:lnTo>
                  <a:lnTo>
                    <a:pt x="9053" y="4719"/>
                  </a:lnTo>
                  <a:lnTo>
                    <a:pt x="9053" y="4984"/>
                  </a:lnTo>
                  <a:lnTo>
                    <a:pt x="9182" y="5280"/>
                  </a:lnTo>
                  <a:lnTo>
                    <a:pt x="9182" y="5545"/>
                  </a:lnTo>
                  <a:lnTo>
                    <a:pt x="9182" y="5840"/>
                  </a:lnTo>
                  <a:lnTo>
                    <a:pt x="9053" y="6106"/>
                  </a:lnTo>
                  <a:lnTo>
                    <a:pt x="9311" y="6401"/>
                  </a:lnTo>
                  <a:lnTo>
                    <a:pt x="9311" y="6666"/>
                  </a:lnTo>
                  <a:lnTo>
                    <a:pt x="9311" y="6932"/>
                  </a:lnTo>
                  <a:lnTo>
                    <a:pt x="9311" y="7227"/>
                  </a:lnTo>
                  <a:lnTo>
                    <a:pt x="9454" y="7492"/>
                  </a:lnTo>
                  <a:lnTo>
                    <a:pt x="9311" y="7787"/>
                  </a:lnTo>
                  <a:lnTo>
                    <a:pt x="9454" y="8053"/>
                  </a:lnTo>
                  <a:lnTo>
                    <a:pt x="9583" y="8318"/>
                  </a:lnTo>
                  <a:lnTo>
                    <a:pt x="9583" y="8613"/>
                  </a:lnTo>
                  <a:lnTo>
                    <a:pt x="9583" y="8879"/>
                  </a:lnTo>
                  <a:lnTo>
                    <a:pt x="9856" y="9439"/>
                  </a:lnTo>
                  <a:lnTo>
                    <a:pt x="10000" y="9734"/>
                  </a:lnTo>
                  <a:lnTo>
                    <a:pt x="9856" y="10000"/>
                  </a:lnTo>
                  <a:lnTo>
                    <a:pt x="2152" y="9734"/>
                  </a:lnTo>
                  <a:lnTo>
                    <a:pt x="2295" y="6666"/>
                  </a:lnTo>
                  <a:lnTo>
                    <a:pt x="0" y="61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47"/>
            <p:cNvSpPr/>
            <p:nvPr/>
          </p:nvSpPr>
          <p:spPr>
            <a:xfrm>
              <a:off x="3856680" y="2395800"/>
              <a:ext cx="1114920" cy="7232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056"/>
                  </a:moveTo>
                  <a:lnTo>
                    <a:pt x="171" y="2694"/>
                  </a:lnTo>
                  <a:lnTo>
                    <a:pt x="496" y="0"/>
                  </a:lnTo>
                  <a:lnTo>
                    <a:pt x="9845" y="492"/>
                  </a:lnTo>
                  <a:lnTo>
                    <a:pt x="9845" y="725"/>
                  </a:lnTo>
                  <a:lnTo>
                    <a:pt x="9845" y="984"/>
                  </a:lnTo>
                  <a:lnTo>
                    <a:pt x="9520" y="1476"/>
                  </a:lnTo>
                  <a:lnTo>
                    <a:pt x="9520" y="1709"/>
                  </a:lnTo>
                  <a:lnTo>
                    <a:pt x="10000" y="2202"/>
                  </a:lnTo>
                  <a:lnTo>
                    <a:pt x="10000" y="7072"/>
                  </a:lnTo>
                  <a:lnTo>
                    <a:pt x="9845" y="7072"/>
                  </a:lnTo>
                  <a:lnTo>
                    <a:pt x="10000" y="7331"/>
                  </a:lnTo>
                  <a:lnTo>
                    <a:pt x="10000" y="7564"/>
                  </a:lnTo>
                  <a:lnTo>
                    <a:pt x="9845" y="8056"/>
                  </a:lnTo>
                  <a:lnTo>
                    <a:pt x="10000" y="8056"/>
                  </a:lnTo>
                  <a:lnTo>
                    <a:pt x="10000" y="8290"/>
                  </a:lnTo>
                  <a:lnTo>
                    <a:pt x="10000" y="8549"/>
                  </a:lnTo>
                  <a:lnTo>
                    <a:pt x="10000" y="8782"/>
                  </a:lnTo>
                  <a:lnTo>
                    <a:pt x="9845" y="9274"/>
                  </a:lnTo>
                  <a:lnTo>
                    <a:pt x="10000" y="9766"/>
                  </a:lnTo>
                  <a:lnTo>
                    <a:pt x="10000" y="10000"/>
                  </a:lnTo>
                  <a:lnTo>
                    <a:pt x="9691" y="9766"/>
                  </a:lnTo>
                  <a:lnTo>
                    <a:pt x="9041" y="9274"/>
                  </a:lnTo>
                  <a:lnTo>
                    <a:pt x="8869" y="9274"/>
                  </a:lnTo>
                  <a:lnTo>
                    <a:pt x="8715" y="9274"/>
                  </a:lnTo>
                  <a:lnTo>
                    <a:pt x="8561" y="9507"/>
                  </a:lnTo>
                  <a:lnTo>
                    <a:pt x="8236" y="9507"/>
                  </a:lnTo>
                  <a:lnTo>
                    <a:pt x="8065" y="9041"/>
                  </a:lnTo>
                  <a:lnTo>
                    <a:pt x="7910" y="8782"/>
                  </a:lnTo>
                  <a:lnTo>
                    <a:pt x="7585" y="8782"/>
                  </a:lnTo>
                  <a:lnTo>
                    <a:pt x="7260" y="8549"/>
                  </a:lnTo>
                  <a:lnTo>
                    <a:pt x="0" y="8056"/>
                  </a:lnTo>
                  <a:close/>
                  <a:moveTo>
                    <a:pt x="0" y="805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48"/>
            <p:cNvSpPr/>
            <p:nvPr/>
          </p:nvSpPr>
          <p:spPr>
            <a:xfrm>
              <a:off x="3856680" y="2395800"/>
              <a:ext cx="1114920" cy="7232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056"/>
                  </a:moveTo>
                  <a:lnTo>
                    <a:pt x="171" y="2694"/>
                  </a:lnTo>
                  <a:lnTo>
                    <a:pt x="496" y="0"/>
                  </a:lnTo>
                  <a:lnTo>
                    <a:pt x="9845" y="492"/>
                  </a:lnTo>
                  <a:lnTo>
                    <a:pt x="9845" y="725"/>
                  </a:lnTo>
                  <a:lnTo>
                    <a:pt x="9845" y="984"/>
                  </a:lnTo>
                  <a:lnTo>
                    <a:pt x="9520" y="1476"/>
                  </a:lnTo>
                  <a:lnTo>
                    <a:pt x="9520" y="1709"/>
                  </a:lnTo>
                  <a:lnTo>
                    <a:pt x="10000" y="2202"/>
                  </a:lnTo>
                  <a:lnTo>
                    <a:pt x="10000" y="7072"/>
                  </a:lnTo>
                  <a:lnTo>
                    <a:pt x="9845" y="7072"/>
                  </a:lnTo>
                  <a:lnTo>
                    <a:pt x="10000" y="7331"/>
                  </a:lnTo>
                  <a:lnTo>
                    <a:pt x="10000" y="7564"/>
                  </a:lnTo>
                  <a:lnTo>
                    <a:pt x="9845" y="8056"/>
                  </a:lnTo>
                  <a:lnTo>
                    <a:pt x="10000" y="8056"/>
                  </a:lnTo>
                  <a:lnTo>
                    <a:pt x="10000" y="8290"/>
                  </a:lnTo>
                  <a:lnTo>
                    <a:pt x="10000" y="8549"/>
                  </a:lnTo>
                  <a:lnTo>
                    <a:pt x="10000" y="8782"/>
                  </a:lnTo>
                  <a:lnTo>
                    <a:pt x="9845" y="9274"/>
                  </a:lnTo>
                  <a:lnTo>
                    <a:pt x="10000" y="9766"/>
                  </a:lnTo>
                  <a:lnTo>
                    <a:pt x="10000" y="10000"/>
                  </a:lnTo>
                  <a:lnTo>
                    <a:pt x="9691" y="9766"/>
                  </a:lnTo>
                  <a:lnTo>
                    <a:pt x="9041" y="9274"/>
                  </a:lnTo>
                  <a:lnTo>
                    <a:pt x="8869" y="9274"/>
                  </a:lnTo>
                  <a:lnTo>
                    <a:pt x="8715" y="9274"/>
                  </a:lnTo>
                  <a:lnTo>
                    <a:pt x="8561" y="9507"/>
                  </a:lnTo>
                  <a:lnTo>
                    <a:pt x="8236" y="9507"/>
                  </a:lnTo>
                  <a:lnTo>
                    <a:pt x="8065" y="9041"/>
                  </a:lnTo>
                  <a:lnTo>
                    <a:pt x="7910" y="8782"/>
                  </a:lnTo>
                  <a:lnTo>
                    <a:pt x="7585" y="8782"/>
                  </a:lnTo>
                  <a:lnTo>
                    <a:pt x="7260" y="8549"/>
                  </a:lnTo>
                  <a:lnTo>
                    <a:pt x="0" y="805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49"/>
            <p:cNvSpPr/>
            <p:nvPr/>
          </p:nvSpPr>
          <p:spPr>
            <a:xfrm>
              <a:off x="4864680" y="1760400"/>
              <a:ext cx="1061640" cy="114696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7" y="10000"/>
                  </a:moveTo>
                  <a:lnTo>
                    <a:pt x="1007" y="6928"/>
                  </a:lnTo>
                  <a:lnTo>
                    <a:pt x="503" y="6617"/>
                  </a:lnTo>
                  <a:lnTo>
                    <a:pt x="503" y="6470"/>
                  </a:lnTo>
                  <a:lnTo>
                    <a:pt x="845" y="6159"/>
                  </a:lnTo>
                  <a:lnTo>
                    <a:pt x="845" y="5995"/>
                  </a:lnTo>
                  <a:lnTo>
                    <a:pt x="845" y="5848"/>
                  </a:lnTo>
                  <a:lnTo>
                    <a:pt x="845" y="5539"/>
                  </a:lnTo>
                  <a:lnTo>
                    <a:pt x="845" y="5392"/>
                  </a:lnTo>
                  <a:lnTo>
                    <a:pt x="682" y="4770"/>
                  </a:lnTo>
                  <a:lnTo>
                    <a:pt x="682" y="4623"/>
                  </a:lnTo>
                  <a:lnTo>
                    <a:pt x="682" y="4312"/>
                  </a:lnTo>
                  <a:lnTo>
                    <a:pt x="503" y="4150"/>
                  </a:lnTo>
                  <a:lnTo>
                    <a:pt x="503" y="3381"/>
                  </a:lnTo>
                  <a:lnTo>
                    <a:pt x="341" y="2777"/>
                  </a:lnTo>
                  <a:lnTo>
                    <a:pt x="341" y="2614"/>
                  </a:lnTo>
                  <a:lnTo>
                    <a:pt x="161" y="2009"/>
                  </a:lnTo>
                  <a:lnTo>
                    <a:pt x="161" y="1535"/>
                  </a:lnTo>
                  <a:lnTo>
                    <a:pt x="161" y="1241"/>
                  </a:lnTo>
                  <a:lnTo>
                    <a:pt x="341" y="1241"/>
                  </a:lnTo>
                  <a:lnTo>
                    <a:pt x="161" y="767"/>
                  </a:lnTo>
                  <a:lnTo>
                    <a:pt x="0" y="620"/>
                  </a:lnTo>
                  <a:lnTo>
                    <a:pt x="2715" y="620"/>
                  </a:lnTo>
                  <a:lnTo>
                    <a:pt x="2715" y="163"/>
                  </a:lnTo>
                  <a:lnTo>
                    <a:pt x="2715" y="0"/>
                  </a:lnTo>
                  <a:lnTo>
                    <a:pt x="2877" y="0"/>
                  </a:lnTo>
                  <a:lnTo>
                    <a:pt x="3219" y="0"/>
                  </a:lnTo>
                  <a:lnTo>
                    <a:pt x="3219" y="457"/>
                  </a:lnTo>
                  <a:lnTo>
                    <a:pt x="3381" y="620"/>
                  </a:lnTo>
                  <a:lnTo>
                    <a:pt x="3219" y="931"/>
                  </a:lnTo>
                  <a:lnTo>
                    <a:pt x="3561" y="1241"/>
                  </a:lnTo>
                  <a:lnTo>
                    <a:pt x="3884" y="1241"/>
                  </a:lnTo>
                  <a:lnTo>
                    <a:pt x="4064" y="1241"/>
                  </a:lnTo>
                  <a:lnTo>
                    <a:pt x="4406" y="1241"/>
                  </a:lnTo>
                  <a:lnTo>
                    <a:pt x="4406" y="1388"/>
                  </a:lnTo>
                  <a:lnTo>
                    <a:pt x="4748" y="1388"/>
                  </a:lnTo>
                  <a:lnTo>
                    <a:pt x="4909" y="1241"/>
                  </a:lnTo>
                  <a:lnTo>
                    <a:pt x="5412" y="1241"/>
                  </a:lnTo>
                  <a:lnTo>
                    <a:pt x="5917" y="1241"/>
                  </a:lnTo>
                  <a:lnTo>
                    <a:pt x="5917" y="1388"/>
                  </a:lnTo>
                  <a:lnTo>
                    <a:pt x="5917" y="1535"/>
                  </a:lnTo>
                  <a:lnTo>
                    <a:pt x="6097" y="1535"/>
                  </a:lnTo>
                  <a:lnTo>
                    <a:pt x="6097" y="1699"/>
                  </a:lnTo>
                  <a:lnTo>
                    <a:pt x="6258" y="1699"/>
                  </a:lnTo>
                  <a:lnTo>
                    <a:pt x="6438" y="1699"/>
                  </a:lnTo>
                  <a:lnTo>
                    <a:pt x="6600" y="1699"/>
                  </a:lnTo>
                  <a:lnTo>
                    <a:pt x="6780" y="1699"/>
                  </a:lnTo>
                  <a:lnTo>
                    <a:pt x="7104" y="1846"/>
                  </a:lnTo>
                  <a:lnTo>
                    <a:pt x="7104" y="2009"/>
                  </a:lnTo>
                  <a:lnTo>
                    <a:pt x="7284" y="2156"/>
                  </a:lnTo>
                  <a:lnTo>
                    <a:pt x="7446" y="2156"/>
                  </a:lnTo>
                  <a:lnTo>
                    <a:pt x="7787" y="2009"/>
                  </a:lnTo>
                  <a:lnTo>
                    <a:pt x="8129" y="1699"/>
                  </a:lnTo>
                  <a:lnTo>
                    <a:pt x="8291" y="1699"/>
                  </a:lnTo>
                  <a:lnTo>
                    <a:pt x="8291" y="1846"/>
                  </a:lnTo>
                  <a:lnTo>
                    <a:pt x="9136" y="1846"/>
                  </a:lnTo>
                  <a:lnTo>
                    <a:pt x="9316" y="2009"/>
                  </a:lnTo>
                  <a:lnTo>
                    <a:pt x="9658" y="2156"/>
                  </a:lnTo>
                  <a:lnTo>
                    <a:pt x="9658" y="2009"/>
                  </a:lnTo>
                  <a:lnTo>
                    <a:pt x="10000" y="2009"/>
                  </a:lnTo>
                  <a:lnTo>
                    <a:pt x="9820" y="2303"/>
                  </a:lnTo>
                  <a:lnTo>
                    <a:pt x="9478" y="2467"/>
                  </a:lnTo>
                  <a:lnTo>
                    <a:pt x="9136" y="2467"/>
                  </a:lnTo>
                  <a:lnTo>
                    <a:pt x="8974" y="2614"/>
                  </a:lnTo>
                  <a:lnTo>
                    <a:pt x="8812" y="2777"/>
                  </a:lnTo>
                  <a:lnTo>
                    <a:pt x="8291" y="2777"/>
                  </a:lnTo>
                  <a:lnTo>
                    <a:pt x="8291" y="2923"/>
                  </a:lnTo>
                  <a:lnTo>
                    <a:pt x="7625" y="3545"/>
                  </a:lnTo>
                  <a:lnTo>
                    <a:pt x="6600" y="4459"/>
                  </a:lnTo>
                  <a:lnTo>
                    <a:pt x="6438" y="4459"/>
                  </a:lnTo>
                  <a:lnTo>
                    <a:pt x="6438" y="5539"/>
                  </a:lnTo>
                  <a:lnTo>
                    <a:pt x="5917" y="5995"/>
                  </a:lnTo>
                  <a:lnTo>
                    <a:pt x="5917" y="6159"/>
                  </a:lnTo>
                  <a:lnTo>
                    <a:pt x="5755" y="6306"/>
                  </a:lnTo>
                  <a:lnTo>
                    <a:pt x="5917" y="6470"/>
                  </a:lnTo>
                  <a:lnTo>
                    <a:pt x="6097" y="6781"/>
                  </a:lnTo>
                  <a:lnTo>
                    <a:pt x="5917" y="6928"/>
                  </a:lnTo>
                  <a:lnTo>
                    <a:pt x="5917" y="7075"/>
                  </a:lnTo>
                  <a:lnTo>
                    <a:pt x="5917" y="7385"/>
                  </a:lnTo>
                  <a:lnTo>
                    <a:pt x="5917" y="7843"/>
                  </a:lnTo>
                  <a:lnTo>
                    <a:pt x="6097" y="7843"/>
                  </a:lnTo>
                  <a:lnTo>
                    <a:pt x="6258" y="8006"/>
                  </a:lnTo>
                  <a:lnTo>
                    <a:pt x="6258" y="8153"/>
                  </a:lnTo>
                  <a:lnTo>
                    <a:pt x="6600" y="8153"/>
                  </a:lnTo>
                  <a:lnTo>
                    <a:pt x="6600" y="8316"/>
                  </a:lnTo>
                  <a:lnTo>
                    <a:pt x="6780" y="8316"/>
                  </a:lnTo>
                  <a:lnTo>
                    <a:pt x="7104" y="8464"/>
                  </a:lnTo>
                  <a:lnTo>
                    <a:pt x="7284" y="8774"/>
                  </a:lnTo>
                  <a:lnTo>
                    <a:pt x="7787" y="8921"/>
                  </a:lnTo>
                  <a:lnTo>
                    <a:pt x="8129" y="9232"/>
                  </a:lnTo>
                  <a:lnTo>
                    <a:pt x="8129" y="9395"/>
                  </a:lnTo>
                  <a:lnTo>
                    <a:pt x="8129" y="9542"/>
                  </a:lnTo>
                  <a:lnTo>
                    <a:pt x="8291" y="10000"/>
                  </a:lnTo>
                  <a:lnTo>
                    <a:pt x="1007" y="10000"/>
                  </a:lnTo>
                  <a:close/>
                  <a:moveTo>
                    <a:pt x="1007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50"/>
            <p:cNvSpPr/>
            <p:nvPr/>
          </p:nvSpPr>
          <p:spPr>
            <a:xfrm>
              <a:off x="4864680" y="1760400"/>
              <a:ext cx="1061640" cy="114696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7" y="10000"/>
                  </a:moveTo>
                  <a:lnTo>
                    <a:pt x="1007" y="6928"/>
                  </a:lnTo>
                  <a:lnTo>
                    <a:pt x="503" y="6617"/>
                  </a:lnTo>
                  <a:lnTo>
                    <a:pt x="503" y="6470"/>
                  </a:lnTo>
                  <a:lnTo>
                    <a:pt x="845" y="6159"/>
                  </a:lnTo>
                  <a:lnTo>
                    <a:pt x="845" y="5995"/>
                  </a:lnTo>
                  <a:lnTo>
                    <a:pt x="845" y="5848"/>
                  </a:lnTo>
                  <a:lnTo>
                    <a:pt x="845" y="5539"/>
                  </a:lnTo>
                  <a:lnTo>
                    <a:pt x="845" y="5392"/>
                  </a:lnTo>
                  <a:lnTo>
                    <a:pt x="682" y="4770"/>
                  </a:lnTo>
                  <a:lnTo>
                    <a:pt x="682" y="4623"/>
                  </a:lnTo>
                  <a:lnTo>
                    <a:pt x="682" y="4312"/>
                  </a:lnTo>
                  <a:lnTo>
                    <a:pt x="503" y="4150"/>
                  </a:lnTo>
                  <a:lnTo>
                    <a:pt x="503" y="3381"/>
                  </a:lnTo>
                  <a:lnTo>
                    <a:pt x="341" y="2777"/>
                  </a:lnTo>
                  <a:lnTo>
                    <a:pt x="341" y="2614"/>
                  </a:lnTo>
                  <a:lnTo>
                    <a:pt x="161" y="2009"/>
                  </a:lnTo>
                  <a:lnTo>
                    <a:pt x="161" y="1535"/>
                  </a:lnTo>
                  <a:lnTo>
                    <a:pt x="161" y="1241"/>
                  </a:lnTo>
                  <a:lnTo>
                    <a:pt x="341" y="1241"/>
                  </a:lnTo>
                  <a:lnTo>
                    <a:pt x="161" y="767"/>
                  </a:lnTo>
                  <a:lnTo>
                    <a:pt x="0" y="620"/>
                  </a:lnTo>
                  <a:lnTo>
                    <a:pt x="2715" y="620"/>
                  </a:lnTo>
                  <a:lnTo>
                    <a:pt x="2715" y="163"/>
                  </a:lnTo>
                  <a:lnTo>
                    <a:pt x="2715" y="0"/>
                  </a:lnTo>
                  <a:lnTo>
                    <a:pt x="2877" y="0"/>
                  </a:lnTo>
                  <a:lnTo>
                    <a:pt x="3219" y="0"/>
                  </a:lnTo>
                  <a:lnTo>
                    <a:pt x="3219" y="457"/>
                  </a:lnTo>
                  <a:lnTo>
                    <a:pt x="3381" y="620"/>
                  </a:lnTo>
                  <a:lnTo>
                    <a:pt x="3219" y="931"/>
                  </a:lnTo>
                  <a:lnTo>
                    <a:pt x="3561" y="1241"/>
                  </a:lnTo>
                  <a:lnTo>
                    <a:pt x="3884" y="1241"/>
                  </a:lnTo>
                  <a:lnTo>
                    <a:pt x="4064" y="1241"/>
                  </a:lnTo>
                  <a:lnTo>
                    <a:pt x="4406" y="1241"/>
                  </a:lnTo>
                  <a:lnTo>
                    <a:pt x="4406" y="1388"/>
                  </a:lnTo>
                  <a:lnTo>
                    <a:pt x="4748" y="1388"/>
                  </a:lnTo>
                  <a:lnTo>
                    <a:pt x="4909" y="1241"/>
                  </a:lnTo>
                  <a:lnTo>
                    <a:pt x="5412" y="1241"/>
                  </a:lnTo>
                  <a:lnTo>
                    <a:pt x="5917" y="1241"/>
                  </a:lnTo>
                  <a:lnTo>
                    <a:pt x="5917" y="1388"/>
                  </a:lnTo>
                  <a:lnTo>
                    <a:pt x="5917" y="1535"/>
                  </a:lnTo>
                  <a:lnTo>
                    <a:pt x="6097" y="1535"/>
                  </a:lnTo>
                  <a:lnTo>
                    <a:pt x="6097" y="1699"/>
                  </a:lnTo>
                  <a:lnTo>
                    <a:pt x="6258" y="1699"/>
                  </a:lnTo>
                  <a:lnTo>
                    <a:pt x="6438" y="1699"/>
                  </a:lnTo>
                  <a:lnTo>
                    <a:pt x="6600" y="1699"/>
                  </a:lnTo>
                  <a:lnTo>
                    <a:pt x="6780" y="1699"/>
                  </a:lnTo>
                  <a:lnTo>
                    <a:pt x="7104" y="1846"/>
                  </a:lnTo>
                  <a:lnTo>
                    <a:pt x="7104" y="2009"/>
                  </a:lnTo>
                  <a:lnTo>
                    <a:pt x="7284" y="2156"/>
                  </a:lnTo>
                  <a:lnTo>
                    <a:pt x="7446" y="2156"/>
                  </a:lnTo>
                  <a:lnTo>
                    <a:pt x="7787" y="2009"/>
                  </a:lnTo>
                  <a:lnTo>
                    <a:pt x="8129" y="1699"/>
                  </a:lnTo>
                  <a:lnTo>
                    <a:pt x="8291" y="1699"/>
                  </a:lnTo>
                  <a:lnTo>
                    <a:pt x="8291" y="1846"/>
                  </a:lnTo>
                  <a:lnTo>
                    <a:pt x="9136" y="1846"/>
                  </a:lnTo>
                  <a:lnTo>
                    <a:pt x="9316" y="2009"/>
                  </a:lnTo>
                  <a:lnTo>
                    <a:pt x="9658" y="2156"/>
                  </a:lnTo>
                  <a:lnTo>
                    <a:pt x="9658" y="2009"/>
                  </a:lnTo>
                  <a:lnTo>
                    <a:pt x="10000" y="2009"/>
                  </a:lnTo>
                  <a:lnTo>
                    <a:pt x="9820" y="2303"/>
                  </a:lnTo>
                  <a:lnTo>
                    <a:pt x="9478" y="2467"/>
                  </a:lnTo>
                  <a:lnTo>
                    <a:pt x="9136" y="2467"/>
                  </a:lnTo>
                  <a:lnTo>
                    <a:pt x="8974" y="2614"/>
                  </a:lnTo>
                  <a:lnTo>
                    <a:pt x="8812" y="2777"/>
                  </a:lnTo>
                  <a:lnTo>
                    <a:pt x="8291" y="2777"/>
                  </a:lnTo>
                  <a:lnTo>
                    <a:pt x="8291" y="2923"/>
                  </a:lnTo>
                  <a:lnTo>
                    <a:pt x="7625" y="3545"/>
                  </a:lnTo>
                  <a:lnTo>
                    <a:pt x="6600" y="4459"/>
                  </a:lnTo>
                  <a:lnTo>
                    <a:pt x="6438" y="4459"/>
                  </a:lnTo>
                  <a:lnTo>
                    <a:pt x="6438" y="5539"/>
                  </a:lnTo>
                  <a:lnTo>
                    <a:pt x="5917" y="5995"/>
                  </a:lnTo>
                  <a:lnTo>
                    <a:pt x="5917" y="6159"/>
                  </a:lnTo>
                  <a:lnTo>
                    <a:pt x="5755" y="6306"/>
                  </a:lnTo>
                  <a:lnTo>
                    <a:pt x="5917" y="6470"/>
                  </a:lnTo>
                  <a:lnTo>
                    <a:pt x="6097" y="6781"/>
                  </a:lnTo>
                  <a:lnTo>
                    <a:pt x="5917" y="6928"/>
                  </a:lnTo>
                  <a:lnTo>
                    <a:pt x="5917" y="7075"/>
                  </a:lnTo>
                  <a:lnTo>
                    <a:pt x="5917" y="7385"/>
                  </a:lnTo>
                  <a:lnTo>
                    <a:pt x="5917" y="7843"/>
                  </a:lnTo>
                  <a:lnTo>
                    <a:pt x="6097" y="7843"/>
                  </a:lnTo>
                  <a:lnTo>
                    <a:pt x="6258" y="8006"/>
                  </a:lnTo>
                  <a:lnTo>
                    <a:pt x="6258" y="8153"/>
                  </a:lnTo>
                  <a:lnTo>
                    <a:pt x="6600" y="8153"/>
                  </a:lnTo>
                  <a:lnTo>
                    <a:pt x="6600" y="8316"/>
                  </a:lnTo>
                  <a:lnTo>
                    <a:pt x="6780" y="8316"/>
                  </a:lnTo>
                  <a:lnTo>
                    <a:pt x="7104" y="8464"/>
                  </a:lnTo>
                  <a:lnTo>
                    <a:pt x="7284" y="8774"/>
                  </a:lnTo>
                  <a:lnTo>
                    <a:pt x="7787" y="8921"/>
                  </a:lnTo>
                  <a:lnTo>
                    <a:pt x="8129" y="9232"/>
                  </a:lnTo>
                  <a:lnTo>
                    <a:pt x="8129" y="9395"/>
                  </a:lnTo>
                  <a:lnTo>
                    <a:pt x="8129" y="9542"/>
                  </a:lnTo>
                  <a:lnTo>
                    <a:pt x="8291" y="10000"/>
                  </a:lnTo>
                  <a:lnTo>
                    <a:pt x="1007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51"/>
            <p:cNvSpPr/>
            <p:nvPr/>
          </p:nvSpPr>
          <p:spPr>
            <a:xfrm>
              <a:off x="5475960" y="2219400"/>
              <a:ext cx="862920" cy="8827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159" y="10000"/>
                  </a:moveTo>
                  <a:lnTo>
                    <a:pt x="3959" y="9787"/>
                  </a:lnTo>
                  <a:lnTo>
                    <a:pt x="3959" y="9596"/>
                  </a:lnTo>
                  <a:lnTo>
                    <a:pt x="3340" y="9193"/>
                  </a:lnTo>
                  <a:lnTo>
                    <a:pt x="3119" y="8789"/>
                  </a:lnTo>
                  <a:lnTo>
                    <a:pt x="3119" y="8598"/>
                  </a:lnTo>
                  <a:lnTo>
                    <a:pt x="3340" y="8195"/>
                  </a:lnTo>
                  <a:lnTo>
                    <a:pt x="3119" y="7791"/>
                  </a:lnTo>
                  <a:lnTo>
                    <a:pt x="2920" y="7197"/>
                  </a:lnTo>
                  <a:lnTo>
                    <a:pt x="2920" y="7006"/>
                  </a:lnTo>
                  <a:lnTo>
                    <a:pt x="2920" y="6794"/>
                  </a:lnTo>
                  <a:lnTo>
                    <a:pt x="2500" y="6390"/>
                  </a:lnTo>
                  <a:lnTo>
                    <a:pt x="1880" y="6198"/>
                  </a:lnTo>
                  <a:lnTo>
                    <a:pt x="1659" y="5795"/>
                  </a:lnTo>
                  <a:lnTo>
                    <a:pt x="1261" y="5605"/>
                  </a:lnTo>
                  <a:lnTo>
                    <a:pt x="1039" y="5605"/>
                  </a:lnTo>
                  <a:lnTo>
                    <a:pt x="1039" y="5392"/>
                  </a:lnTo>
                  <a:lnTo>
                    <a:pt x="619" y="5392"/>
                  </a:lnTo>
                  <a:lnTo>
                    <a:pt x="619" y="5201"/>
                  </a:lnTo>
                  <a:lnTo>
                    <a:pt x="420" y="4989"/>
                  </a:lnTo>
                  <a:lnTo>
                    <a:pt x="199" y="4989"/>
                  </a:lnTo>
                  <a:lnTo>
                    <a:pt x="199" y="4394"/>
                  </a:lnTo>
                  <a:lnTo>
                    <a:pt x="199" y="3991"/>
                  </a:lnTo>
                  <a:lnTo>
                    <a:pt x="199" y="3800"/>
                  </a:lnTo>
                  <a:lnTo>
                    <a:pt x="420" y="3609"/>
                  </a:lnTo>
                  <a:lnTo>
                    <a:pt x="199" y="3205"/>
                  </a:lnTo>
                  <a:lnTo>
                    <a:pt x="0" y="2992"/>
                  </a:lnTo>
                  <a:lnTo>
                    <a:pt x="199" y="2802"/>
                  </a:lnTo>
                  <a:lnTo>
                    <a:pt x="199" y="2590"/>
                  </a:lnTo>
                  <a:lnTo>
                    <a:pt x="839" y="1995"/>
                  </a:lnTo>
                  <a:lnTo>
                    <a:pt x="839" y="594"/>
                  </a:lnTo>
                  <a:lnTo>
                    <a:pt x="1039" y="594"/>
                  </a:lnTo>
                  <a:lnTo>
                    <a:pt x="1460" y="594"/>
                  </a:lnTo>
                  <a:lnTo>
                    <a:pt x="1659" y="594"/>
                  </a:lnTo>
                  <a:lnTo>
                    <a:pt x="1880" y="594"/>
                  </a:lnTo>
                  <a:lnTo>
                    <a:pt x="2300" y="403"/>
                  </a:lnTo>
                  <a:lnTo>
                    <a:pt x="3119" y="0"/>
                  </a:lnTo>
                  <a:lnTo>
                    <a:pt x="3340" y="0"/>
                  </a:lnTo>
                  <a:lnTo>
                    <a:pt x="3340" y="191"/>
                  </a:lnTo>
                  <a:lnTo>
                    <a:pt x="3119" y="191"/>
                  </a:lnTo>
                  <a:lnTo>
                    <a:pt x="3119" y="403"/>
                  </a:lnTo>
                  <a:lnTo>
                    <a:pt x="3119" y="594"/>
                  </a:lnTo>
                  <a:lnTo>
                    <a:pt x="3340" y="594"/>
                  </a:lnTo>
                  <a:lnTo>
                    <a:pt x="3539" y="594"/>
                  </a:lnTo>
                  <a:lnTo>
                    <a:pt x="3959" y="594"/>
                  </a:lnTo>
                  <a:lnTo>
                    <a:pt x="3959" y="806"/>
                  </a:lnTo>
                  <a:lnTo>
                    <a:pt x="4380" y="806"/>
                  </a:lnTo>
                  <a:lnTo>
                    <a:pt x="4380" y="997"/>
                  </a:lnTo>
                  <a:lnTo>
                    <a:pt x="4579" y="1210"/>
                  </a:lnTo>
                  <a:lnTo>
                    <a:pt x="4800" y="1401"/>
                  </a:lnTo>
                  <a:lnTo>
                    <a:pt x="6261" y="1592"/>
                  </a:lnTo>
                  <a:lnTo>
                    <a:pt x="6659" y="1804"/>
                  </a:lnTo>
                  <a:lnTo>
                    <a:pt x="6880" y="1804"/>
                  </a:lnTo>
                  <a:lnTo>
                    <a:pt x="6880" y="1995"/>
                  </a:lnTo>
                  <a:lnTo>
                    <a:pt x="6880" y="1804"/>
                  </a:lnTo>
                  <a:lnTo>
                    <a:pt x="7079" y="1804"/>
                  </a:lnTo>
                  <a:lnTo>
                    <a:pt x="7500" y="1995"/>
                  </a:lnTo>
                  <a:lnTo>
                    <a:pt x="7721" y="1995"/>
                  </a:lnTo>
                  <a:lnTo>
                    <a:pt x="8119" y="2208"/>
                  </a:lnTo>
                  <a:lnTo>
                    <a:pt x="8539" y="2399"/>
                  </a:lnTo>
                  <a:lnTo>
                    <a:pt x="8539" y="2590"/>
                  </a:lnTo>
                  <a:lnTo>
                    <a:pt x="8340" y="3205"/>
                  </a:lnTo>
                  <a:lnTo>
                    <a:pt x="8539" y="3205"/>
                  </a:lnTo>
                  <a:lnTo>
                    <a:pt x="8761" y="3205"/>
                  </a:lnTo>
                  <a:lnTo>
                    <a:pt x="8539" y="3397"/>
                  </a:lnTo>
                  <a:lnTo>
                    <a:pt x="8539" y="3609"/>
                  </a:lnTo>
                  <a:lnTo>
                    <a:pt x="8960" y="3800"/>
                  </a:lnTo>
                  <a:lnTo>
                    <a:pt x="8539" y="4203"/>
                  </a:lnTo>
                  <a:lnTo>
                    <a:pt x="8340" y="4606"/>
                  </a:lnTo>
                  <a:lnTo>
                    <a:pt x="8340" y="4989"/>
                  </a:lnTo>
                  <a:lnTo>
                    <a:pt x="8119" y="4989"/>
                  </a:lnTo>
                  <a:lnTo>
                    <a:pt x="8340" y="4989"/>
                  </a:lnTo>
                  <a:lnTo>
                    <a:pt x="8539" y="4989"/>
                  </a:lnTo>
                  <a:lnTo>
                    <a:pt x="8761" y="4394"/>
                  </a:lnTo>
                  <a:lnTo>
                    <a:pt x="9159" y="4203"/>
                  </a:lnTo>
                  <a:lnTo>
                    <a:pt x="9159" y="3991"/>
                  </a:lnTo>
                  <a:lnTo>
                    <a:pt x="9380" y="3991"/>
                  </a:lnTo>
                  <a:lnTo>
                    <a:pt x="9380" y="3800"/>
                  </a:lnTo>
                  <a:lnTo>
                    <a:pt x="9380" y="3609"/>
                  </a:lnTo>
                  <a:lnTo>
                    <a:pt x="9579" y="3609"/>
                  </a:lnTo>
                  <a:lnTo>
                    <a:pt x="9579" y="3397"/>
                  </a:lnTo>
                  <a:lnTo>
                    <a:pt x="9800" y="3205"/>
                  </a:lnTo>
                  <a:lnTo>
                    <a:pt x="10000" y="3397"/>
                  </a:lnTo>
                  <a:lnTo>
                    <a:pt x="9800" y="3609"/>
                  </a:lnTo>
                  <a:lnTo>
                    <a:pt x="9579" y="4203"/>
                  </a:lnTo>
                  <a:lnTo>
                    <a:pt x="9380" y="4203"/>
                  </a:lnTo>
                  <a:lnTo>
                    <a:pt x="9380" y="4394"/>
                  </a:lnTo>
                  <a:lnTo>
                    <a:pt x="9380" y="4606"/>
                  </a:lnTo>
                  <a:lnTo>
                    <a:pt x="9159" y="4989"/>
                  </a:lnTo>
                  <a:lnTo>
                    <a:pt x="9159" y="5605"/>
                  </a:lnTo>
                  <a:lnTo>
                    <a:pt x="8960" y="6008"/>
                  </a:lnTo>
                  <a:lnTo>
                    <a:pt x="8960" y="6198"/>
                  </a:lnTo>
                  <a:lnTo>
                    <a:pt x="8960" y="6390"/>
                  </a:lnTo>
                  <a:lnTo>
                    <a:pt x="8960" y="7006"/>
                  </a:lnTo>
                  <a:lnTo>
                    <a:pt x="8960" y="7197"/>
                  </a:lnTo>
                  <a:lnTo>
                    <a:pt x="8761" y="7600"/>
                  </a:lnTo>
                  <a:lnTo>
                    <a:pt x="8761" y="8598"/>
                  </a:lnTo>
                  <a:lnTo>
                    <a:pt x="9159" y="9002"/>
                  </a:lnTo>
                  <a:lnTo>
                    <a:pt x="8960" y="9193"/>
                  </a:lnTo>
                  <a:lnTo>
                    <a:pt x="9159" y="9193"/>
                  </a:lnTo>
                  <a:lnTo>
                    <a:pt x="8960" y="9193"/>
                  </a:lnTo>
                  <a:lnTo>
                    <a:pt x="9159" y="9596"/>
                  </a:lnTo>
                  <a:lnTo>
                    <a:pt x="4159" y="10000"/>
                  </a:lnTo>
                  <a:close/>
                  <a:moveTo>
                    <a:pt x="4159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52"/>
            <p:cNvSpPr/>
            <p:nvPr/>
          </p:nvSpPr>
          <p:spPr>
            <a:xfrm>
              <a:off x="5475960" y="2219400"/>
              <a:ext cx="862920" cy="8827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159" y="10000"/>
                  </a:moveTo>
                  <a:lnTo>
                    <a:pt x="3959" y="9787"/>
                  </a:lnTo>
                  <a:lnTo>
                    <a:pt x="3959" y="9596"/>
                  </a:lnTo>
                  <a:lnTo>
                    <a:pt x="3340" y="9193"/>
                  </a:lnTo>
                  <a:lnTo>
                    <a:pt x="3119" y="8789"/>
                  </a:lnTo>
                  <a:lnTo>
                    <a:pt x="3119" y="8598"/>
                  </a:lnTo>
                  <a:lnTo>
                    <a:pt x="3340" y="8195"/>
                  </a:lnTo>
                  <a:lnTo>
                    <a:pt x="3119" y="7791"/>
                  </a:lnTo>
                  <a:lnTo>
                    <a:pt x="2920" y="7197"/>
                  </a:lnTo>
                  <a:lnTo>
                    <a:pt x="2920" y="7006"/>
                  </a:lnTo>
                  <a:lnTo>
                    <a:pt x="2920" y="6794"/>
                  </a:lnTo>
                  <a:lnTo>
                    <a:pt x="2500" y="6390"/>
                  </a:lnTo>
                  <a:lnTo>
                    <a:pt x="1880" y="6198"/>
                  </a:lnTo>
                  <a:lnTo>
                    <a:pt x="1659" y="5795"/>
                  </a:lnTo>
                  <a:lnTo>
                    <a:pt x="1261" y="5605"/>
                  </a:lnTo>
                  <a:lnTo>
                    <a:pt x="1039" y="5605"/>
                  </a:lnTo>
                  <a:lnTo>
                    <a:pt x="1039" y="5392"/>
                  </a:lnTo>
                  <a:lnTo>
                    <a:pt x="619" y="5392"/>
                  </a:lnTo>
                  <a:lnTo>
                    <a:pt x="619" y="5201"/>
                  </a:lnTo>
                  <a:lnTo>
                    <a:pt x="420" y="4989"/>
                  </a:lnTo>
                  <a:lnTo>
                    <a:pt x="199" y="4989"/>
                  </a:lnTo>
                  <a:lnTo>
                    <a:pt x="199" y="4394"/>
                  </a:lnTo>
                  <a:lnTo>
                    <a:pt x="199" y="3991"/>
                  </a:lnTo>
                  <a:lnTo>
                    <a:pt x="199" y="3800"/>
                  </a:lnTo>
                  <a:lnTo>
                    <a:pt x="420" y="3609"/>
                  </a:lnTo>
                  <a:lnTo>
                    <a:pt x="199" y="3205"/>
                  </a:lnTo>
                  <a:lnTo>
                    <a:pt x="0" y="2992"/>
                  </a:lnTo>
                  <a:lnTo>
                    <a:pt x="199" y="2802"/>
                  </a:lnTo>
                  <a:lnTo>
                    <a:pt x="199" y="2590"/>
                  </a:lnTo>
                  <a:lnTo>
                    <a:pt x="839" y="1995"/>
                  </a:lnTo>
                  <a:lnTo>
                    <a:pt x="839" y="594"/>
                  </a:lnTo>
                  <a:lnTo>
                    <a:pt x="1039" y="594"/>
                  </a:lnTo>
                  <a:lnTo>
                    <a:pt x="1460" y="594"/>
                  </a:lnTo>
                  <a:lnTo>
                    <a:pt x="1659" y="594"/>
                  </a:lnTo>
                  <a:lnTo>
                    <a:pt x="1880" y="594"/>
                  </a:lnTo>
                  <a:lnTo>
                    <a:pt x="2300" y="403"/>
                  </a:lnTo>
                  <a:lnTo>
                    <a:pt x="3119" y="0"/>
                  </a:lnTo>
                  <a:lnTo>
                    <a:pt x="3340" y="0"/>
                  </a:lnTo>
                  <a:lnTo>
                    <a:pt x="3340" y="191"/>
                  </a:lnTo>
                  <a:lnTo>
                    <a:pt x="3119" y="191"/>
                  </a:lnTo>
                  <a:lnTo>
                    <a:pt x="3119" y="403"/>
                  </a:lnTo>
                  <a:lnTo>
                    <a:pt x="3119" y="594"/>
                  </a:lnTo>
                  <a:lnTo>
                    <a:pt x="3340" y="594"/>
                  </a:lnTo>
                  <a:lnTo>
                    <a:pt x="3539" y="594"/>
                  </a:lnTo>
                  <a:lnTo>
                    <a:pt x="3959" y="594"/>
                  </a:lnTo>
                  <a:lnTo>
                    <a:pt x="3959" y="806"/>
                  </a:lnTo>
                  <a:lnTo>
                    <a:pt x="4380" y="806"/>
                  </a:lnTo>
                  <a:lnTo>
                    <a:pt x="4380" y="997"/>
                  </a:lnTo>
                  <a:lnTo>
                    <a:pt x="4579" y="1210"/>
                  </a:lnTo>
                  <a:lnTo>
                    <a:pt x="4800" y="1401"/>
                  </a:lnTo>
                  <a:lnTo>
                    <a:pt x="6261" y="1592"/>
                  </a:lnTo>
                  <a:lnTo>
                    <a:pt x="6659" y="1804"/>
                  </a:lnTo>
                  <a:lnTo>
                    <a:pt x="6880" y="1804"/>
                  </a:lnTo>
                  <a:lnTo>
                    <a:pt x="6880" y="1995"/>
                  </a:lnTo>
                  <a:lnTo>
                    <a:pt x="6880" y="1804"/>
                  </a:lnTo>
                  <a:lnTo>
                    <a:pt x="7079" y="1804"/>
                  </a:lnTo>
                  <a:lnTo>
                    <a:pt x="7500" y="1995"/>
                  </a:lnTo>
                  <a:lnTo>
                    <a:pt x="7721" y="1995"/>
                  </a:lnTo>
                  <a:lnTo>
                    <a:pt x="8119" y="2208"/>
                  </a:lnTo>
                  <a:lnTo>
                    <a:pt x="8539" y="2399"/>
                  </a:lnTo>
                  <a:lnTo>
                    <a:pt x="8539" y="2590"/>
                  </a:lnTo>
                  <a:lnTo>
                    <a:pt x="8340" y="3205"/>
                  </a:lnTo>
                  <a:lnTo>
                    <a:pt x="8539" y="3205"/>
                  </a:lnTo>
                  <a:lnTo>
                    <a:pt x="8761" y="3205"/>
                  </a:lnTo>
                  <a:lnTo>
                    <a:pt x="8539" y="3397"/>
                  </a:lnTo>
                  <a:lnTo>
                    <a:pt x="8539" y="3609"/>
                  </a:lnTo>
                  <a:lnTo>
                    <a:pt x="8960" y="3800"/>
                  </a:lnTo>
                  <a:lnTo>
                    <a:pt x="8539" y="4203"/>
                  </a:lnTo>
                  <a:lnTo>
                    <a:pt x="8340" y="4606"/>
                  </a:lnTo>
                  <a:lnTo>
                    <a:pt x="8340" y="4989"/>
                  </a:lnTo>
                  <a:lnTo>
                    <a:pt x="8119" y="4989"/>
                  </a:lnTo>
                  <a:lnTo>
                    <a:pt x="8340" y="4989"/>
                  </a:lnTo>
                  <a:lnTo>
                    <a:pt x="8539" y="4989"/>
                  </a:lnTo>
                  <a:lnTo>
                    <a:pt x="8761" y="4394"/>
                  </a:lnTo>
                  <a:lnTo>
                    <a:pt x="9159" y="4203"/>
                  </a:lnTo>
                  <a:lnTo>
                    <a:pt x="9159" y="3991"/>
                  </a:lnTo>
                  <a:lnTo>
                    <a:pt x="9380" y="3991"/>
                  </a:lnTo>
                  <a:lnTo>
                    <a:pt x="9380" y="3800"/>
                  </a:lnTo>
                  <a:lnTo>
                    <a:pt x="9380" y="3609"/>
                  </a:lnTo>
                  <a:lnTo>
                    <a:pt x="9579" y="3609"/>
                  </a:lnTo>
                  <a:lnTo>
                    <a:pt x="9579" y="3397"/>
                  </a:lnTo>
                  <a:lnTo>
                    <a:pt x="9800" y="3205"/>
                  </a:lnTo>
                  <a:lnTo>
                    <a:pt x="10000" y="3397"/>
                  </a:lnTo>
                  <a:lnTo>
                    <a:pt x="9800" y="3609"/>
                  </a:lnTo>
                  <a:lnTo>
                    <a:pt x="9579" y="4203"/>
                  </a:lnTo>
                  <a:lnTo>
                    <a:pt x="9380" y="4203"/>
                  </a:lnTo>
                  <a:lnTo>
                    <a:pt x="9380" y="4394"/>
                  </a:lnTo>
                  <a:lnTo>
                    <a:pt x="9380" y="4606"/>
                  </a:lnTo>
                  <a:lnTo>
                    <a:pt x="9159" y="4989"/>
                  </a:lnTo>
                  <a:lnTo>
                    <a:pt x="9159" y="5605"/>
                  </a:lnTo>
                  <a:lnTo>
                    <a:pt x="8960" y="6008"/>
                  </a:lnTo>
                  <a:lnTo>
                    <a:pt x="8960" y="6198"/>
                  </a:lnTo>
                  <a:lnTo>
                    <a:pt x="8960" y="6390"/>
                  </a:lnTo>
                  <a:lnTo>
                    <a:pt x="8960" y="7006"/>
                  </a:lnTo>
                  <a:lnTo>
                    <a:pt x="8960" y="7197"/>
                  </a:lnTo>
                  <a:lnTo>
                    <a:pt x="8761" y="7600"/>
                  </a:lnTo>
                  <a:lnTo>
                    <a:pt x="8761" y="8598"/>
                  </a:lnTo>
                  <a:lnTo>
                    <a:pt x="9159" y="9002"/>
                  </a:lnTo>
                  <a:lnTo>
                    <a:pt x="8960" y="9193"/>
                  </a:lnTo>
                  <a:lnTo>
                    <a:pt x="9159" y="9193"/>
                  </a:lnTo>
                  <a:lnTo>
                    <a:pt x="8960" y="9193"/>
                  </a:lnTo>
                  <a:lnTo>
                    <a:pt x="9159" y="9596"/>
                  </a:lnTo>
                  <a:lnTo>
                    <a:pt x="4159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53"/>
            <p:cNvSpPr/>
            <p:nvPr/>
          </p:nvSpPr>
          <p:spPr>
            <a:xfrm>
              <a:off x="6411600" y="2360160"/>
              <a:ext cx="628200" cy="84708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4862" y="9601"/>
                  </a:lnTo>
                  <a:lnTo>
                    <a:pt x="5136" y="9601"/>
                  </a:lnTo>
                  <a:lnTo>
                    <a:pt x="8297" y="9380"/>
                  </a:lnTo>
                  <a:lnTo>
                    <a:pt x="8297" y="9181"/>
                  </a:lnTo>
                  <a:lnTo>
                    <a:pt x="8297" y="8761"/>
                  </a:lnTo>
                  <a:lnTo>
                    <a:pt x="8571" y="8539"/>
                  </a:lnTo>
                  <a:lnTo>
                    <a:pt x="8571" y="8141"/>
                  </a:lnTo>
                  <a:lnTo>
                    <a:pt x="8875" y="7920"/>
                  </a:lnTo>
                  <a:lnTo>
                    <a:pt x="9148" y="7500"/>
                  </a:lnTo>
                  <a:lnTo>
                    <a:pt x="9148" y="7300"/>
                  </a:lnTo>
                  <a:lnTo>
                    <a:pt x="9148" y="7101"/>
                  </a:lnTo>
                  <a:lnTo>
                    <a:pt x="9452" y="6880"/>
                  </a:lnTo>
                  <a:lnTo>
                    <a:pt x="9452" y="7101"/>
                  </a:lnTo>
                  <a:lnTo>
                    <a:pt x="9726" y="7101"/>
                  </a:lnTo>
                  <a:lnTo>
                    <a:pt x="10000" y="7101"/>
                  </a:lnTo>
                  <a:lnTo>
                    <a:pt x="10000" y="6880"/>
                  </a:lnTo>
                  <a:lnTo>
                    <a:pt x="9726" y="6460"/>
                  </a:lnTo>
                  <a:lnTo>
                    <a:pt x="10000" y="6039"/>
                  </a:lnTo>
                  <a:lnTo>
                    <a:pt x="9726" y="5840"/>
                  </a:lnTo>
                  <a:lnTo>
                    <a:pt x="9726" y="5220"/>
                  </a:lnTo>
                  <a:lnTo>
                    <a:pt x="8875" y="3959"/>
                  </a:lnTo>
                  <a:lnTo>
                    <a:pt x="8297" y="3761"/>
                  </a:lnTo>
                  <a:lnTo>
                    <a:pt x="8024" y="3959"/>
                  </a:lnTo>
                  <a:lnTo>
                    <a:pt x="7720" y="4181"/>
                  </a:lnTo>
                  <a:lnTo>
                    <a:pt x="6869" y="5000"/>
                  </a:lnTo>
                  <a:lnTo>
                    <a:pt x="6565" y="5000"/>
                  </a:lnTo>
                  <a:lnTo>
                    <a:pt x="6291" y="5000"/>
                  </a:lnTo>
                  <a:lnTo>
                    <a:pt x="6017" y="4800"/>
                  </a:lnTo>
                  <a:lnTo>
                    <a:pt x="6017" y="4601"/>
                  </a:lnTo>
                  <a:lnTo>
                    <a:pt x="6017" y="4181"/>
                  </a:lnTo>
                  <a:lnTo>
                    <a:pt x="6291" y="4181"/>
                  </a:lnTo>
                  <a:lnTo>
                    <a:pt x="6869" y="3959"/>
                  </a:lnTo>
                  <a:lnTo>
                    <a:pt x="6869" y="3761"/>
                  </a:lnTo>
                  <a:lnTo>
                    <a:pt x="6869" y="3539"/>
                  </a:lnTo>
                  <a:lnTo>
                    <a:pt x="7142" y="3539"/>
                  </a:lnTo>
                  <a:lnTo>
                    <a:pt x="7142" y="3141"/>
                  </a:lnTo>
                  <a:lnTo>
                    <a:pt x="7142" y="2500"/>
                  </a:lnTo>
                  <a:lnTo>
                    <a:pt x="7142" y="2101"/>
                  </a:lnTo>
                  <a:lnTo>
                    <a:pt x="6869" y="1880"/>
                  </a:lnTo>
                  <a:lnTo>
                    <a:pt x="6565" y="1681"/>
                  </a:lnTo>
                  <a:lnTo>
                    <a:pt x="6869" y="1460"/>
                  </a:lnTo>
                  <a:lnTo>
                    <a:pt x="7142" y="1460"/>
                  </a:lnTo>
                  <a:lnTo>
                    <a:pt x="6869" y="1039"/>
                  </a:lnTo>
                  <a:lnTo>
                    <a:pt x="6291" y="839"/>
                  </a:lnTo>
                  <a:lnTo>
                    <a:pt x="5714" y="641"/>
                  </a:lnTo>
                  <a:lnTo>
                    <a:pt x="5136" y="420"/>
                  </a:lnTo>
                  <a:lnTo>
                    <a:pt x="4862" y="420"/>
                  </a:lnTo>
                  <a:lnTo>
                    <a:pt x="4284" y="420"/>
                  </a:lnTo>
                  <a:lnTo>
                    <a:pt x="4012" y="221"/>
                  </a:lnTo>
                  <a:lnTo>
                    <a:pt x="3708" y="0"/>
                  </a:lnTo>
                  <a:lnTo>
                    <a:pt x="3434" y="221"/>
                  </a:lnTo>
                  <a:lnTo>
                    <a:pt x="3130" y="221"/>
                  </a:lnTo>
                  <a:lnTo>
                    <a:pt x="2856" y="420"/>
                  </a:lnTo>
                  <a:lnTo>
                    <a:pt x="2856" y="839"/>
                  </a:lnTo>
                  <a:lnTo>
                    <a:pt x="2856" y="1039"/>
                  </a:lnTo>
                  <a:lnTo>
                    <a:pt x="2856" y="1261"/>
                  </a:lnTo>
                  <a:lnTo>
                    <a:pt x="2583" y="1261"/>
                  </a:lnTo>
                  <a:lnTo>
                    <a:pt x="2279" y="1460"/>
                  </a:lnTo>
                  <a:lnTo>
                    <a:pt x="2279" y="1681"/>
                  </a:lnTo>
                  <a:lnTo>
                    <a:pt x="2279" y="2101"/>
                  </a:lnTo>
                  <a:lnTo>
                    <a:pt x="2006" y="2500"/>
                  </a:lnTo>
                  <a:lnTo>
                    <a:pt x="2006" y="2300"/>
                  </a:lnTo>
                  <a:lnTo>
                    <a:pt x="2006" y="2101"/>
                  </a:lnTo>
                  <a:lnTo>
                    <a:pt x="2006" y="1880"/>
                  </a:lnTo>
                  <a:lnTo>
                    <a:pt x="2006" y="1681"/>
                  </a:lnTo>
                  <a:lnTo>
                    <a:pt x="1702" y="1681"/>
                  </a:lnTo>
                  <a:lnTo>
                    <a:pt x="1702" y="2101"/>
                  </a:lnTo>
                  <a:lnTo>
                    <a:pt x="1428" y="2101"/>
                  </a:lnTo>
                  <a:lnTo>
                    <a:pt x="1428" y="2300"/>
                  </a:lnTo>
                  <a:lnTo>
                    <a:pt x="1124" y="2300"/>
                  </a:lnTo>
                  <a:lnTo>
                    <a:pt x="850" y="2500"/>
                  </a:lnTo>
                  <a:lnTo>
                    <a:pt x="850" y="2721"/>
                  </a:lnTo>
                  <a:lnTo>
                    <a:pt x="577" y="2920"/>
                  </a:lnTo>
                  <a:lnTo>
                    <a:pt x="577" y="3340"/>
                  </a:lnTo>
                  <a:lnTo>
                    <a:pt x="577" y="3761"/>
                  </a:lnTo>
                  <a:lnTo>
                    <a:pt x="577" y="3959"/>
                  </a:lnTo>
                  <a:lnTo>
                    <a:pt x="273" y="4181"/>
                  </a:lnTo>
                  <a:lnTo>
                    <a:pt x="0" y="4380"/>
                  </a:lnTo>
                  <a:lnTo>
                    <a:pt x="0" y="4800"/>
                  </a:lnTo>
                  <a:lnTo>
                    <a:pt x="273" y="5220"/>
                  </a:lnTo>
                  <a:lnTo>
                    <a:pt x="273" y="5641"/>
                  </a:lnTo>
                  <a:lnTo>
                    <a:pt x="273" y="5840"/>
                  </a:lnTo>
                  <a:lnTo>
                    <a:pt x="850" y="6460"/>
                  </a:lnTo>
                  <a:lnTo>
                    <a:pt x="1124" y="7101"/>
                  </a:lnTo>
                  <a:lnTo>
                    <a:pt x="1124" y="7500"/>
                  </a:lnTo>
                  <a:lnTo>
                    <a:pt x="1428" y="7721"/>
                  </a:lnTo>
                  <a:lnTo>
                    <a:pt x="1124" y="7721"/>
                  </a:lnTo>
                  <a:lnTo>
                    <a:pt x="1124" y="8340"/>
                  </a:lnTo>
                  <a:lnTo>
                    <a:pt x="850" y="8761"/>
                  </a:lnTo>
                  <a:lnTo>
                    <a:pt x="850" y="8960"/>
                  </a:lnTo>
                  <a:lnTo>
                    <a:pt x="577" y="9601"/>
                  </a:lnTo>
                  <a:lnTo>
                    <a:pt x="0" y="9800"/>
                  </a:lnTo>
                  <a:lnTo>
                    <a:pt x="0" y="10000"/>
                  </a:lnTo>
                  <a:close/>
                  <a:moveTo>
                    <a:pt x="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54"/>
            <p:cNvSpPr/>
            <p:nvPr/>
          </p:nvSpPr>
          <p:spPr>
            <a:xfrm>
              <a:off x="6411600" y="2360160"/>
              <a:ext cx="628200" cy="84708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4862" y="9601"/>
                  </a:lnTo>
                  <a:lnTo>
                    <a:pt x="5136" y="9601"/>
                  </a:lnTo>
                  <a:lnTo>
                    <a:pt x="8297" y="9380"/>
                  </a:lnTo>
                  <a:lnTo>
                    <a:pt x="8297" y="9181"/>
                  </a:lnTo>
                  <a:lnTo>
                    <a:pt x="8297" y="8761"/>
                  </a:lnTo>
                  <a:lnTo>
                    <a:pt x="8571" y="8539"/>
                  </a:lnTo>
                  <a:lnTo>
                    <a:pt x="8571" y="8141"/>
                  </a:lnTo>
                  <a:lnTo>
                    <a:pt x="8875" y="7920"/>
                  </a:lnTo>
                  <a:lnTo>
                    <a:pt x="9148" y="7500"/>
                  </a:lnTo>
                  <a:lnTo>
                    <a:pt x="9148" y="7300"/>
                  </a:lnTo>
                  <a:lnTo>
                    <a:pt x="9148" y="7101"/>
                  </a:lnTo>
                  <a:lnTo>
                    <a:pt x="9452" y="6880"/>
                  </a:lnTo>
                  <a:lnTo>
                    <a:pt x="9452" y="7101"/>
                  </a:lnTo>
                  <a:lnTo>
                    <a:pt x="9726" y="7101"/>
                  </a:lnTo>
                  <a:lnTo>
                    <a:pt x="10000" y="7101"/>
                  </a:lnTo>
                  <a:lnTo>
                    <a:pt x="10000" y="6880"/>
                  </a:lnTo>
                  <a:lnTo>
                    <a:pt x="9726" y="6460"/>
                  </a:lnTo>
                  <a:lnTo>
                    <a:pt x="10000" y="6039"/>
                  </a:lnTo>
                  <a:lnTo>
                    <a:pt x="9726" y="5840"/>
                  </a:lnTo>
                  <a:lnTo>
                    <a:pt x="9726" y="5220"/>
                  </a:lnTo>
                  <a:lnTo>
                    <a:pt x="8875" y="3959"/>
                  </a:lnTo>
                  <a:lnTo>
                    <a:pt x="8297" y="3761"/>
                  </a:lnTo>
                  <a:lnTo>
                    <a:pt x="8024" y="3959"/>
                  </a:lnTo>
                  <a:lnTo>
                    <a:pt x="7720" y="4181"/>
                  </a:lnTo>
                  <a:lnTo>
                    <a:pt x="6869" y="5000"/>
                  </a:lnTo>
                  <a:lnTo>
                    <a:pt x="6565" y="5000"/>
                  </a:lnTo>
                  <a:lnTo>
                    <a:pt x="6291" y="5000"/>
                  </a:lnTo>
                  <a:lnTo>
                    <a:pt x="6017" y="4800"/>
                  </a:lnTo>
                  <a:lnTo>
                    <a:pt x="6017" y="4601"/>
                  </a:lnTo>
                  <a:lnTo>
                    <a:pt x="6017" y="4181"/>
                  </a:lnTo>
                  <a:lnTo>
                    <a:pt x="6291" y="4181"/>
                  </a:lnTo>
                  <a:lnTo>
                    <a:pt x="6869" y="3959"/>
                  </a:lnTo>
                  <a:lnTo>
                    <a:pt x="6869" y="3761"/>
                  </a:lnTo>
                  <a:lnTo>
                    <a:pt x="6869" y="3539"/>
                  </a:lnTo>
                  <a:lnTo>
                    <a:pt x="7142" y="3539"/>
                  </a:lnTo>
                  <a:lnTo>
                    <a:pt x="7142" y="3141"/>
                  </a:lnTo>
                  <a:lnTo>
                    <a:pt x="7142" y="2500"/>
                  </a:lnTo>
                  <a:lnTo>
                    <a:pt x="7142" y="2101"/>
                  </a:lnTo>
                  <a:lnTo>
                    <a:pt x="6869" y="1880"/>
                  </a:lnTo>
                  <a:lnTo>
                    <a:pt x="6565" y="1681"/>
                  </a:lnTo>
                  <a:lnTo>
                    <a:pt x="6869" y="1460"/>
                  </a:lnTo>
                  <a:lnTo>
                    <a:pt x="7142" y="1460"/>
                  </a:lnTo>
                  <a:lnTo>
                    <a:pt x="6869" y="1039"/>
                  </a:lnTo>
                  <a:lnTo>
                    <a:pt x="6291" y="839"/>
                  </a:lnTo>
                  <a:lnTo>
                    <a:pt x="5714" y="641"/>
                  </a:lnTo>
                  <a:lnTo>
                    <a:pt x="5136" y="420"/>
                  </a:lnTo>
                  <a:lnTo>
                    <a:pt x="4862" y="420"/>
                  </a:lnTo>
                  <a:lnTo>
                    <a:pt x="4284" y="420"/>
                  </a:lnTo>
                  <a:lnTo>
                    <a:pt x="4012" y="221"/>
                  </a:lnTo>
                  <a:lnTo>
                    <a:pt x="3708" y="0"/>
                  </a:lnTo>
                  <a:lnTo>
                    <a:pt x="3434" y="221"/>
                  </a:lnTo>
                  <a:lnTo>
                    <a:pt x="3130" y="221"/>
                  </a:lnTo>
                  <a:lnTo>
                    <a:pt x="2856" y="420"/>
                  </a:lnTo>
                  <a:lnTo>
                    <a:pt x="2856" y="839"/>
                  </a:lnTo>
                  <a:lnTo>
                    <a:pt x="2856" y="1039"/>
                  </a:lnTo>
                  <a:lnTo>
                    <a:pt x="2856" y="1261"/>
                  </a:lnTo>
                  <a:lnTo>
                    <a:pt x="2583" y="1261"/>
                  </a:lnTo>
                  <a:lnTo>
                    <a:pt x="2279" y="1460"/>
                  </a:lnTo>
                  <a:lnTo>
                    <a:pt x="2279" y="1681"/>
                  </a:lnTo>
                  <a:lnTo>
                    <a:pt x="2279" y="2101"/>
                  </a:lnTo>
                  <a:lnTo>
                    <a:pt x="2006" y="2500"/>
                  </a:lnTo>
                  <a:lnTo>
                    <a:pt x="2006" y="2300"/>
                  </a:lnTo>
                  <a:lnTo>
                    <a:pt x="2006" y="2101"/>
                  </a:lnTo>
                  <a:lnTo>
                    <a:pt x="2006" y="1880"/>
                  </a:lnTo>
                  <a:lnTo>
                    <a:pt x="2006" y="1681"/>
                  </a:lnTo>
                  <a:lnTo>
                    <a:pt x="1702" y="1681"/>
                  </a:lnTo>
                  <a:lnTo>
                    <a:pt x="1702" y="2101"/>
                  </a:lnTo>
                  <a:lnTo>
                    <a:pt x="1428" y="2101"/>
                  </a:lnTo>
                  <a:lnTo>
                    <a:pt x="1428" y="2300"/>
                  </a:lnTo>
                  <a:lnTo>
                    <a:pt x="1124" y="2300"/>
                  </a:lnTo>
                  <a:lnTo>
                    <a:pt x="850" y="2500"/>
                  </a:lnTo>
                  <a:lnTo>
                    <a:pt x="850" y="2721"/>
                  </a:lnTo>
                  <a:lnTo>
                    <a:pt x="577" y="2920"/>
                  </a:lnTo>
                  <a:lnTo>
                    <a:pt x="577" y="3340"/>
                  </a:lnTo>
                  <a:lnTo>
                    <a:pt x="577" y="3761"/>
                  </a:lnTo>
                  <a:lnTo>
                    <a:pt x="577" y="3959"/>
                  </a:lnTo>
                  <a:lnTo>
                    <a:pt x="273" y="4181"/>
                  </a:lnTo>
                  <a:lnTo>
                    <a:pt x="0" y="4380"/>
                  </a:lnTo>
                  <a:lnTo>
                    <a:pt x="0" y="4800"/>
                  </a:lnTo>
                  <a:lnTo>
                    <a:pt x="273" y="5220"/>
                  </a:lnTo>
                  <a:lnTo>
                    <a:pt x="273" y="5641"/>
                  </a:lnTo>
                  <a:lnTo>
                    <a:pt x="273" y="5840"/>
                  </a:lnTo>
                  <a:lnTo>
                    <a:pt x="850" y="6460"/>
                  </a:lnTo>
                  <a:lnTo>
                    <a:pt x="1124" y="7101"/>
                  </a:lnTo>
                  <a:lnTo>
                    <a:pt x="1124" y="7500"/>
                  </a:lnTo>
                  <a:lnTo>
                    <a:pt x="1428" y="7721"/>
                  </a:lnTo>
                  <a:lnTo>
                    <a:pt x="1124" y="7721"/>
                  </a:lnTo>
                  <a:lnTo>
                    <a:pt x="1124" y="8340"/>
                  </a:lnTo>
                  <a:lnTo>
                    <a:pt x="850" y="8761"/>
                  </a:lnTo>
                  <a:lnTo>
                    <a:pt x="850" y="8960"/>
                  </a:lnTo>
                  <a:lnTo>
                    <a:pt x="577" y="9601"/>
                  </a:lnTo>
                  <a:lnTo>
                    <a:pt x="0" y="9800"/>
                  </a:lnTo>
                  <a:lnTo>
                    <a:pt x="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5"/>
            <p:cNvSpPr/>
            <p:nvPr/>
          </p:nvSpPr>
          <p:spPr>
            <a:xfrm>
              <a:off x="5817960" y="2078640"/>
              <a:ext cx="971640" cy="4762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55"/>
                  </a:moveTo>
                  <a:lnTo>
                    <a:pt x="373" y="4055"/>
                  </a:lnTo>
                  <a:lnTo>
                    <a:pt x="550" y="4055"/>
                  </a:lnTo>
                  <a:lnTo>
                    <a:pt x="746" y="3306"/>
                  </a:lnTo>
                  <a:lnTo>
                    <a:pt x="746" y="2952"/>
                  </a:lnTo>
                  <a:lnTo>
                    <a:pt x="923" y="2952"/>
                  </a:lnTo>
                  <a:lnTo>
                    <a:pt x="1473" y="2952"/>
                  </a:lnTo>
                  <a:lnTo>
                    <a:pt x="2043" y="2204"/>
                  </a:lnTo>
                  <a:lnTo>
                    <a:pt x="2396" y="1456"/>
                  </a:lnTo>
                  <a:lnTo>
                    <a:pt x="2593" y="1456"/>
                  </a:lnTo>
                  <a:lnTo>
                    <a:pt x="2966" y="354"/>
                  </a:lnTo>
                  <a:lnTo>
                    <a:pt x="3142" y="0"/>
                  </a:lnTo>
                  <a:lnTo>
                    <a:pt x="3516" y="0"/>
                  </a:lnTo>
                  <a:lnTo>
                    <a:pt x="3692" y="0"/>
                  </a:lnTo>
                  <a:lnTo>
                    <a:pt x="3516" y="354"/>
                  </a:lnTo>
                  <a:lnTo>
                    <a:pt x="3339" y="354"/>
                  </a:lnTo>
                  <a:lnTo>
                    <a:pt x="3339" y="1102"/>
                  </a:lnTo>
                  <a:lnTo>
                    <a:pt x="2966" y="1456"/>
                  </a:lnTo>
                  <a:lnTo>
                    <a:pt x="2770" y="1850"/>
                  </a:lnTo>
                  <a:lnTo>
                    <a:pt x="2770" y="2204"/>
                  </a:lnTo>
                  <a:lnTo>
                    <a:pt x="2593" y="2952"/>
                  </a:lnTo>
                  <a:lnTo>
                    <a:pt x="2770" y="2952"/>
                  </a:lnTo>
                  <a:lnTo>
                    <a:pt x="3142" y="2598"/>
                  </a:lnTo>
                  <a:lnTo>
                    <a:pt x="3339" y="2598"/>
                  </a:lnTo>
                  <a:lnTo>
                    <a:pt x="4066" y="2952"/>
                  </a:lnTo>
                  <a:lnTo>
                    <a:pt x="4440" y="4055"/>
                  </a:lnTo>
                  <a:lnTo>
                    <a:pt x="4812" y="3700"/>
                  </a:lnTo>
                  <a:lnTo>
                    <a:pt x="4990" y="4055"/>
                  </a:lnTo>
                  <a:lnTo>
                    <a:pt x="5186" y="4055"/>
                  </a:lnTo>
                  <a:lnTo>
                    <a:pt x="5362" y="4055"/>
                  </a:lnTo>
                  <a:lnTo>
                    <a:pt x="5559" y="3700"/>
                  </a:lnTo>
                  <a:lnTo>
                    <a:pt x="6109" y="2952"/>
                  </a:lnTo>
                  <a:lnTo>
                    <a:pt x="7406" y="2598"/>
                  </a:lnTo>
                  <a:lnTo>
                    <a:pt x="7583" y="2204"/>
                  </a:lnTo>
                  <a:lnTo>
                    <a:pt x="7779" y="2204"/>
                  </a:lnTo>
                  <a:lnTo>
                    <a:pt x="7779" y="2598"/>
                  </a:lnTo>
                  <a:lnTo>
                    <a:pt x="7779" y="2952"/>
                  </a:lnTo>
                  <a:lnTo>
                    <a:pt x="7956" y="3306"/>
                  </a:lnTo>
                  <a:lnTo>
                    <a:pt x="8330" y="3306"/>
                  </a:lnTo>
                  <a:lnTo>
                    <a:pt x="8703" y="3306"/>
                  </a:lnTo>
                  <a:lnTo>
                    <a:pt x="8880" y="3306"/>
                  </a:lnTo>
                  <a:lnTo>
                    <a:pt x="9076" y="4055"/>
                  </a:lnTo>
                  <a:lnTo>
                    <a:pt x="9253" y="4055"/>
                  </a:lnTo>
                  <a:lnTo>
                    <a:pt x="9626" y="4803"/>
                  </a:lnTo>
                  <a:lnTo>
                    <a:pt x="10000" y="4448"/>
                  </a:lnTo>
                  <a:lnTo>
                    <a:pt x="10000" y="4803"/>
                  </a:lnTo>
                  <a:lnTo>
                    <a:pt x="10000" y="5195"/>
                  </a:lnTo>
                  <a:lnTo>
                    <a:pt x="9803" y="5195"/>
                  </a:lnTo>
                  <a:lnTo>
                    <a:pt x="9626" y="5195"/>
                  </a:lnTo>
                  <a:lnTo>
                    <a:pt x="9430" y="5195"/>
                  </a:lnTo>
                  <a:lnTo>
                    <a:pt x="9430" y="5551"/>
                  </a:lnTo>
                  <a:lnTo>
                    <a:pt x="9253" y="5195"/>
                  </a:lnTo>
                  <a:lnTo>
                    <a:pt x="9076" y="5195"/>
                  </a:lnTo>
                  <a:lnTo>
                    <a:pt x="8703" y="5551"/>
                  </a:lnTo>
                  <a:lnTo>
                    <a:pt x="8506" y="5195"/>
                  </a:lnTo>
                  <a:lnTo>
                    <a:pt x="8330" y="5551"/>
                  </a:lnTo>
                  <a:lnTo>
                    <a:pt x="8506" y="5551"/>
                  </a:lnTo>
                  <a:lnTo>
                    <a:pt x="8330" y="5551"/>
                  </a:lnTo>
                  <a:lnTo>
                    <a:pt x="7956" y="5551"/>
                  </a:lnTo>
                  <a:lnTo>
                    <a:pt x="7583" y="5195"/>
                  </a:lnTo>
                  <a:lnTo>
                    <a:pt x="7406" y="5551"/>
                  </a:lnTo>
                  <a:lnTo>
                    <a:pt x="7406" y="5195"/>
                  </a:lnTo>
                  <a:lnTo>
                    <a:pt x="6836" y="5551"/>
                  </a:lnTo>
                  <a:lnTo>
                    <a:pt x="6660" y="5905"/>
                  </a:lnTo>
                  <a:lnTo>
                    <a:pt x="6286" y="5905"/>
                  </a:lnTo>
                  <a:lnTo>
                    <a:pt x="6109" y="5905"/>
                  </a:lnTo>
                  <a:lnTo>
                    <a:pt x="6109" y="6653"/>
                  </a:lnTo>
                  <a:lnTo>
                    <a:pt x="5559" y="7401"/>
                  </a:lnTo>
                  <a:lnTo>
                    <a:pt x="5362" y="7047"/>
                  </a:lnTo>
                  <a:lnTo>
                    <a:pt x="5736" y="6653"/>
                  </a:lnTo>
                  <a:lnTo>
                    <a:pt x="5362" y="6653"/>
                  </a:lnTo>
                  <a:lnTo>
                    <a:pt x="5362" y="7047"/>
                  </a:lnTo>
                  <a:lnTo>
                    <a:pt x="5186" y="6653"/>
                  </a:lnTo>
                  <a:lnTo>
                    <a:pt x="4990" y="6653"/>
                  </a:lnTo>
                  <a:lnTo>
                    <a:pt x="4990" y="7047"/>
                  </a:lnTo>
                  <a:lnTo>
                    <a:pt x="4812" y="7755"/>
                  </a:lnTo>
                  <a:lnTo>
                    <a:pt x="4616" y="8149"/>
                  </a:lnTo>
                  <a:lnTo>
                    <a:pt x="4616" y="8503"/>
                  </a:lnTo>
                  <a:lnTo>
                    <a:pt x="4440" y="9645"/>
                  </a:lnTo>
                  <a:lnTo>
                    <a:pt x="4440" y="10000"/>
                  </a:lnTo>
                  <a:lnTo>
                    <a:pt x="4066" y="9645"/>
                  </a:lnTo>
                  <a:lnTo>
                    <a:pt x="4066" y="9251"/>
                  </a:lnTo>
                  <a:lnTo>
                    <a:pt x="4262" y="8897"/>
                  </a:lnTo>
                  <a:lnTo>
                    <a:pt x="4066" y="8897"/>
                  </a:lnTo>
                  <a:lnTo>
                    <a:pt x="3889" y="8897"/>
                  </a:lnTo>
                  <a:lnTo>
                    <a:pt x="4066" y="7755"/>
                  </a:lnTo>
                  <a:lnTo>
                    <a:pt x="4066" y="7401"/>
                  </a:lnTo>
                  <a:lnTo>
                    <a:pt x="3692" y="7047"/>
                  </a:lnTo>
                  <a:lnTo>
                    <a:pt x="3339" y="6653"/>
                  </a:lnTo>
                  <a:lnTo>
                    <a:pt x="3142" y="6653"/>
                  </a:lnTo>
                  <a:lnTo>
                    <a:pt x="2770" y="6298"/>
                  </a:lnTo>
                  <a:lnTo>
                    <a:pt x="2593" y="6298"/>
                  </a:lnTo>
                  <a:lnTo>
                    <a:pt x="2593" y="6653"/>
                  </a:lnTo>
                  <a:lnTo>
                    <a:pt x="2593" y="6298"/>
                  </a:lnTo>
                  <a:lnTo>
                    <a:pt x="2396" y="6298"/>
                  </a:lnTo>
                  <a:lnTo>
                    <a:pt x="2043" y="5905"/>
                  </a:lnTo>
                  <a:lnTo>
                    <a:pt x="746" y="5551"/>
                  </a:lnTo>
                  <a:lnTo>
                    <a:pt x="550" y="5195"/>
                  </a:lnTo>
                  <a:lnTo>
                    <a:pt x="373" y="4803"/>
                  </a:lnTo>
                  <a:lnTo>
                    <a:pt x="373" y="4448"/>
                  </a:lnTo>
                  <a:lnTo>
                    <a:pt x="0" y="4448"/>
                  </a:lnTo>
                  <a:lnTo>
                    <a:pt x="0" y="4055"/>
                  </a:lnTo>
                  <a:close/>
                  <a:moveTo>
                    <a:pt x="0" y="4055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6"/>
            <p:cNvSpPr/>
            <p:nvPr/>
          </p:nvSpPr>
          <p:spPr>
            <a:xfrm>
              <a:off x="5817960" y="2078640"/>
              <a:ext cx="971640" cy="4762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55"/>
                  </a:moveTo>
                  <a:lnTo>
                    <a:pt x="373" y="4055"/>
                  </a:lnTo>
                  <a:lnTo>
                    <a:pt x="550" y="4055"/>
                  </a:lnTo>
                  <a:lnTo>
                    <a:pt x="746" y="3306"/>
                  </a:lnTo>
                  <a:lnTo>
                    <a:pt x="746" y="2952"/>
                  </a:lnTo>
                  <a:lnTo>
                    <a:pt x="923" y="2952"/>
                  </a:lnTo>
                  <a:lnTo>
                    <a:pt x="1473" y="2952"/>
                  </a:lnTo>
                  <a:lnTo>
                    <a:pt x="2043" y="2204"/>
                  </a:lnTo>
                  <a:lnTo>
                    <a:pt x="2396" y="1456"/>
                  </a:lnTo>
                  <a:lnTo>
                    <a:pt x="2593" y="1456"/>
                  </a:lnTo>
                  <a:lnTo>
                    <a:pt x="2966" y="354"/>
                  </a:lnTo>
                  <a:lnTo>
                    <a:pt x="3142" y="0"/>
                  </a:lnTo>
                  <a:lnTo>
                    <a:pt x="3516" y="0"/>
                  </a:lnTo>
                  <a:lnTo>
                    <a:pt x="3692" y="0"/>
                  </a:lnTo>
                  <a:lnTo>
                    <a:pt x="3516" y="354"/>
                  </a:lnTo>
                  <a:lnTo>
                    <a:pt x="3339" y="354"/>
                  </a:lnTo>
                  <a:lnTo>
                    <a:pt x="3339" y="1102"/>
                  </a:lnTo>
                  <a:lnTo>
                    <a:pt x="2966" y="1456"/>
                  </a:lnTo>
                  <a:lnTo>
                    <a:pt x="2770" y="1850"/>
                  </a:lnTo>
                  <a:lnTo>
                    <a:pt x="2770" y="2204"/>
                  </a:lnTo>
                  <a:lnTo>
                    <a:pt x="2593" y="2952"/>
                  </a:lnTo>
                  <a:lnTo>
                    <a:pt x="2770" y="2952"/>
                  </a:lnTo>
                  <a:lnTo>
                    <a:pt x="3142" y="2598"/>
                  </a:lnTo>
                  <a:lnTo>
                    <a:pt x="3339" y="2598"/>
                  </a:lnTo>
                  <a:lnTo>
                    <a:pt x="4066" y="2952"/>
                  </a:lnTo>
                  <a:lnTo>
                    <a:pt x="4440" y="4055"/>
                  </a:lnTo>
                  <a:lnTo>
                    <a:pt x="4812" y="3700"/>
                  </a:lnTo>
                  <a:lnTo>
                    <a:pt x="4990" y="4055"/>
                  </a:lnTo>
                  <a:lnTo>
                    <a:pt x="5186" y="4055"/>
                  </a:lnTo>
                  <a:lnTo>
                    <a:pt x="5362" y="4055"/>
                  </a:lnTo>
                  <a:lnTo>
                    <a:pt x="5559" y="3700"/>
                  </a:lnTo>
                  <a:lnTo>
                    <a:pt x="6109" y="2952"/>
                  </a:lnTo>
                  <a:lnTo>
                    <a:pt x="7406" y="2598"/>
                  </a:lnTo>
                  <a:lnTo>
                    <a:pt x="7583" y="2204"/>
                  </a:lnTo>
                  <a:lnTo>
                    <a:pt x="7779" y="2204"/>
                  </a:lnTo>
                  <a:lnTo>
                    <a:pt x="7779" y="2598"/>
                  </a:lnTo>
                  <a:lnTo>
                    <a:pt x="7779" y="2952"/>
                  </a:lnTo>
                  <a:lnTo>
                    <a:pt x="7956" y="3306"/>
                  </a:lnTo>
                  <a:lnTo>
                    <a:pt x="8330" y="3306"/>
                  </a:lnTo>
                  <a:lnTo>
                    <a:pt x="8703" y="3306"/>
                  </a:lnTo>
                  <a:lnTo>
                    <a:pt x="8880" y="3306"/>
                  </a:lnTo>
                  <a:lnTo>
                    <a:pt x="9076" y="4055"/>
                  </a:lnTo>
                  <a:lnTo>
                    <a:pt x="9253" y="4055"/>
                  </a:lnTo>
                  <a:lnTo>
                    <a:pt x="9626" y="4803"/>
                  </a:lnTo>
                  <a:lnTo>
                    <a:pt x="10000" y="4448"/>
                  </a:lnTo>
                  <a:lnTo>
                    <a:pt x="10000" y="4803"/>
                  </a:lnTo>
                  <a:lnTo>
                    <a:pt x="10000" y="5195"/>
                  </a:lnTo>
                  <a:lnTo>
                    <a:pt x="9803" y="5195"/>
                  </a:lnTo>
                  <a:lnTo>
                    <a:pt x="9626" y="5195"/>
                  </a:lnTo>
                  <a:lnTo>
                    <a:pt x="9430" y="5195"/>
                  </a:lnTo>
                  <a:lnTo>
                    <a:pt x="9430" y="5551"/>
                  </a:lnTo>
                  <a:lnTo>
                    <a:pt x="9253" y="5195"/>
                  </a:lnTo>
                  <a:lnTo>
                    <a:pt x="9076" y="5195"/>
                  </a:lnTo>
                  <a:lnTo>
                    <a:pt x="8703" y="5551"/>
                  </a:lnTo>
                  <a:lnTo>
                    <a:pt x="8506" y="5195"/>
                  </a:lnTo>
                  <a:lnTo>
                    <a:pt x="8330" y="5551"/>
                  </a:lnTo>
                  <a:lnTo>
                    <a:pt x="8506" y="5551"/>
                  </a:lnTo>
                  <a:lnTo>
                    <a:pt x="8330" y="5551"/>
                  </a:lnTo>
                  <a:lnTo>
                    <a:pt x="7956" y="5551"/>
                  </a:lnTo>
                  <a:lnTo>
                    <a:pt x="7583" y="5195"/>
                  </a:lnTo>
                  <a:lnTo>
                    <a:pt x="7406" y="5551"/>
                  </a:lnTo>
                  <a:lnTo>
                    <a:pt x="7406" y="5195"/>
                  </a:lnTo>
                  <a:lnTo>
                    <a:pt x="6836" y="5551"/>
                  </a:lnTo>
                  <a:lnTo>
                    <a:pt x="6660" y="5905"/>
                  </a:lnTo>
                  <a:lnTo>
                    <a:pt x="6286" y="5905"/>
                  </a:lnTo>
                  <a:lnTo>
                    <a:pt x="6109" y="5905"/>
                  </a:lnTo>
                  <a:lnTo>
                    <a:pt x="6109" y="6653"/>
                  </a:lnTo>
                  <a:lnTo>
                    <a:pt x="5559" y="7401"/>
                  </a:lnTo>
                  <a:lnTo>
                    <a:pt x="5362" y="7047"/>
                  </a:lnTo>
                  <a:lnTo>
                    <a:pt x="5736" y="6653"/>
                  </a:lnTo>
                  <a:lnTo>
                    <a:pt x="5362" y="6653"/>
                  </a:lnTo>
                  <a:lnTo>
                    <a:pt x="5362" y="7047"/>
                  </a:lnTo>
                  <a:lnTo>
                    <a:pt x="5186" y="6653"/>
                  </a:lnTo>
                  <a:lnTo>
                    <a:pt x="4990" y="6653"/>
                  </a:lnTo>
                  <a:lnTo>
                    <a:pt x="4990" y="7047"/>
                  </a:lnTo>
                  <a:lnTo>
                    <a:pt x="4812" y="7755"/>
                  </a:lnTo>
                  <a:lnTo>
                    <a:pt x="4616" y="8149"/>
                  </a:lnTo>
                  <a:lnTo>
                    <a:pt x="4616" y="8503"/>
                  </a:lnTo>
                  <a:lnTo>
                    <a:pt x="4440" y="9645"/>
                  </a:lnTo>
                  <a:lnTo>
                    <a:pt x="4440" y="10000"/>
                  </a:lnTo>
                  <a:lnTo>
                    <a:pt x="4066" y="9645"/>
                  </a:lnTo>
                  <a:lnTo>
                    <a:pt x="4066" y="9251"/>
                  </a:lnTo>
                  <a:lnTo>
                    <a:pt x="4262" y="8897"/>
                  </a:lnTo>
                  <a:lnTo>
                    <a:pt x="4066" y="8897"/>
                  </a:lnTo>
                  <a:lnTo>
                    <a:pt x="3889" y="8897"/>
                  </a:lnTo>
                  <a:lnTo>
                    <a:pt x="4066" y="7755"/>
                  </a:lnTo>
                  <a:lnTo>
                    <a:pt x="4066" y="7401"/>
                  </a:lnTo>
                  <a:lnTo>
                    <a:pt x="3692" y="7047"/>
                  </a:lnTo>
                  <a:lnTo>
                    <a:pt x="3339" y="6653"/>
                  </a:lnTo>
                  <a:lnTo>
                    <a:pt x="3142" y="6653"/>
                  </a:lnTo>
                  <a:lnTo>
                    <a:pt x="2770" y="6298"/>
                  </a:lnTo>
                  <a:lnTo>
                    <a:pt x="2593" y="6298"/>
                  </a:lnTo>
                  <a:lnTo>
                    <a:pt x="2593" y="6653"/>
                  </a:lnTo>
                  <a:lnTo>
                    <a:pt x="2593" y="6298"/>
                  </a:lnTo>
                  <a:lnTo>
                    <a:pt x="2396" y="6298"/>
                  </a:lnTo>
                  <a:lnTo>
                    <a:pt x="2043" y="5905"/>
                  </a:lnTo>
                  <a:lnTo>
                    <a:pt x="746" y="5551"/>
                  </a:lnTo>
                  <a:lnTo>
                    <a:pt x="550" y="5195"/>
                  </a:lnTo>
                  <a:lnTo>
                    <a:pt x="373" y="4803"/>
                  </a:lnTo>
                  <a:lnTo>
                    <a:pt x="373" y="4448"/>
                  </a:lnTo>
                  <a:lnTo>
                    <a:pt x="0" y="4448"/>
                  </a:lnTo>
                  <a:lnTo>
                    <a:pt x="0" y="4055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57"/>
            <p:cNvSpPr/>
            <p:nvPr/>
          </p:nvSpPr>
          <p:spPr>
            <a:xfrm>
              <a:off x="4954320" y="2907360"/>
              <a:ext cx="972000" cy="618120"/>
            </a:xfrm>
            <a:custGeom>
              <a:avLst/>
              <a:gdLst>
                <a:gd name="textAreaLeft" fmla="*/ 0 w 972000"/>
                <a:gd name="textAreaRight" fmla="*/ 972360 w 972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175" y="0"/>
                  </a:moveTo>
                  <a:lnTo>
                    <a:pt x="8133" y="0"/>
                  </a:lnTo>
                  <a:lnTo>
                    <a:pt x="8330" y="575"/>
                  </a:lnTo>
                  <a:lnTo>
                    <a:pt x="8133" y="1151"/>
                  </a:lnTo>
                  <a:lnTo>
                    <a:pt x="8133" y="1424"/>
                  </a:lnTo>
                  <a:lnTo>
                    <a:pt x="8330" y="2000"/>
                  </a:lnTo>
                  <a:lnTo>
                    <a:pt x="8880" y="2575"/>
                  </a:lnTo>
                  <a:lnTo>
                    <a:pt x="8880" y="2848"/>
                  </a:lnTo>
                  <a:lnTo>
                    <a:pt x="9056" y="3151"/>
                  </a:lnTo>
                  <a:lnTo>
                    <a:pt x="9430" y="3423"/>
                  </a:lnTo>
                  <a:lnTo>
                    <a:pt x="9626" y="3727"/>
                  </a:lnTo>
                  <a:lnTo>
                    <a:pt x="9803" y="4303"/>
                  </a:lnTo>
                  <a:lnTo>
                    <a:pt x="10000" y="4575"/>
                  </a:lnTo>
                  <a:lnTo>
                    <a:pt x="9803" y="4848"/>
                  </a:lnTo>
                  <a:lnTo>
                    <a:pt x="9803" y="5151"/>
                  </a:lnTo>
                  <a:lnTo>
                    <a:pt x="9626" y="5423"/>
                  </a:lnTo>
                  <a:lnTo>
                    <a:pt x="9626" y="5726"/>
                  </a:lnTo>
                  <a:lnTo>
                    <a:pt x="9430" y="6272"/>
                  </a:lnTo>
                  <a:lnTo>
                    <a:pt x="9056" y="6272"/>
                  </a:lnTo>
                  <a:lnTo>
                    <a:pt x="8880" y="6272"/>
                  </a:lnTo>
                  <a:lnTo>
                    <a:pt x="8703" y="6575"/>
                  </a:lnTo>
                  <a:lnTo>
                    <a:pt x="8506" y="6848"/>
                  </a:lnTo>
                  <a:lnTo>
                    <a:pt x="8506" y="7151"/>
                  </a:lnTo>
                  <a:lnTo>
                    <a:pt x="8703" y="7424"/>
                  </a:lnTo>
                  <a:lnTo>
                    <a:pt x="8880" y="7727"/>
                  </a:lnTo>
                  <a:lnTo>
                    <a:pt x="8703" y="8272"/>
                  </a:lnTo>
                  <a:lnTo>
                    <a:pt x="8506" y="8848"/>
                  </a:lnTo>
                  <a:lnTo>
                    <a:pt x="8133" y="9151"/>
                  </a:lnTo>
                  <a:lnTo>
                    <a:pt x="8133" y="9424"/>
                  </a:lnTo>
                  <a:lnTo>
                    <a:pt x="8133" y="9696"/>
                  </a:lnTo>
                  <a:lnTo>
                    <a:pt x="8133" y="10000"/>
                  </a:lnTo>
                  <a:lnTo>
                    <a:pt x="7583" y="9424"/>
                  </a:lnTo>
                  <a:lnTo>
                    <a:pt x="1296" y="9424"/>
                  </a:lnTo>
                  <a:lnTo>
                    <a:pt x="1100" y="9151"/>
                  </a:lnTo>
                  <a:lnTo>
                    <a:pt x="1296" y="8848"/>
                  </a:lnTo>
                  <a:lnTo>
                    <a:pt x="1100" y="8575"/>
                  </a:lnTo>
                  <a:lnTo>
                    <a:pt x="1100" y="8272"/>
                  </a:lnTo>
                  <a:lnTo>
                    <a:pt x="1100" y="8000"/>
                  </a:lnTo>
                  <a:lnTo>
                    <a:pt x="1100" y="7727"/>
                  </a:lnTo>
                  <a:lnTo>
                    <a:pt x="746" y="7424"/>
                  </a:lnTo>
                  <a:lnTo>
                    <a:pt x="923" y="7151"/>
                  </a:lnTo>
                  <a:lnTo>
                    <a:pt x="923" y="6848"/>
                  </a:lnTo>
                  <a:lnTo>
                    <a:pt x="923" y="6575"/>
                  </a:lnTo>
                  <a:lnTo>
                    <a:pt x="746" y="6272"/>
                  </a:lnTo>
                  <a:lnTo>
                    <a:pt x="746" y="6000"/>
                  </a:lnTo>
                  <a:lnTo>
                    <a:pt x="746" y="5726"/>
                  </a:lnTo>
                  <a:lnTo>
                    <a:pt x="550" y="5423"/>
                  </a:lnTo>
                  <a:lnTo>
                    <a:pt x="373" y="5151"/>
                  </a:lnTo>
                  <a:lnTo>
                    <a:pt x="175" y="4848"/>
                  </a:lnTo>
                  <a:lnTo>
                    <a:pt x="373" y="4303"/>
                  </a:lnTo>
                  <a:lnTo>
                    <a:pt x="175" y="4000"/>
                  </a:lnTo>
                  <a:lnTo>
                    <a:pt x="175" y="3423"/>
                  </a:lnTo>
                  <a:lnTo>
                    <a:pt x="175" y="3151"/>
                  </a:lnTo>
                  <a:lnTo>
                    <a:pt x="0" y="2575"/>
                  </a:lnTo>
                  <a:lnTo>
                    <a:pt x="175" y="2000"/>
                  </a:lnTo>
                  <a:lnTo>
                    <a:pt x="175" y="1727"/>
                  </a:lnTo>
                  <a:lnTo>
                    <a:pt x="175" y="1424"/>
                  </a:lnTo>
                  <a:lnTo>
                    <a:pt x="175" y="1151"/>
                  </a:lnTo>
                  <a:lnTo>
                    <a:pt x="0" y="1151"/>
                  </a:lnTo>
                  <a:lnTo>
                    <a:pt x="175" y="575"/>
                  </a:lnTo>
                  <a:lnTo>
                    <a:pt x="175" y="303"/>
                  </a:lnTo>
                  <a:lnTo>
                    <a:pt x="0" y="0"/>
                  </a:lnTo>
                  <a:lnTo>
                    <a:pt x="175" y="0"/>
                  </a:lnTo>
                  <a:close/>
                  <a:moveTo>
                    <a:pt x="175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58"/>
            <p:cNvSpPr/>
            <p:nvPr/>
          </p:nvSpPr>
          <p:spPr>
            <a:xfrm>
              <a:off x="4954320" y="2907360"/>
              <a:ext cx="972000" cy="618120"/>
            </a:xfrm>
            <a:custGeom>
              <a:avLst/>
              <a:gdLst>
                <a:gd name="textAreaLeft" fmla="*/ 0 w 972000"/>
                <a:gd name="textAreaRight" fmla="*/ 972360 w 972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175" y="0"/>
                  </a:moveTo>
                  <a:lnTo>
                    <a:pt x="8133" y="0"/>
                  </a:lnTo>
                  <a:lnTo>
                    <a:pt x="8330" y="575"/>
                  </a:lnTo>
                  <a:lnTo>
                    <a:pt x="8133" y="1151"/>
                  </a:lnTo>
                  <a:lnTo>
                    <a:pt x="8133" y="1424"/>
                  </a:lnTo>
                  <a:lnTo>
                    <a:pt x="8330" y="2000"/>
                  </a:lnTo>
                  <a:lnTo>
                    <a:pt x="8880" y="2575"/>
                  </a:lnTo>
                  <a:lnTo>
                    <a:pt x="8880" y="2848"/>
                  </a:lnTo>
                  <a:lnTo>
                    <a:pt x="9056" y="3151"/>
                  </a:lnTo>
                  <a:lnTo>
                    <a:pt x="9430" y="3423"/>
                  </a:lnTo>
                  <a:lnTo>
                    <a:pt x="9626" y="3727"/>
                  </a:lnTo>
                  <a:lnTo>
                    <a:pt x="9803" y="4303"/>
                  </a:lnTo>
                  <a:lnTo>
                    <a:pt x="10000" y="4575"/>
                  </a:lnTo>
                  <a:lnTo>
                    <a:pt x="9803" y="4848"/>
                  </a:lnTo>
                  <a:lnTo>
                    <a:pt x="9803" y="5151"/>
                  </a:lnTo>
                  <a:lnTo>
                    <a:pt x="9626" y="5423"/>
                  </a:lnTo>
                  <a:lnTo>
                    <a:pt x="9626" y="5726"/>
                  </a:lnTo>
                  <a:lnTo>
                    <a:pt x="9430" y="6272"/>
                  </a:lnTo>
                  <a:lnTo>
                    <a:pt x="9056" y="6272"/>
                  </a:lnTo>
                  <a:lnTo>
                    <a:pt x="8880" y="6272"/>
                  </a:lnTo>
                  <a:lnTo>
                    <a:pt x="8703" y="6575"/>
                  </a:lnTo>
                  <a:lnTo>
                    <a:pt x="8506" y="6848"/>
                  </a:lnTo>
                  <a:lnTo>
                    <a:pt x="8506" y="7151"/>
                  </a:lnTo>
                  <a:lnTo>
                    <a:pt x="8703" y="7424"/>
                  </a:lnTo>
                  <a:lnTo>
                    <a:pt x="8880" y="7727"/>
                  </a:lnTo>
                  <a:lnTo>
                    <a:pt x="8703" y="8272"/>
                  </a:lnTo>
                  <a:lnTo>
                    <a:pt x="8506" y="8848"/>
                  </a:lnTo>
                  <a:lnTo>
                    <a:pt x="8133" y="9151"/>
                  </a:lnTo>
                  <a:lnTo>
                    <a:pt x="8133" y="9424"/>
                  </a:lnTo>
                  <a:lnTo>
                    <a:pt x="8133" y="9696"/>
                  </a:lnTo>
                  <a:lnTo>
                    <a:pt x="8133" y="10000"/>
                  </a:lnTo>
                  <a:lnTo>
                    <a:pt x="7583" y="9424"/>
                  </a:lnTo>
                  <a:lnTo>
                    <a:pt x="1296" y="9424"/>
                  </a:lnTo>
                  <a:lnTo>
                    <a:pt x="1100" y="9151"/>
                  </a:lnTo>
                  <a:lnTo>
                    <a:pt x="1296" y="8848"/>
                  </a:lnTo>
                  <a:lnTo>
                    <a:pt x="1100" y="8575"/>
                  </a:lnTo>
                  <a:lnTo>
                    <a:pt x="1100" y="8272"/>
                  </a:lnTo>
                  <a:lnTo>
                    <a:pt x="1100" y="8000"/>
                  </a:lnTo>
                  <a:lnTo>
                    <a:pt x="1100" y="7727"/>
                  </a:lnTo>
                  <a:lnTo>
                    <a:pt x="746" y="7424"/>
                  </a:lnTo>
                  <a:lnTo>
                    <a:pt x="923" y="7151"/>
                  </a:lnTo>
                  <a:lnTo>
                    <a:pt x="923" y="6848"/>
                  </a:lnTo>
                  <a:lnTo>
                    <a:pt x="923" y="6575"/>
                  </a:lnTo>
                  <a:lnTo>
                    <a:pt x="746" y="6272"/>
                  </a:lnTo>
                  <a:lnTo>
                    <a:pt x="746" y="6000"/>
                  </a:lnTo>
                  <a:lnTo>
                    <a:pt x="746" y="5726"/>
                  </a:lnTo>
                  <a:lnTo>
                    <a:pt x="550" y="5423"/>
                  </a:lnTo>
                  <a:lnTo>
                    <a:pt x="373" y="5151"/>
                  </a:lnTo>
                  <a:lnTo>
                    <a:pt x="175" y="4848"/>
                  </a:lnTo>
                  <a:lnTo>
                    <a:pt x="373" y="4303"/>
                  </a:lnTo>
                  <a:lnTo>
                    <a:pt x="175" y="4000"/>
                  </a:lnTo>
                  <a:lnTo>
                    <a:pt x="175" y="3423"/>
                  </a:lnTo>
                  <a:lnTo>
                    <a:pt x="175" y="3151"/>
                  </a:lnTo>
                  <a:lnTo>
                    <a:pt x="0" y="2575"/>
                  </a:lnTo>
                  <a:lnTo>
                    <a:pt x="175" y="2000"/>
                  </a:lnTo>
                  <a:lnTo>
                    <a:pt x="175" y="1727"/>
                  </a:lnTo>
                  <a:lnTo>
                    <a:pt x="175" y="1424"/>
                  </a:lnTo>
                  <a:lnTo>
                    <a:pt x="175" y="1151"/>
                  </a:lnTo>
                  <a:lnTo>
                    <a:pt x="0" y="1151"/>
                  </a:lnTo>
                  <a:lnTo>
                    <a:pt x="175" y="575"/>
                  </a:lnTo>
                  <a:lnTo>
                    <a:pt x="175" y="303"/>
                  </a:lnTo>
                  <a:lnTo>
                    <a:pt x="0" y="0"/>
                  </a:lnTo>
                  <a:lnTo>
                    <a:pt x="175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59"/>
            <p:cNvSpPr/>
            <p:nvPr/>
          </p:nvSpPr>
          <p:spPr>
            <a:xfrm>
              <a:off x="5727960" y="3066480"/>
              <a:ext cx="647280" cy="111132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1111320"/>
                <a:gd name="textAreaBottom" fmla="*/ 1111680 h 111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8318" y="0"/>
                  </a:moveTo>
                  <a:lnTo>
                    <a:pt x="1651" y="320"/>
                  </a:lnTo>
                  <a:lnTo>
                    <a:pt x="2212" y="472"/>
                  </a:lnTo>
                  <a:lnTo>
                    <a:pt x="2507" y="639"/>
                  </a:lnTo>
                  <a:lnTo>
                    <a:pt x="2771" y="961"/>
                  </a:lnTo>
                  <a:lnTo>
                    <a:pt x="3067" y="1112"/>
                  </a:lnTo>
                  <a:lnTo>
                    <a:pt x="2771" y="1264"/>
                  </a:lnTo>
                  <a:lnTo>
                    <a:pt x="2771" y="1432"/>
                  </a:lnTo>
                  <a:lnTo>
                    <a:pt x="2507" y="1585"/>
                  </a:lnTo>
                  <a:lnTo>
                    <a:pt x="2507" y="1753"/>
                  </a:lnTo>
                  <a:lnTo>
                    <a:pt x="2212" y="2057"/>
                  </a:lnTo>
                  <a:lnTo>
                    <a:pt x="1651" y="2057"/>
                  </a:lnTo>
                  <a:lnTo>
                    <a:pt x="1386" y="2057"/>
                  </a:lnTo>
                  <a:lnTo>
                    <a:pt x="1120" y="2225"/>
                  </a:lnTo>
                  <a:lnTo>
                    <a:pt x="825" y="2377"/>
                  </a:lnTo>
                  <a:lnTo>
                    <a:pt x="825" y="2546"/>
                  </a:lnTo>
                  <a:lnTo>
                    <a:pt x="1120" y="2698"/>
                  </a:lnTo>
                  <a:lnTo>
                    <a:pt x="1386" y="2866"/>
                  </a:lnTo>
                  <a:lnTo>
                    <a:pt x="1120" y="3170"/>
                  </a:lnTo>
                  <a:lnTo>
                    <a:pt x="825" y="3490"/>
                  </a:lnTo>
                  <a:lnTo>
                    <a:pt x="264" y="3659"/>
                  </a:lnTo>
                  <a:lnTo>
                    <a:pt x="264" y="3811"/>
                  </a:lnTo>
                  <a:lnTo>
                    <a:pt x="264" y="3962"/>
                  </a:lnTo>
                  <a:lnTo>
                    <a:pt x="264" y="4131"/>
                  </a:lnTo>
                  <a:lnTo>
                    <a:pt x="264" y="4283"/>
                  </a:lnTo>
                  <a:lnTo>
                    <a:pt x="0" y="4283"/>
                  </a:lnTo>
                  <a:lnTo>
                    <a:pt x="0" y="4772"/>
                  </a:lnTo>
                  <a:lnTo>
                    <a:pt x="264" y="4923"/>
                  </a:lnTo>
                  <a:lnTo>
                    <a:pt x="264" y="5075"/>
                  </a:lnTo>
                  <a:lnTo>
                    <a:pt x="1120" y="5564"/>
                  </a:lnTo>
                  <a:lnTo>
                    <a:pt x="1651" y="6037"/>
                  </a:lnTo>
                  <a:lnTo>
                    <a:pt x="1946" y="6037"/>
                  </a:lnTo>
                  <a:lnTo>
                    <a:pt x="2507" y="6677"/>
                  </a:lnTo>
                  <a:lnTo>
                    <a:pt x="2771" y="6677"/>
                  </a:lnTo>
                  <a:lnTo>
                    <a:pt x="3333" y="6677"/>
                  </a:lnTo>
                  <a:lnTo>
                    <a:pt x="3333" y="6829"/>
                  </a:lnTo>
                  <a:lnTo>
                    <a:pt x="3333" y="7150"/>
                  </a:lnTo>
                  <a:lnTo>
                    <a:pt x="3333" y="7301"/>
                  </a:lnTo>
                  <a:lnTo>
                    <a:pt x="3067" y="7622"/>
                  </a:lnTo>
                  <a:lnTo>
                    <a:pt x="3067" y="7774"/>
                  </a:lnTo>
                  <a:lnTo>
                    <a:pt x="3067" y="7942"/>
                  </a:lnTo>
                  <a:lnTo>
                    <a:pt x="3333" y="8094"/>
                  </a:lnTo>
                  <a:lnTo>
                    <a:pt x="4159" y="8263"/>
                  </a:lnTo>
                  <a:lnTo>
                    <a:pt x="4454" y="8414"/>
                  </a:lnTo>
                  <a:lnTo>
                    <a:pt x="5280" y="8887"/>
                  </a:lnTo>
                  <a:lnTo>
                    <a:pt x="5280" y="9055"/>
                  </a:lnTo>
                  <a:lnTo>
                    <a:pt x="5545" y="9207"/>
                  </a:lnTo>
                  <a:lnTo>
                    <a:pt x="5545" y="9376"/>
                  </a:lnTo>
                  <a:lnTo>
                    <a:pt x="5280" y="9527"/>
                  </a:lnTo>
                  <a:lnTo>
                    <a:pt x="5840" y="10000"/>
                  </a:lnTo>
                  <a:lnTo>
                    <a:pt x="6106" y="10000"/>
                  </a:lnTo>
                  <a:lnTo>
                    <a:pt x="6401" y="10000"/>
                  </a:lnTo>
                  <a:lnTo>
                    <a:pt x="6401" y="9527"/>
                  </a:lnTo>
                  <a:lnTo>
                    <a:pt x="6666" y="9527"/>
                  </a:lnTo>
                  <a:lnTo>
                    <a:pt x="7227" y="9527"/>
                  </a:lnTo>
                  <a:lnTo>
                    <a:pt x="7492" y="9679"/>
                  </a:lnTo>
                  <a:lnTo>
                    <a:pt x="7787" y="9848"/>
                  </a:lnTo>
                  <a:lnTo>
                    <a:pt x="8053" y="9679"/>
                  </a:lnTo>
                  <a:lnTo>
                    <a:pt x="7787" y="9376"/>
                  </a:lnTo>
                  <a:lnTo>
                    <a:pt x="7787" y="9207"/>
                  </a:lnTo>
                  <a:lnTo>
                    <a:pt x="8053" y="9055"/>
                  </a:lnTo>
                  <a:lnTo>
                    <a:pt x="8879" y="8887"/>
                  </a:lnTo>
                  <a:lnTo>
                    <a:pt x="8613" y="8735"/>
                  </a:lnTo>
                  <a:lnTo>
                    <a:pt x="8613" y="8583"/>
                  </a:lnTo>
                  <a:lnTo>
                    <a:pt x="8879" y="8414"/>
                  </a:lnTo>
                  <a:lnTo>
                    <a:pt x="8879" y="8263"/>
                  </a:lnTo>
                  <a:lnTo>
                    <a:pt x="8879" y="7942"/>
                  </a:lnTo>
                  <a:lnTo>
                    <a:pt x="8879" y="7774"/>
                  </a:lnTo>
                  <a:lnTo>
                    <a:pt x="9439" y="7470"/>
                  </a:lnTo>
                  <a:lnTo>
                    <a:pt x="9439" y="7150"/>
                  </a:lnTo>
                  <a:lnTo>
                    <a:pt x="10000" y="6677"/>
                  </a:lnTo>
                  <a:lnTo>
                    <a:pt x="9734" y="6356"/>
                  </a:lnTo>
                  <a:lnTo>
                    <a:pt x="9439" y="6037"/>
                  </a:lnTo>
                  <a:lnTo>
                    <a:pt x="9439" y="5867"/>
                  </a:lnTo>
                  <a:lnTo>
                    <a:pt x="9439" y="5564"/>
                  </a:lnTo>
                  <a:lnTo>
                    <a:pt x="9734" y="5564"/>
                  </a:lnTo>
                  <a:lnTo>
                    <a:pt x="9174" y="1432"/>
                  </a:lnTo>
                  <a:lnTo>
                    <a:pt x="8879" y="1264"/>
                  </a:lnTo>
                  <a:lnTo>
                    <a:pt x="8879" y="1112"/>
                  </a:lnTo>
                  <a:lnTo>
                    <a:pt x="8613" y="792"/>
                  </a:lnTo>
                  <a:lnTo>
                    <a:pt x="8613" y="639"/>
                  </a:lnTo>
                  <a:lnTo>
                    <a:pt x="8318" y="639"/>
                  </a:lnTo>
                  <a:lnTo>
                    <a:pt x="8318" y="320"/>
                  </a:lnTo>
                  <a:lnTo>
                    <a:pt x="8318" y="0"/>
                  </a:lnTo>
                  <a:close/>
                  <a:moveTo>
                    <a:pt x="8318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5727960" y="3066480"/>
              <a:ext cx="647280" cy="111132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1111320"/>
                <a:gd name="textAreaBottom" fmla="*/ 1111680 h 111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8318" y="0"/>
                  </a:moveTo>
                  <a:lnTo>
                    <a:pt x="1651" y="320"/>
                  </a:lnTo>
                  <a:lnTo>
                    <a:pt x="2212" y="472"/>
                  </a:lnTo>
                  <a:lnTo>
                    <a:pt x="2507" y="639"/>
                  </a:lnTo>
                  <a:lnTo>
                    <a:pt x="2771" y="961"/>
                  </a:lnTo>
                  <a:lnTo>
                    <a:pt x="3067" y="1112"/>
                  </a:lnTo>
                  <a:lnTo>
                    <a:pt x="2771" y="1264"/>
                  </a:lnTo>
                  <a:lnTo>
                    <a:pt x="2771" y="1432"/>
                  </a:lnTo>
                  <a:lnTo>
                    <a:pt x="2507" y="1585"/>
                  </a:lnTo>
                  <a:lnTo>
                    <a:pt x="2507" y="1753"/>
                  </a:lnTo>
                  <a:lnTo>
                    <a:pt x="2212" y="2057"/>
                  </a:lnTo>
                  <a:lnTo>
                    <a:pt x="1651" y="2057"/>
                  </a:lnTo>
                  <a:lnTo>
                    <a:pt x="1386" y="2057"/>
                  </a:lnTo>
                  <a:lnTo>
                    <a:pt x="1120" y="2225"/>
                  </a:lnTo>
                  <a:lnTo>
                    <a:pt x="825" y="2377"/>
                  </a:lnTo>
                  <a:lnTo>
                    <a:pt x="825" y="2546"/>
                  </a:lnTo>
                  <a:lnTo>
                    <a:pt x="1120" y="2698"/>
                  </a:lnTo>
                  <a:lnTo>
                    <a:pt x="1386" y="2866"/>
                  </a:lnTo>
                  <a:lnTo>
                    <a:pt x="1120" y="3170"/>
                  </a:lnTo>
                  <a:lnTo>
                    <a:pt x="825" y="3490"/>
                  </a:lnTo>
                  <a:lnTo>
                    <a:pt x="264" y="3659"/>
                  </a:lnTo>
                  <a:lnTo>
                    <a:pt x="264" y="3811"/>
                  </a:lnTo>
                  <a:lnTo>
                    <a:pt x="264" y="3962"/>
                  </a:lnTo>
                  <a:lnTo>
                    <a:pt x="264" y="4131"/>
                  </a:lnTo>
                  <a:lnTo>
                    <a:pt x="264" y="4283"/>
                  </a:lnTo>
                  <a:lnTo>
                    <a:pt x="0" y="4283"/>
                  </a:lnTo>
                  <a:lnTo>
                    <a:pt x="0" y="4772"/>
                  </a:lnTo>
                  <a:lnTo>
                    <a:pt x="264" y="4923"/>
                  </a:lnTo>
                  <a:lnTo>
                    <a:pt x="264" y="5075"/>
                  </a:lnTo>
                  <a:lnTo>
                    <a:pt x="1120" y="5564"/>
                  </a:lnTo>
                  <a:lnTo>
                    <a:pt x="1651" y="6037"/>
                  </a:lnTo>
                  <a:lnTo>
                    <a:pt x="1946" y="6037"/>
                  </a:lnTo>
                  <a:lnTo>
                    <a:pt x="2507" y="6677"/>
                  </a:lnTo>
                  <a:lnTo>
                    <a:pt x="2771" y="6677"/>
                  </a:lnTo>
                  <a:lnTo>
                    <a:pt x="3333" y="6677"/>
                  </a:lnTo>
                  <a:lnTo>
                    <a:pt x="3333" y="6829"/>
                  </a:lnTo>
                  <a:lnTo>
                    <a:pt x="3333" y="7150"/>
                  </a:lnTo>
                  <a:lnTo>
                    <a:pt x="3333" y="7301"/>
                  </a:lnTo>
                  <a:lnTo>
                    <a:pt x="3067" y="7622"/>
                  </a:lnTo>
                  <a:lnTo>
                    <a:pt x="3067" y="7774"/>
                  </a:lnTo>
                  <a:lnTo>
                    <a:pt x="3067" y="7942"/>
                  </a:lnTo>
                  <a:lnTo>
                    <a:pt x="3333" y="8094"/>
                  </a:lnTo>
                  <a:lnTo>
                    <a:pt x="4159" y="8263"/>
                  </a:lnTo>
                  <a:lnTo>
                    <a:pt x="4454" y="8414"/>
                  </a:lnTo>
                  <a:lnTo>
                    <a:pt x="5280" y="8887"/>
                  </a:lnTo>
                  <a:lnTo>
                    <a:pt x="5280" y="9055"/>
                  </a:lnTo>
                  <a:lnTo>
                    <a:pt x="5545" y="9207"/>
                  </a:lnTo>
                  <a:lnTo>
                    <a:pt x="5545" y="9376"/>
                  </a:lnTo>
                  <a:lnTo>
                    <a:pt x="5280" y="9527"/>
                  </a:lnTo>
                  <a:lnTo>
                    <a:pt x="5840" y="10000"/>
                  </a:lnTo>
                  <a:lnTo>
                    <a:pt x="6106" y="10000"/>
                  </a:lnTo>
                  <a:lnTo>
                    <a:pt x="6401" y="10000"/>
                  </a:lnTo>
                  <a:lnTo>
                    <a:pt x="6401" y="9527"/>
                  </a:lnTo>
                  <a:lnTo>
                    <a:pt x="6666" y="9527"/>
                  </a:lnTo>
                  <a:lnTo>
                    <a:pt x="7227" y="9527"/>
                  </a:lnTo>
                  <a:lnTo>
                    <a:pt x="7492" y="9679"/>
                  </a:lnTo>
                  <a:lnTo>
                    <a:pt x="7787" y="9848"/>
                  </a:lnTo>
                  <a:lnTo>
                    <a:pt x="8053" y="9679"/>
                  </a:lnTo>
                  <a:lnTo>
                    <a:pt x="7787" y="9376"/>
                  </a:lnTo>
                  <a:lnTo>
                    <a:pt x="7787" y="9207"/>
                  </a:lnTo>
                  <a:lnTo>
                    <a:pt x="8053" y="9055"/>
                  </a:lnTo>
                  <a:lnTo>
                    <a:pt x="8879" y="8887"/>
                  </a:lnTo>
                  <a:lnTo>
                    <a:pt x="8613" y="8735"/>
                  </a:lnTo>
                  <a:lnTo>
                    <a:pt x="8613" y="8583"/>
                  </a:lnTo>
                  <a:lnTo>
                    <a:pt x="8879" y="8414"/>
                  </a:lnTo>
                  <a:lnTo>
                    <a:pt x="8879" y="8263"/>
                  </a:lnTo>
                  <a:lnTo>
                    <a:pt x="8879" y="7942"/>
                  </a:lnTo>
                  <a:lnTo>
                    <a:pt x="8879" y="7774"/>
                  </a:lnTo>
                  <a:lnTo>
                    <a:pt x="9439" y="7470"/>
                  </a:lnTo>
                  <a:lnTo>
                    <a:pt x="9439" y="7150"/>
                  </a:lnTo>
                  <a:lnTo>
                    <a:pt x="10000" y="6677"/>
                  </a:lnTo>
                  <a:lnTo>
                    <a:pt x="9734" y="6356"/>
                  </a:lnTo>
                  <a:lnTo>
                    <a:pt x="9439" y="6037"/>
                  </a:lnTo>
                  <a:lnTo>
                    <a:pt x="9439" y="5867"/>
                  </a:lnTo>
                  <a:lnTo>
                    <a:pt x="9439" y="5564"/>
                  </a:lnTo>
                  <a:lnTo>
                    <a:pt x="9734" y="5564"/>
                  </a:lnTo>
                  <a:lnTo>
                    <a:pt x="9174" y="1432"/>
                  </a:lnTo>
                  <a:lnTo>
                    <a:pt x="8879" y="1264"/>
                  </a:lnTo>
                  <a:lnTo>
                    <a:pt x="8879" y="1112"/>
                  </a:lnTo>
                  <a:lnTo>
                    <a:pt x="8613" y="792"/>
                  </a:lnTo>
                  <a:lnTo>
                    <a:pt x="8613" y="639"/>
                  </a:lnTo>
                  <a:lnTo>
                    <a:pt x="8318" y="639"/>
                  </a:lnTo>
                  <a:lnTo>
                    <a:pt x="8318" y="320"/>
                  </a:lnTo>
                  <a:lnTo>
                    <a:pt x="8318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1"/>
            <p:cNvSpPr/>
            <p:nvPr/>
          </p:nvSpPr>
          <p:spPr>
            <a:xfrm>
              <a:off x="5082480" y="3492000"/>
              <a:ext cx="1061640" cy="89964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689" y="9020"/>
                  </a:moveTo>
                  <a:lnTo>
                    <a:pt x="8471" y="8833"/>
                  </a:lnTo>
                  <a:lnTo>
                    <a:pt x="8471" y="9020"/>
                  </a:lnTo>
                  <a:lnTo>
                    <a:pt x="8633" y="9020"/>
                  </a:lnTo>
                  <a:lnTo>
                    <a:pt x="8812" y="9229"/>
                  </a:lnTo>
                  <a:lnTo>
                    <a:pt x="8633" y="9416"/>
                  </a:lnTo>
                  <a:lnTo>
                    <a:pt x="8471" y="9604"/>
                  </a:lnTo>
                  <a:lnTo>
                    <a:pt x="8129" y="9812"/>
                  </a:lnTo>
                  <a:lnTo>
                    <a:pt x="8129" y="10000"/>
                  </a:lnTo>
                  <a:lnTo>
                    <a:pt x="9316" y="9812"/>
                  </a:lnTo>
                  <a:lnTo>
                    <a:pt x="9316" y="9604"/>
                  </a:lnTo>
                  <a:lnTo>
                    <a:pt x="9316" y="9416"/>
                  </a:lnTo>
                  <a:lnTo>
                    <a:pt x="9316" y="9020"/>
                  </a:lnTo>
                  <a:lnTo>
                    <a:pt x="9478" y="8833"/>
                  </a:lnTo>
                  <a:lnTo>
                    <a:pt x="9658" y="8625"/>
                  </a:lnTo>
                  <a:lnTo>
                    <a:pt x="9820" y="8437"/>
                  </a:lnTo>
                  <a:lnTo>
                    <a:pt x="10000" y="8437"/>
                  </a:lnTo>
                  <a:lnTo>
                    <a:pt x="10000" y="7854"/>
                  </a:lnTo>
                  <a:lnTo>
                    <a:pt x="10000" y="7645"/>
                  </a:lnTo>
                  <a:lnTo>
                    <a:pt x="9820" y="7645"/>
                  </a:lnTo>
                  <a:lnTo>
                    <a:pt x="9658" y="7645"/>
                  </a:lnTo>
                  <a:lnTo>
                    <a:pt x="9316" y="7062"/>
                  </a:lnTo>
                  <a:lnTo>
                    <a:pt x="9478" y="6875"/>
                  </a:lnTo>
                  <a:lnTo>
                    <a:pt x="9478" y="6666"/>
                  </a:lnTo>
                  <a:lnTo>
                    <a:pt x="9316" y="6479"/>
                  </a:lnTo>
                  <a:lnTo>
                    <a:pt x="9316" y="6270"/>
                  </a:lnTo>
                  <a:lnTo>
                    <a:pt x="8812" y="5687"/>
                  </a:lnTo>
                  <a:lnTo>
                    <a:pt x="8633" y="5500"/>
                  </a:lnTo>
                  <a:lnTo>
                    <a:pt x="8129" y="5291"/>
                  </a:lnTo>
                  <a:lnTo>
                    <a:pt x="7967" y="5104"/>
                  </a:lnTo>
                  <a:lnTo>
                    <a:pt x="7967" y="4895"/>
                  </a:lnTo>
                  <a:lnTo>
                    <a:pt x="7967" y="4708"/>
                  </a:lnTo>
                  <a:lnTo>
                    <a:pt x="8129" y="4312"/>
                  </a:lnTo>
                  <a:lnTo>
                    <a:pt x="8129" y="4125"/>
                  </a:lnTo>
                  <a:lnTo>
                    <a:pt x="8129" y="3728"/>
                  </a:lnTo>
                  <a:lnTo>
                    <a:pt x="8129" y="3541"/>
                  </a:lnTo>
                  <a:lnTo>
                    <a:pt x="7787" y="3541"/>
                  </a:lnTo>
                  <a:lnTo>
                    <a:pt x="7625" y="3541"/>
                  </a:lnTo>
                  <a:lnTo>
                    <a:pt x="7284" y="2750"/>
                  </a:lnTo>
                  <a:lnTo>
                    <a:pt x="7104" y="2750"/>
                  </a:lnTo>
                  <a:lnTo>
                    <a:pt x="6780" y="2166"/>
                  </a:lnTo>
                  <a:lnTo>
                    <a:pt x="6258" y="1562"/>
                  </a:lnTo>
                  <a:lnTo>
                    <a:pt x="6258" y="1375"/>
                  </a:lnTo>
                  <a:lnTo>
                    <a:pt x="6097" y="1187"/>
                  </a:lnTo>
                  <a:lnTo>
                    <a:pt x="6097" y="582"/>
                  </a:lnTo>
                  <a:lnTo>
                    <a:pt x="6258" y="582"/>
                  </a:lnTo>
                  <a:lnTo>
                    <a:pt x="6258" y="395"/>
                  </a:lnTo>
                  <a:lnTo>
                    <a:pt x="5755" y="0"/>
                  </a:lnTo>
                  <a:lnTo>
                    <a:pt x="0" y="0"/>
                  </a:lnTo>
                  <a:lnTo>
                    <a:pt x="161" y="187"/>
                  </a:lnTo>
                  <a:lnTo>
                    <a:pt x="161" y="395"/>
                  </a:lnTo>
                  <a:lnTo>
                    <a:pt x="161" y="582"/>
                  </a:lnTo>
                  <a:lnTo>
                    <a:pt x="503" y="979"/>
                  </a:lnTo>
                  <a:lnTo>
                    <a:pt x="682" y="1187"/>
                  </a:lnTo>
                  <a:lnTo>
                    <a:pt x="503" y="1375"/>
                  </a:lnTo>
                  <a:lnTo>
                    <a:pt x="1187" y="1957"/>
                  </a:lnTo>
                  <a:lnTo>
                    <a:pt x="1007" y="2166"/>
                  </a:lnTo>
                  <a:lnTo>
                    <a:pt x="845" y="2541"/>
                  </a:lnTo>
                  <a:lnTo>
                    <a:pt x="1007" y="2750"/>
                  </a:lnTo>
                  <a:lnTo>
                    <a:pt x="1187" y="2750"/>
                  </a:lnTo>
                  <a:lnTo>
                    <a:pt x="1348" y="3145"/>
                  </a:lnTo>
                  <a:lnTo>
                    <a:pt x="1528" y="3333"/>
                  </a:lnTo>
                  <a:lnTo>
                    <a:pt x="1689" y="3333"/>
                  </a:lnTo>
                  <a:lnTo>
                    <a:pt x="1689" y="8041"/>
                  </a:lnTo>
                  <a:lnTo>
                    <a:pt x="1689" y="9020"/>
                  </a:lnTo>
                  <a:close/>
                  <a:moveTo>
                    <a:pt x="1689" y="9020"/>
                  </a:move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2"/>
            <p:cNvSpPr/>
            <p:nvPr/>
          </p:nvSpPr>
          <p:spPr>
            <a:xfrm>
              <a:off x="5080320" y="3490200"/>
              <a:ext cx="1061640" cy="89964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689" y="9020"/>
                  </a:moveTo>
                  <a:lnTo>
                    <a:pt x="8471" y="8833"/>
                  </a:lnTo>
                  <a:lnTo>
                    <a:pt x="8471" y="9020"/>
                  </a:lnTo>
                  <a:lnTo>
                    <a:pt x="8633" y="9020"/>
                  </a:lnTo>
                  <a:lnTo>
                    <a:pt x="8812" y="9229"/>
                  </a:lnTo>
                  <a:lnTo>
                    <a:pt x="8633" y="9416"/>
                  </a:lnTo>
                  <a:lnTo>
                    <a:pt x="8471" y="9604"/>
                  </a:lnTo>
                  <a:lnTo>
                    <a:pt x="8129" y="9812"/>
                  </a:lnTo>
                  <a:lnTo>
                    <a:pt x="8129" y="10000"/>
                  </a:lnTo>
                  <a:lnTo>
                    <a:pt x="9316" y="9812"/>
                  </a:lnTo>
                  <a:lnTo>
                    <a:pt x="9316" y="9604"/>
                  </a:lnTo>
                  <a:lnTo>
                    <a:pt x="9316" y="9416"/>
                  </a:lnTo>
                  <a:lnTo>
                    <a:pt x="9316" y="9020"/>
                  </a:lnTo>
                  <a:lnTo>
                    <a:pt x="9478" y="8833"/>
                  </a:lnTo>
                  <a:lnTo>
                    <a:pt x="9658" y="8625"/>
                  </a:lnTo>
                  <a:lnTo>
                    <a:pt x="9820" y="8437"/>
                  </a:lnTo>
                  <a:lnTo>
                    <a:pt x="10000" y="8437"/>
                  </a:lnTo>
                  <a:lnTo>
                    <a:pt x="10000" y="7854"/>
                  </a:lnTo>
                  <a:lnTo>
                    <a:pt x="10000" y="7645"/>
                  </a:lnTo>
                  <a:lnTo>
                    <a:pt x="9820" y="7645"/>
                  </a:lnTo>
                  <a:lnTo>
                    <a:pt x="9658" y="7645"/>
                  </a:lnTo>
                  <a:lnTo>
                    <a:pt x="9316" y="7062"/>
                  </a:lnTo>
                  <a:lnTo>
                    <a:pt x="9478" y="6875"/>
                  </a:lnTo>
                  <a:lnTo>
                    <a:pt x="9478" y="6666"/>
                  </a:lnTo>
                  <a:lnTo>
                    <a:pt x="9316" y="6479"/>
                  </a:lnTo>
                  <a:lnTo>
                    <a:pt x="9316" y="6270"/>
                  </a:lnTo>
                  <a:lnTo>
                    <a:pt x="8812" y="5687"/>
                  </a:lnTo>
                  <a:lnTo>
                    <a:pt x="8633" y="5500"/>
                  </a:lnTo>
                  <a:lnTo>
                    <a:pt x="8129" y="5291"/>
                  </a:lnTo>
                  <a:lnTo>
                    <a:pt x="7967" y="5104"/>
                  </a:lnTo>
                  <a:lnTo>
                    <a:pt x="7967" y="4895"/>
                  </a:lnTo>
                  <a:lnTo>
                    <a:pt x="7967" y="4708"/>
                  </a:lnTo>
                  <a:lnTo>
                    <a:pt x="8129" y="4312"/>
                  </a:lnTo>
                  <a:lnTo>
                    <a:pt x="8129" y="4125"/>
                  </a:lnTo>
                  <a:lnTo>
                    <a:pt x="8129" y="3728"/>
                  </a:lnTo>
                  <a:lnTo>
                    <a:pt x="8129" y="3541"/>
                  </a:lnTo>
                  <a:lnTo>
                    <a:pt x="7787" y="3541"/>
                  </a:lnTo>
                  <a:lnTo>
                    <a:pt x="7625" y="3541"/>
                  </a:lnTo>
                  <a:lnTo>
                    <a:pt x="7284" y="2750"/>
                  </a:lnTo>
                  <a:lnTo>
                    <a:pt x="7104" y="2750"/>
                  </a:lnTo>
                  <a:lnTo>
                    <a:pt x="6780" y="2166"/>
                  </a:lnTo>
                  <a:lnTo>
                    <a:pt x="6258" y="1562"/>
                  </a:lnTo>
                  <a:lnTo>
                    <a:pt x="6258" y="1375"/>
                  </a:lnTo>
                  <a:lnTo>
                    <a:pt x="6097" y="1187"/>
                  </a:lnTo>
                  <a:lnTo>
                    <a:pt x="6097" y="582"/>
                  </a:lnTo>
                  <a:lnTo>
                    <a:pt x="6258" y="582"/>
                  </a:lnTo>
                  <a:lnTo>
                    <a:pt x="6258" y="395"/>
                  </a:lnTo>
                  <a:lnTo>
                    <a:pt x="5755" y="0"/>
                  </a:lnTo>
                  <a:lnTo>
                    <a:pt x="0" y="0"/>
                  </a:lnTo>
                  <a:lnTo>
                    <a:pt x="161" y="187"/>
                  </a:lnTo>
                  <a:lnTo>
                    <a:pt x="161" y="395"/>
                  </a:lnTo>
                  <a:lnTo>
                    <a:pt x="161" y="582"/>
                  </a:lnTo>
                  <a:lnTo>
                    <a:pt x="503" y="979"/>
                  </a:lnTo>
                  <a:lnTo>
                    <a:pt x="682" y="1187"/>
                  </a:lnTo>
                  <a:lnTo>
                    <a:pt x="503" y="1375"/>
                  </a:lnTo>
                  <a:lnTo>
                    <a:pt x="1187" y="1957"/>
                  </a:lnTo>
                  <a:lnTo>
                    <a:pt x="1007" y="2166"/>
                  </a:lnTo>
                  <a:lnTo>
                    <a:pt x="845" y="2541"/>
                  </a:lnTo>
                  <a:lnTo>
                    <a:pt x="1007" y="2750"/>
                  </a:lnTo>
                  <a:lnTo>
                    <a:pt x="1187" y="2750"/>
                  </a:lnTo>
                  <a:lnTo>
                    <a:pt x="1348" y="3145"/>
                  </a:lnTo>
                  <a:lnTo>
                    <a:pt x="1528" y="3333"/>
                  </a:lnTo>
                  <a:lnTo>
                    <a:pt x="1689" y="3333"/>
                  </a:lnTo>
                  <a:lnTo>
                    <a:pt x="1689" y="8041"/>
                  </a:lnTo>
                  <a:lnTo>
                    <a:pt x="1689" y="902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3"/>
            <p:cNvSpPr/>
            <p:nvPr/>
          </p:nvSpPr>
          <p:spPr>
            <a:xfrm>
              <a:off x="5260320" y="4285080"/>
              <a:ext cx="809640" cy="7232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2"/>
                  </a:moveTo>
                  <a:lnTo>
                    <a:pt x="8891" y="0"/>
                  </a:lnTo>
                  <a:lnTo>
                    <a:pt x="8891" y="232"/>
                  </a:lnTo>
                  <a:lnTo>
                    <a:pt x="9103" y="232"/>
                  </a:lnTo>
                  <a:lnTo>
                    <a:pt x="9339" y="492"/>
                  </a:lnTo>
                  <a:lnTo>
                    <a:pt x="9103" y="725"/>
                  </a:lnTo>
                  <a:lnTo>
                    <a:pt x="8891" y="957"/>
                  </a:lnTo>
                  <a:lnTo>
                    <a:pt x="8443" y="1217"/>
                  </a:lnTo>
                  <a:lnTo>
                    <a:pt x="8443" y="1450"/>
                  </a:lnTo>
                  <a:lnTo>
                    <a:pt x="10000" y="1217"/>
                  </a:lnTo>
                  <a:lnTo>
                    <a:pt x="10000" y="1450"/>
                  </a:lnTo>
                  <a:lnTo>
                    <a:pt x="9764" y="1943"/>
                  </a:lnTo>
                  <a:lnTo>
                    <a:pt x="9551" y="2202"/>
                  </a:lnTo>
                  <a:lnTo>
                    <a:pt x="9339" y="2668"/>
                  </a:lnTo>
                  <a:lnTo>
                    <a:pt x="9339" y="2927"/>
                  </a:lnTo>
                  <a:lnTo>
                    <a:pt x="9339" y="3419"/>
                  </a:lnTo>
                  <a:lnTo>
                    <a:pt x="9339" y="3886"/>
                  </a:lnTo>
                  <a:lnTo>
                    <a:pt x="8891" y="4145"/>
                  </a:lnTo>
                  <a:lnTo>
                    <a:pt x="8891" y="4378"/>
                  </a:lnTo>
                  <a:lnTo>
                    <a:pt x="8443" y="4637"/>
                  </a:lnTo>
                  <a:lnTo>
                    <a:pt x="8443" y="5129"/>
                  </a:lnTo>
                  <a:lnTo>
                    <a:pt x="8443" y="5595"/>
                  </a:lnTo>
                  <a:lnTo>
                    <a:pt x="7995" y="6087"/>
                  </a:lnTo>
                  <a:lnTo>
                    <a:pt x="7783" y="6580"/>
                  </a:lnTo>
                  <a:lnTo>
                    <a:pt x="7783" y="6813"/>
                  </a:lnTo>
                  <a:lnTo>
                    <a:pt x="7547" y="7305"/>
                  </a:lnTo>
                  <a:lnTo>
                    <a:pt x="7334" y="7797"/>
                  </a:lnTo>
                  <a:lnTo>
                    <a:pt x="7099" y="8290"/>
                  </a:lnTo>
                  <a:lnTo>
                    <a:pt x="7334" y="8523"/>
                  </a:lnTo>
                  <a:lnTo>
                    <a:pt x="7547" y="8782"/>
                  </a:lnTo>
                  <a:lnTo>
                    <a:pt x="7547" y="9015"/>
                  </a:lnTo>
                  <a:lnTo>
                    <a:pt x="7547" y="9274"/>
                  </a:lnTo>
                  <a:lnTo>
                    <a:pt x="7334" y="9274"/>
                  </a:lnTo>
                  <a:lnTo>
                    <a:pt x="7334" y="9507"/>
                  </a:lnTo>
                  <a:lnTo>
                    <a:pt x="7334" y="9740"/>
                  </a:lnTo>
                  <a:lnTo>
                    <a:pt x="1344" y="10000"/>
                  </a:lnTo>
                  <a:lnTo>
                    <a:pt x="1344" y="8523"/>
                  </a:lnTo>
                  <a:lnTo>
                    <a:pt x="1107" y="8290"/>
                  </a:lnTo>
                  <a:lnTo>
                    <a:pt x="660" y="8523"/>
                  </a:lnTo>
                  <a:lnTo>
                    <a:pt x="448" y="8290"/>
                  </a:lnTo>
                  <a:lnTo>
                    <a:pt x="448" y="3419"/>
                  </a:lnTo>
                  <a:lnTo>
                    <a:pt x="0" y="232"/>
                  </a:lnTo>
                  <a:close/>
                  <a:moveTo>
                    <a:pt x="0" y="23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64"/>
            <p:cNvSpPr/>
            <p:nvPr/>
          </p:nvSpPr>
          <p:spPr>
            <a:xfrm>
              <a:off x="5260320" y="4285080"/>
              <a:ext cx="809640" cy="7232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2"/>
                  </a:moveTo>
                  <a:lnTo>
                    <a:pt x="8891" y="0"/>
                  </a:lnTo>
                  <a:lnTo>
                    <a:pt x="8891" y="232"/>
                  </a:lnTo>
                  <a:lnTo>
                    <a:pt x="9103" y="232"/>
                  </a:lnTo>
                  <a:lnTo>
                    <a:pt x="9339" y="492"/>
                  </a:lnTo>
                  <a:lnTo>
                    <a:pt x="9103" y="725"/>
                  </a:lnTo>
                  <a:lnTo>
                    <a:pt x="8891" y="957"/>
                  </a:lnTo>
                  <a:lnTo>
                    <a:pt x="8443" y="1217"/>
                  </a:lnTo>
                  <a:lnTo>
                    <a:pt x="8443" y="1450"/>
                  </a:lnTo>
                  <a:lnTo>
                    <a:pt x="10000" y="1217"/>
                  </a:lnTo>
                  <a:lnTo>
                    <a:pt x="10000" y="1450"/>
                  </a:lnTo>
                  <a:lnTo>
                    <a:pt x="9764" y="1943"/>
                  </a:lnTo>
                  <a:lnTo>
                    <a:pt x="9551" y="2202"/>
                  </a:lnTo>
                  <a:lnTo>
                    <a:pt x="9339" y="2668"/>
                  </a:lnTo>
                  <a:lnTo>
                    <a:pt x="9339" y="2927"/>
                  </a:lnTo>
                  <a:lnTo>
                    <a:pt x="9339" y="3419"/>
                  </a:lnTo>
                  <a:lnTo>
                    <a:pt x="9339" y="3886"/>
                  </a:lnTo>
                  <a:lnTo>
                    <a:pt x="8891" y="4145"/>
                  </a:lnTo>
                  <a:lnTo>
                    <a:pt x="8891" y="4378"/>
                  </a:lnTo>
                  <a:lnTo>
                    <a:pt x="8443" y="4637"/>
                  </a:lnTo>
                  <a:lnTo>
                    <a:pt x="8443" y="5129"/>
                  </a:lnTo>
                  <a:lnTo>
                    <a:pt x="8443" y="5595"/>
                  </a:lnTo>
                  <a:lnTo>
                    <a:pt x="7995" y="6087"/>
                  </a:lnTo>
                  <a:lnTo>
                    <a:pt x="7783" y="6580"/>
                  </a:lnTo>
                  <a:lnTo>
                    <a:pt x="7783" y="6813"/>
                  </a:lnTo>
                  <a:lnTo>
                    <a:pt x="7547" y="7305"/>
                  </a:lnTo>
                  <a:lnTo>
                    <a:pt x="7334" y="7797"/>
                  </a:lnTo>
                  <a:lnTo>
                    <a:pt x="7099" y="8290"/>
                  </a:lnTo>
                  <a:lnTo>
                    <a:pt x="7334" y="8523"/>
                  </a:lnTo>
                  <a:lnTo>
                    <a:pt x="7547" y="8782"/>
                  </a:lnTo>
                  <a:lnTo>
                    <a:pt x="7547" y="9015"/>
                  </a:lnTo>
                  <a:lnTo>
                    <a:pt x="7547" y="9274"/>
                  </a:lnTo>
                  <a:lnTo>
                    <a:pt x="7334" y="9274"/>
                  </a:lnTo>
                  <a:lnTo>
                    <a:pt x="7334" y="9507"/>
                  </a:lnTo>
                  <a:lnTo>
                    <a:pt x="7334" y="9740"/>
                  </a:lnTo>
                  <a:lnTo>
                    <a:pt x="1344" y="10000"/>
                  </a:lnTo>
                  <a:lnTo>
                    <a:pt x="1344" y="8523"/>
                  </a:lnTo>
                  <a:lnTo>
                    <a:pt x="1107" y="8290"/>
                  </a:lnTo>
                  <a:lnTo>
                    <a:pt x="660" y="8523"/>
                  </a:lnTo>
                  <a:lnTo>
                    <a:pt x="448" y="8290"/>
                  </a:lnTo>
                  <a:lnTo>
                    <a:pt x="448" y="3419"/>
                  </a:lnTo>
                  <a:lnTo>
                    <a:pt x="0" y="23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5"/>
            <p:cNvSpPr/>
            <p:nvPr/>
          </p:nvSpPr>
          <p:spPr>
            <a:xfrm>
              <a:off x="5368680" y="4989600"/>
              <a:ext cx="897480" cy="7776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9"/>
                  </a:moveTo>
                  <a:lnTo>
                    <a:pt x="5404" y="0"/>
                  </a:lnTo>
                  <a:lnTo>
                    <a:pt x="5404" y="239"/>
                  </a:lnTo>
                  <a:lnTo>
                    <a:pt x="5808" y="698"/>
                  </a:lnTo>
                  <a:lnTo>
                    <a:pt x="5808" y="1156"/>
                  </a:lnTo>
                  <a:lnTo>
                    <a:pt x="5808" y="1373"/>
                  </a:lnTo>
                  <a:lnTo>
                    <a:pt x="5808" y="1589"/>
                  </a:lnTo>
                  <a:lnTo>
                    <a:pt x="6000" y="1831"/>
                  </a:lnTo>
                  <a:lnTo>
                    <a:pt x="5808" y="1831"/>
                  </a:lnTo>
                  <a:lnTo>
                    <a:pt x="5808" y="2048"/>
                  </a:lnTo>
                  <a:lnTo>
                    <a:pt x="5595" y="2721"/>
                  </a:lnTo>
                  <a:lnTo>
                    <a:pt x="5191" y="3180"/>
                  </a:lnTo>
                  <a:lnTo>
                    <a:pt x="5000" y="4312"/>
                  </a:lnTo>
                  <a:lnTo>
                    <a:pt x="4808" y="5228"/>
                  </a:lnTo>
                  <a:lnTo>
                    <a:pt x="8404" y="5012"/>
                  </a:lnTo>
                  <a:lnTo>
                    <a:pt x="8404" y="5228"/>
                  </a:lnTo>
                  <a:lnTo>
                    <a:pt x="8404" y="5445"/>
                  </a:lnTo>
                  <a:lnTo>
                    <a:pt x="8404" y="5903"/>
                  </a:lnTo>
                  <a:lnTo>
                    <a:pt x="8617" y="6361"/>
                  </a:lnTo>
                  <a:lnTo>
                    <a:pt x="8808" y="6819"/>
                  </a:lnTo>
                  <a:lnTo>
                    <a:pt x="8404" y="6819"/>
                  </a:lnTo>
                  <a:lnTo>
                    <a:pt x="7808" y="6602"/>
                  </a:lnTo>
                  <a:lnTo>
                    <a:pt x="7595" y="6602"/>
                  </a:lnTo>
                  <a:lnTo>
                    <a:pt x="7212" y="6819"/>
                  </a:lnTo>
                  <a:lnTo>
                    <a:pt x="7212" y="7036"/>
                  </a:lnTo>
                  <a:lnTo>
                    <a:pt x="7404" y="7277"/>
                  </a:lnTo>
                  <a:lnTo>
                    <a:pt x="7595" y="7493"/>
                  </a:lnTo>
                  <a:lnTo>
                    <a:pt x="7808" y="7493"/>
                  </a:lnTo>
                  <a:lnTo>
                    <a:pt x="8212" y="7277"/>
                  </a:lnTo>
                  <a:lnTo>
                    <a:pt x="8404" y="7036"/>
                  </a:lnTo>
                  <a:lnTo>
                    <a:pt x="8617" y="7036"/>
                  </a:lnTo>
                  <a:lnTo>
                    <a:pt x="8617" y="7277"/>
                  </a:lnTo>
                  <a:lnTo>
                    <a:pt x="8617" y="7493"/>
                  </a:lnTo>
                  <a:lnTo>
                    <a:pt x="8617" y="7734"/>
                  </a:lnTo>
                  <a:lnTo>
                    <a:pt x="8808" y="7493"/>
                  </a:lnTo>
                  <a:lnTo>
                    <a:pt x="9000" y="7277"/>
                  </a:lnTo>
                  <a:lnTo>
                    <a:pt x="9404" y="7036"/>
                  </a:lnTo>
                  <a:lnTo>
                    <a:pt x="9617" y="7036"/>
                  </a:lnTo>
                  <a:lnTo>
                    <a:pt x="9617" y="7277"/>
                  </a:lnTo>
                  <a:lnTo>
                    <a:pt x="9617" y="7493"/>
                  </a:lnTo>
                  <a:lnTo>
                    <a:pt x="9404" y="7734"/>
                  </a:lnTo>
                  <a:lnTo>
                    <a:pt x="9212" y="8168"/>
                  </a:lnTo>
                  <a:lnTo>
                    <a:pt x="9000" y="8409"/>
                  </a:lnTo>
                  <a:lnTo>
                    <a:pt x="8808" y="8626"/>
                  </a:lnTo>
                  <a:lnTo>
                    <a:pt x="9000" y="8867"/>
                  </a:lnTo>
                  <a:lnTo>
                    <a:pt x="9404" y="9084"/>
                  </a:lnTo>
                  <a:lnTo>
                    <a:pt x="10000" y="9325"/>
                  </a:lnTo>
                  <a:lnTo>
                    <a:pt x="10000" y="9542"/>
                  </a:lnTo>
                  <a:lnTo>
                    <a:pt x="10000" y="9759"/>
                  </a:lnTo>
                  <a:lnTo>
                    <a:pt x="9404" y="10000"/>
                  </a:lnTo>
                  <a:lnTo>
                    <a:pt x="9404" y="9542"/>
                  </a:lnTo>
                  <a:lnTo>
                    <a:pt x="9212" y="9325"/>
                  </a:lnTo>
                  <a:lnTo>
                    <a:pt x="8617" y="9084"/>
                  </a:lnTo>
                  <a:lnTo>
                    <a:pt x="8404" y="8867"/>
                  </a:lnTo>
                  <a:lnTo>
                    <a:pt x="8212" y="8867"/>
                  </a:lnTo>
                  <a:lnTo>
                    <a:pt x="8000" y="9325"/>
                  </a:lnTo>
                  <a:lnTo>
                    <a:pt x="8212" y="9542"/>
                  </a:lnTo>
                  <a:lnTo>
                    <a:pt x="7808" y="9759"/>
                  </a:lnTo>
                  <a:lnTo>
                    <a:pt x="7595" y="9325"/>
                  </a:lnTo>
                  <a:lnTo>
                    <a:pt x="7404" y="9325"/>
                  </a:lnTo>
                  <a:lnTo>
                    <a:pt x="7212" y="9542"/>
                  </a:lnTo>
                  <a:lnTo>
                    <a:pt x="7212" y="9325"/>
                  </a:lnTo>
                  <a:lnTo>
                    <a:pt x="6808" y="9759"/>
                  </a:lnTo>
                  <a:lnTo>
                    <a:pt x="6404" y="9759"/>
                  </a:lnTo>
                  <a:lnTo>
                    <a:pt x="6212" y="9542"/>
                  </a:lnTo>
                  <a:lnTo>
                    <a:pt x="5808" y="9084"/>
                  </a:lnTo>
                  <a:lnTo>
                    <a:pt x="5404" y="8867"/>
                  </a:lnTo>
                  <a:lnTo>
                    <a:pt x="5000" y="8626"/>
                  </a:lnTo>
                  <a:lnTo>
                    <a:pt x="5000" y="8409"/>
                  </a:lnTo>
                  <a:lnTo>
                    <a:pt x="4808" y="8409"/>
                  </a:lnTo>
                  <a:lnTo>
                    <a:pt x="4404" y="8409"/>
                  </a:lnTo>
                  <a:lnTo>
                    <a:pt x="4404" y="8168"/>
                  </a:lnTo>
                  <a:lnTo>
                    <a:pt x="4191" y="8168"/>
                  </a:lnTo>
                  <a:lnTo>
                    <a:pt x="4000" y="8409"/>
                  </a:lnTo>
                  <a:lnTo>
                    <a:pt x="4191" y="8626"/>
                  </a:lnTo>
                  <a:lnTo>
                    <a:pt x="4000" y="8867"/>
                  </a:lnTo>
                  <a:lnTo>
                    <a:pt x="3595" y="8867"/>
                  </a:lnTo>
                  <a:lnTo>
                    <a:pt x="2404" y="8626"/>
                  </a:lnTo>
                  <a:lnTo>
                    <a:pt x="2000" y="8409"/>
                  </a:lnTo>
                  <a:lnTo>
                    <a:pt x="595" y="8409"/>
                  </a:lnTo>
                  <a:lnTo>
                    <a:pt x="382" y="8409"/>
                  </a:lnTo>
                  <a:lnTo>
                    <a:pt x="595" y="8168"/>
                  </a:lnTo>
                  <a:lnTo>
                    <a:pt x="595" y="7951"/>
                  </a:lnTo>
                  <a:lnTo>
                    <a:pt x="787" y="7493"/>
                  </a:lnTo>
                  <a:lnTo>
                    <a:pt x="595" y="7036"/>
                  </a:lnTo>
                  <a:lnTo>
                    <a:pt x="595" y="6819"/>
                  </a:lnTo>
                  <a:lnTo>
                    <a:pt x="787" y="6361"/>
                  </a:lnTo>
                  <a:lnTo>
                    <a:pt x="1000" y="6144"/>
                  </a:lnTo>
                  <a:lnTo>
                    <a:pt x="1000" y="5903"/>
                  </a:lnTo>
                  <a:lnTo>
                    <a:pt x="1191" y="5445"/>
                  </a:lnTo>
                  <a:lnTo>
                    <a:pt x="1191" y="5228"/>
                  </a:lnTo>
                  <a:lnTo>
                    <a:pt x="1000" y="4770"/>
                  </a:lnTo>
                  <a:lnTo>
                    <a:pt x="787" y="4554"/>
                  </a:lnTo>
                  <a:lnTo>
                    <a:pt x="787" y="4312"/>
                  </a:lnTo>
                  <a:lnTo>
                    <a:pt x="595" y="4312"/>
                  </a:lnTo>
                  <a:lnTo>
                    <a:pt x="595" y="4095"/>
                  </a:lnTo>
                  <a:lnTo>
                    <a:pt x="595" y="3878"/>
                  </a:lnTo>
                  <a:lnTo>
                    <a:pt x="595" y="3420"/>
                  </a:lnTo>
                  <a:lnTo>
                    <a:pt x="382" y="3180"/>
                  </a:lnTo>
                  <a:lnTo>
                    <a:pt x="191" y="2721"/>
                  </a:lnTo>
                  <a:lnTo>
                    <a:pt x="0" y="2721"/>
                  </a:lnTo>
                  <a:lnTo>
                    <a:pt x="0" y="239"/>
                  </a:lnTo>
                  <a:close/>
                  <a:moveTo>
                    <a:pt x="0" y="23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66"/>
            <p:cNvSpPr/>
            <p:nvPr/>
          </p:nvSpPr>
          <p:spPr>
            <a:xfrm>
              <a:off x="5368680" y="4989600"/>
              <a:ext cx="897480" cy="7776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9"/>
                  </a:moveTo>
                  <a:lnTo>
                    <a:pt x="5404" y="0"/>
                  </a:lnTo>
                  <a:lnTo>
                    <a:pt x="5404" y="239"/>
                  </a:lnTo>
                  <a:lnTo>
                    <a:pt x="5808" y="698"/>
                  </a:lnTo>
                  <a:lnTo>
                    <a:pt x="5808" y="1156"/>
                  </a:lnTo>
                  <a:lnTo>
                    <a:pt x="5808" y="1373"/>
                  </a:lnTo>
                  <a:lnTo>
                    <a:pt x="5808" y="1589"/>
                  </a:lnTo>
                  <a:lnTo>
                    <a:pt x="6000" y="1831"/>
                  </a:lnTo>
                  <a:lnTo>
                    <a:pt x="5808" y="1831"/>
                  </a:lnTo>
                  <a:lnTo>
                    <a:pt x="5808" y="2048"/>
                  </a:lnTo>
                  <a:lnTo>
                    <a:pt x="5595" y="2721"/>
                  </a:lnTo>
                  <a:lnTo>
                    <a:pt x="5191" y="3180"/>
                  </a:lnTo>
                  <a:lnTo>
                    <a:pt x="5000" y="4312"/>
                  </a:lnTo>
                  <a:lnTo>
                    <a:pt x="4808" y="5228"/>
                  </a:lnTo>
                  <a:lnTo>
                    <a:pt x="8404" y="5012"/>
                  </a:lnTo>
                  <a:lnTo>
                    <a:pt x="8404" y="5228"/>
                  </a:lnTo>
                  <a:lnTo>
                    <a:pt x="8404" y="5445"/>
                  </a:lnTo>
                  <a:lnTo>
                    <a:pt x="8404" y="5903"/>
                  </a:lnTo>
                  <a:lnTo>
                    <a:pt x="8617" y="6361"/>
                  </a:lnTo>
                  <a:lnTo>
                    <a:pt x="8808" y="6819"/>
                  </a:lnTo>
                  <a:lnTo>
                    <a:pt x="8404" y="6819"/>
                  </a:lnTo>
                  <a:lnTo>
                    <a:pt x="7808" y="6602"/>
                  </a:lnTo>
                  <a:lnTo>
                    <a:pt x="7595" y="6602"/>
                  </a:lnTo>
                  <a:lnTo>
                    <a:pt x="7212" y="6819"/>
                  </a:lnTo>
                  <a:lnTo>
                    <a:pt x="7212" y="7036"/>
                  </a:lnTo>
                  <a:lnTo>
                    <a:pt x="7404" y="7277"/>
                  </a:lnTo>
                  <a:lnTo>
                    <a:pt x="7595" y="7493"/>
                  </a:lnTo>
                  <a:lnTo>
                    <a:pt x="7808" y="7493"/>
                  </a:lnTo>
                  <a:lnTo>
                    <a:pt x="8212" y="7277"/>
                  </a:lnTo>
                  <a:lnTo>
                    <a:pt x="8404" y="7036"/>
                  </a:lnTo>
                  <a:lnTo>
                    <a:pt x="8617" y="7036"/>
                  </a:lnTo>
                  <a:lnTo>
                    <a:pt x="8617" y="7277"/>
                  </a:lnTo>
                  <a:lnTo>
                    <a:pt x="8617" y="7493"/>
                  </a:lnTo>
                  <a:lnTo>
                    <a:pt x="8617" y="7734"/>
                  </a:lnTo>
                  <a:lnTo>
                    <a:pt x="8808" y="7493"/>
                  </a:lnTo>
                  <a:lnTo>
                    <a:pt x="9000" y="7277"/>
                  </a:lnTo>
                  <a:lnTo>
                    <a:pt x="9404" y="7036"/>
                  </a:lnTo>
                  <a:lnTo>
                    <a:pt x="9617" y="7036"/>
                  </a:lnTo>
                  <a:lnTo>
                    <a:pt x="9617" y="7277"/>
                  </a:lnTo>
                  <a:lnTo>
                    <a:pt x="9617" y="7493"/>
                  </a:lnTo>
                  <a:lnTo>
                    <a:pt x="9404" y="7734"/>
                  </a:lnTo>
                  <a:lnTo>
                    <a:pt x="9212" y="8168"/>
                  </a:lnTo>
                  <a:lnTo>
                    <a:pt x="9000" y="8409"/>
                  </a:lnTo>
                  <a:lnTo>
                    <a:pt x="8808" y="8626"/>
                  </a:lnTo>
                  <a:lnTo>
                    <a:pt x="9000" y="8867"/>
                  </a:lnTo>
                  <a:lnTo>
                    <a:pt x="9404" y="9084"/>
                  </a:lnTo>
                  <a:lnTo>
                    <a:pt x="10000" y="9325"/>
                  </a:lnTo>
                  <a:lnTo>
                    <a:pt x="10000" y="9542"/>
                  </a:lnTo>
                  <a:lnTo>
                    <a:pt x="10000" y="9759"/>
                  </a:lnTo>
                  <a:lnTo>
                    <a:pt x="9404" y="10000"/>
                  </a:lnTo>
                  <a:lnTo>
                    <a:pt x="9404" y="9542"/>
                  </a:lnTo>
                  <a:lnTo>
                    <a:pt x="9212" y="9325"/>
                  </a:lnTo>
                  <a:lnTo>
                    <a:pt x="8617" y="9084"/>
                  </a:lnTo>
                  <a:lnTo>
                    <a:pt x="8404" y="8867"/>
                  </a:lnTo>
                  <a:lnTo>
                    <a:pt x="8212" y="8867"/>
                  </a:lnTo>
                  <a:lnTo>
                    <a:pt x="8000" y="9325"/>
                  </a:lnTo>
                  <a:lnTo>
                    <a:pt x="8212" y="9542"/>
                  </a:lnTo>
                  <a:lnTo>
                    <a:pt x="7808" y="9759"/>
                  </a:lnTo>
                  <a:lnTo>
                    <a:pt x="7595" y="9325"/>
                  </a:lnTo>
                  <a:lnTo>
                    <a:pt x="7404" y="9325"/>
                  </a:lnTo>
                  <a:lnTo>
                    <a:pt x="7212" y="9542"/>
                  </a:lnTo>
                  <a:lnTo>
                    <a:pt x="7212" y="9325"/>
                  </a:lnTo>
                  <a:lnTo>
                    <a:pt x="6808" y="9759"/>
                  </a:lnTo>
                  <a:lnTo>
                    <a:pt x="6404" y="9759"/>
                  </a:lnTo>
                  <a:lnTo>
                    <a:pt x="6212" y="9542"/>
                  </a:lnTo>
                  <a:lnTo>
                    <a:pt x="5808" y="9084"/>
                  </a:lnTo>
                  <a:lnTo>
                    <a:pt x="5404" y="8867"/>
                  </a:lnTo>
                  <a:lnTo>
                    <a:pt x="5000" y="8626"/>
                  </a:lnTo>
                  <a:lnTo>
                    <a:pt x="5000" y="8409"/>
                  </a:lnTo>
                  <a:lnTo>
                    <a:pt x="4808" y="8409"/>
                  </a:lnTo>
                  <a:lnTo>
                    <a:pt x="4404" y="8409"/>
                  </a:lnTo>
                  <a:lnTo>
                    <a:pt x="4404" y="8168"/>
                  </a:lnTo>
                  <a:lnTo>
                    <a:pt x="4191" y="8168"/>
                  </a:lnTo>
                  <a:lnTo>
                    <a:pt x="4000" y="8409"/>
                  </a:lnTo>
                  <a:lnTo>
                    <a:pt x="4191" y="8626"/>
                  </a:lnTo>
                  <a:lnTo>
                    <a:pt x="4000" y="8867"/>
                  </a:lnTo>
                  <a:lnTo>
                    <a:pt x="3595" y="8867"/>
                  </a:lnTo>
                  <a:lnTo>
                    <a:pt x="2404" y="8626"/>
                  </a:lnTo>
                  <a:lnTo>
                    <a:pt x="2000" y="8409"/>
                  </a:lnTo>
                  <a:lnTo>
                    <a:pt x="595" y="8409"/>
                  </a:lnTo>
                  <a:lnTo>
                    <a:pt x="382" y="8409"/>
                  </a:lnTo>
                  <a:lnTo>
                    <a:pt x="595" y="8168"/>
                  </a:lnTo>
                  <a:lnTo>
                    <a:pt x="595" y="7951"/>
                  </a:lnTo>
                  <a:lnTo>
                    <a:pt x="787" y="7493"/>
                  </a:lnTo>
                  <a:lnTo>
                    <a:pt x="595" y="7036"/>
                  </a:lnTo>
                  <a:lnTo>
                    <a:pt x="595" y="6819"/>
                  </a:lnTo>
                  <a:lnTo>
                    <a:pt x="787" y="6361"/>
                  </a:lnTo>
                  <a:lnTo>
                    <a:pt x="1000" y="6144"/>
                  </a:lnTo>
                  <a:lnTo>
                    <a:pt x="1000" y="5903"/>
                  </a:lnTo>
                  <a:lnTo>
                    <a:pt x="1191" y="5445"/>
                  </a:lnTo>
                  <a:lnTo>
                    <a:pt x="1191" y="5228"/>
                  </a:lnTo>
                  <a:lnTo>
                    <a:pt x="1000" y="4770"/>
                  </a:lnTo>
                  <a:lnTo>
                    <a:pt x="787" y="4554"/>
                  </a:lnTo>
                  <a:lnTo>
                    <a:pt x="787" y="4312"/>
                  </a:lnTo>
                  <a:lnTo>
                    <a:pt x="595" y="4312"/>
                  </a:lnTo>
                  <a:lnTo>
                    <a:pt x="595" y="4095"/>
                  </a:lnTo>
                  <a:lnTo>
                    <a:pt x="595" y="3878"/>
                  </a:lnTo>
                  <a:lnTo>
                    <a:pt x="595" y="3420"/>
                  </a:lnTo>
                  <a:lnTo>
                    <a:pt x="382" y="3180"/>
                  </a:lnTo>
                  <a:lnTo>
                    <a:pt x="191" y="2721"/>
                  </a:lnTo>
                  <a:lnTo>
                    <a:pt x="0" y="2721"/>
                  </a:lnTo>
                  <a:lnTo>
                    <a:pt x="0" y="23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67"/>
            <p:cNvSpPr/>
            <p:nvPr/>
          </p:nvSpPr>
          <p:spPr>
            <a:xfrm>
              <a:off x="5800680" y="4565880"/>
              <a:ext cx="574560" cy="954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9368" y="0"/>
                  </a:moveTo>
                  <a:lnTo>
                    <a:pt x="3122" y="196"/>
                  </a:lnTo>
                  <a:lnTo>
                    <a:pt x="3122" y="373"/>
                  </a:lnTo>
                  <a:lnTo>
                    <a:pt x="2491" y="569"/>
                  </a:lnTo>
                  <a:lnTo>
                    <a:pt x="2491" y="943"/>
                  </a:lnTo>
                  <a:lnTo>
                    <a:pt x="2491" y="1296"/>
                  </a:lnTo>
                  <a:lnTo>
                    <a:pt x="1860" y="1669"/>
                  </a:lnTo>
                  <a:lnTo>
                    <a:pt x="1561" y="2043"/>
                  </a:lnTo>
                  <a:lnTo>
                    <a:pt x="1561" y="2220"/>
                  </a:lnTo>
                  <a:lnTo>
                    <a:pt x="1229" y="2593"/>
                  </a:lnTo>
                  <a:lnTo>
                    <a:pt x="930" y="2966"/>
                  </a:lnTo>
                  <a:lnTo>
                    <a:pt x="598" y="3339"/>
                  </a:lnTo>
                  <a:lnTo>
                    <a:pt x="930" y="3516"/>
                  </a:lnTo>
                  <a:lnTo>
                    <a:pt x="1229" y="3712"/>
                  </a:lnTo>
                  <a:lnTo>
                    <a:pt x="1229" y="3889"/>
                  </a:lnTo>
                  <a:lnTo>
                    <a:pt x="1229" y="4086"/>
                  </a:lnTo>
                  <a:lnTo>
                    <a:pt x="930" y="4086"/>
                  </a:lnTo>
                  <a:lnTo>
                    <a:pt x="930" y="4262"/>
                  </a:lnTo>
                  <a:lnTo>
                    <a:pt x="930" y="4440"/>
                  </a:lnTo>
                  <a:lnTo>
                    <a:pt x="930" y="4636"/>
                  </a:lnTo>
                  <a:lnTo>
                    <a:pt x="1561" y="5009"/>
                  </a:lnTo>
                  <a:lnTo>
                    <a:pt x="1561" y="5383"/>
                  </a:lnTo>
                  <a:lnTo>
                    <a:pt x="1561" y="5559"/>
                  </a:lnTo>
                  <a:lnTo>
                    <a:pt x="1561" y="5736"/>
                  </a:lnTo>
                  <a:lnTo>
                    <a:pt x="1860" y="5933"/>
                  </a:lnTo>
                  <a:lnTo>
                    <a:pt x="1561" y="5933"/>
                  </a:lnTo>
                  <a:lnTo>
                    <a:pt x="1561" y="6109"/>
                  </a:lnTo>
                  <a:lnTo>
                    <a:pt x="1229" y="6660"/>
                  </a:lnTo>
                  <a:lnTo>
                    <a:pt x="598" y="7033"/>
                  </a:lnTo>
                  <a:lnTo>
                    <a:pt x="299" y="7956"/>
                  </a:lnTo>
                  <a:lnTo>
                    <a:pt x="0" y="8703"/>
                  </a:lnTo>
                  <a:lnTo>
                    <a:pt x="5614" y="8526"/>
                  </a:lnTo>
                  <a:lnTo>
                    <a:pt x="5614" y="8703"/>
                  </a:lnTo>
                  <a:lnTo>
                    <a:pt x="5614" y="8880"/>
                  </a:lnTo>
                  <a:lnTo>
                    <a:pt x="5614" y="9253"/>
                  </a:lnTo>
                  <a:lnTo>
                    <a:pt x="5945" y="9626"/>
                  </a:lnTo>
                  <a:lnTo>
                    <a:pt x="6245" y="10000"/>
                  </a:lnTo>
                  <a:lnTo>
                    <a:pt x="6544" y="10000"/>
                  </a:lnTo>
                  <a:lnTo>
                    <a:pt x="7176" y="9823"/>
                  </a:lnTo>
                  <a:lnTo>
                    <a:pt x="8438" y="9449"/>
                  </a:lnTo>
                  <a:lnTo>
                    <a:pt x="9069" y="9626"/>
                  </a:lnTo>
                  <a:lnTo>
                    <a:pt x="9368" y="9449"/>
                  </a:lnTo>
                  <a:lnTo>
                    <a:pt x="9368" y="9626"/>
                  </a:lnTo>
                  <a:lnTo>
                    <a:pt x="9700" y="9626"/>
                  </a:lnTo>
                  <a:lnTo>
                    <a:pt x="10000" y="9626"/>
                  </a:lnTo>
                  <a:lnTo>
                    <a:pt x="9368" y="6660"/>
                  </a:lnTo>
                  <a:lnTo>
                    <a:pt x="9368" y="6306"/>
                  </a:lnTo>
                  <a:lnTo>
                    <a:pt x="9368" y="0"/>
                  </a:lnTo>
                  <a:close/>
                  <a:moveTo>
                    <a:pt x="9368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8"/>
            <p:cNvSpPr/>
            <p:nvPr/>
          </p:nvSpPr>
          <p:spPr>
            <a:xfrm>
              <a:off x="5800680" y="4565880"/>
              <a:ext cx="574560" cy="954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9368" y="0"/>
                  </a:moveTo>
                  <a:lnTo>
                    <a:pt x="3122" y="196"/>
                  </a:lnTo>
                  <a:lnTo>
                    <a:pt x="3122" y="373"/>
                  </a:lnTo>
                  <a:lnTo>
                    <a:pt x="2491" y="569"/>
                  </a:lnTo>
                  <a:lnTo>
                    <a:pt x="2491" y="943"/>
                  </a:lnTo>
                  <a:lnTo>
                    <a:pt x="2491" y="1296"/>
                  </a:lnTo>
                  <a:lnTo>
                    <a:pt x="1860" y="1669"/>
                  </a:lnTo>
                  <a:lnTo>
                    <a:pt x="1561" y="2043"/>
                  </a:lnTo>
                  <a:lnTo>
                    <a:pt x="1561" y="2220"/>
                  </a:lnTo>
                  <a:lnTo>
                    <a:pt x="1229" y="2593"/>
                  </a:lnTo>
                  <a:lnTo>
                    <a:pt x="930" y="2966"/>
                  </a:lnTo>
                  <a:lnTo>
                    <a:pt x="598" y="3339"/>
                  </a:lnTo>
                  <a:lnTo>
                    <a:pt x="930" y="3516"/>
                  </a:lnTo>
                  <a:lnTo>
                    <a:pt x="1229" y="3712"/>
                  </a:lnTo>
                  <a:lnTo>
                    <a:pt x="1229" y="3889"/>
                  </a:lnTo>
                  <a:lnTo>
                    <a:pt x="1229" y="4086"/>
                  </a:lnTo>
                  <a:lnTo>
                    <a:pt x="930" y="4086"/>
                  </a:lnTo>
                  <a:lnTo>
                    <a:pt x="930" y="4262"/>
                  </a:lnTo>
                  <a:lnTo>
                    <a:pt x="930" y="4440"/>
                  </a:lnTo>
                  <a:lnTo>
                    <a:pt x="930" y="4636"/>
                  </a:lnTo>
                  <a:lnTo>
                    <a:pt x="1561" y="5009"/>
                  </a:lnTo>
                  <a:lnTo>
                    <a:pt x="1561" y="5383"/>
                  </a:lnTo>
                  <a:lnTo>
                    <a:pt x="1561" y="5559"/>
                  </a:lnTo>
                  <a:lnTo>
                    <a:pt x="1561" y="5736"/>
                  </a:lnTo>
                  <a:lnTo>
                    <a:pt x="1860" y="5933"/>
                  </a:lnTo>
                  <a:lnTo>
                    <a:pt x="1561" y="5933"/>
                  </a:lnTo>
                  <a:lnTo>
                    <a:pt x="1561" y="6109"/>
                  </a:lnTo>
                  <a:lnTo>
                    <a:pt x="1229" y="6660"/>
                  </a:lnTo>
                  <a:lnTo>
                    <a:pt x="598" y="7033"/>
                  </a:lnTo>
                  <a:lnTo>
                    <a:pt x="299" y="7956"/>
                  </a:lnTo>
                  <a:lnTo>
                    <a:pt x="0" y="8703"/>
                  </a:lnTo>
                  <a:lnTo>
                    <a:pt x="5614" y="8526"/>
                  </a:lnTo>
                  <a:lnTo>
                    <a:pt x="5614" y="8703"/>
                  </a:lnTo>
                  <a:lnTo>
                    <a:pt x="5614" y="8880"/>
                  </a:lnTo>
                  <a:lnTo>
                    <a:pt x="5614" y="9253"/>
                  </a:lnTo>
                  <a:lnTo>
                    <a:pt x="5945" y="9626"/>
                  </a:lnTo>
                  <a:lnTo>
                    <a:pt x="6245" y="10000"/>
                  </a:lnTo>
                  <a:lnTo>
                    <a:pt x="6544" y="10000"/>
                  </a:lnTo>
                  <a:lnTo>
                    <a:pt x="7176" y="9823"/>
                  </a:lnTo>
                  <a:lnTo>
                    <a:pt x="8438" y="9449"/>
                  </a:lnTo>
                  <a:lnTo>
                    <a:pt x="9069" y="9626"/>
                  </a:lnTo>
                  <a:lnTo>
                    <a:pt x="9368" y="9449"/>
                  </a:lnTo>
                  <a:lnTo>
                    <a:pt x="9368" y="9626"/>
                  </a:lnTo>
                  <a:lnTo>
                    <a:pt x="9700" y="9626"/>
                  </a:lnTo>
                  <a:lnTo>
                    <a:pt x="10000" y="9626"/>
                  </a:lnTo>
                  <a:lnTo>
                    <a:pt x="9368" y="6660"/>
                  </a:lnTo>
                  <a:lnTo>
                    <a:pt x="9368" y="6306"/>
                  </a:lnTo>
                  <a:lnTo>
                    <a:pt x="9368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69"/>
            <p:cNvSpPr/>
            <p:nvPr/>
          </p:nvSpPr>
          <p:spPr>
            <a:xfrm>
              <a:off x="6338880" y="4513680"/>
              <a:ext cx="594000" cy="9705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39"/>
                  </a:moveTo>
                  <a:lnTo>
                    <a:pt x="0" y="539"/>
                  </a:lnTo>
                  <a:lnTo>
                    <a:pt x="0" y="6737"/>
                  </a:lnTo>
                  <a:lnTo>
                    <a:pt x="0" y="7084"/>
                  </a:lnTo>
                  <a:lnTo>
                    <a:pt x="610" y="10000"/>
                  </a:lnTo>
                  <a:lnTo>
                    <a:pt x="610" y="9826"/>
                  </a:lnTo>
                  <a:lnTo>
                    <a:pt x="900" y="9826"/>
                  </a:lnTo>
                  <a:lnTo>
                    <a:pt x="1221" y="10000"/>
                  </a:lnTo>
                  <a:lnTo>
                    <a:pt x="1221" y="9826"/>
                  </a:lnTo>
                  <a:lnTo>
                    <a:pt x="1221" y="9459"/>
                  </a:lnTo>
                  <a:lnTo>
                    <a:pt x="1511" y="9092"/>
                  </a:lnTo>
                  <a:lnTo>
                    <a:pt x="2121" y="9459"/>
                  </a:lnTo>
                  <a:lnTo>
                    <a:pt x="1832" y="9633"/>
                  </a:lnTo>
                  <a:lnTo>
                    <a:pt x="2121" y="9633"/>
                  </a:lnTo>
                  <a:lnTo>
                    <a:pt x="2121" y="10000"/>
                  </a:lnTo>
                  <a:lnTo>
                    <a:pt x="2733" y="10000"/>
                  </a:lnTo>
                  <a:lnTo>
                    <a:pt x="3022" y="10000"/>
                  </a:lnTo>
                  <a:lnTo>
                    <a:pt x="3344" y="9826"/>
                  </a:lnTo>
                  <a:lnTo>
                    <a:pt x="3344" y="9633"/>
                  </a:lnTo>
                  <a:lnTo>
                    <a:pt x="3344" y="9266"/>
                  </a:lnTo>
                  <a:lnTo>
                    <a:pt x="3344" y="9092"/>
                  </a:lnTo>
                  <a:lnTo>
                    <a:pt x="3022" y="9092"/>
                  </a:lnTo>
                  <a:lnTo>
                    <a:pt x="2733" y="8918"/>
                  </a:lnTo>
                  <a:lnTo>
                    <a:pt x="2733" y="8725"/>
                  </a:lnTo>
                  <a:lnTo>
                    <a:pt x="2733" y="8552"/>
                  </a:lnTo>
                  <a:lnTo>
                    <a:pt x="10000" y="8185"/>
                  </a:lnTo>
                  <a:lnTo>
                    <a:pt x="10000" y="8011"/>
                  </a:lnTo>
                  <a:lnTo>
                    <a:pt x="10000" y="7644"/>
                  </a:lnTo>
                  <a:lnTo>
                    <a:pt x="10000" y="7084"/>
                  </a:lnTo>
                  <a:lnTo>
                    <a:pt x="9710" y="6737"/>
                  </a:lnTo>
                  <a:lnTo>
                    <a:pt x="9389" y="6370"/>
                  </a:lnTo>
                  <a:lnTo>
                    <a:pt x="9710" y="6003"/>
                  </a:lnTo>
                  <a:lnTo>
                    <a:pt x="9710" y="5830"/>
                  </a:lnTo>
                  <a:lnTo>
                    <a:pt x="10000" y="5637"/>
                  </a:lnTo>
                  <a:lnTo>
                    <a:pt x="9710" y="5270"/>
                  </a:lnTo>
                  <a:lnTo>
                    <a:pt x="10000" y="5095"/>
                  </a:lnTo>
                  <a:lnTo>
                    <a:pt x="9710" y="5095"/>
                  </a:lnTo>
                  <a:lnTo>
                    <a:pt x="9389" y="4903"/>
                  </a:lnTo>
                  <a:lnTo>
                    <a:pt x="9099" y="4362"/>
                  </a:lnTo>
                  <a:lnTo>
                    <a:pt x="8778" y="4362"/>
                  </a:lnTo>
                  <a:lnTo>
                    <a:pt x="6977" y="0"/>
                  </a:lnTo>
                  <a:lnTo>
                    <a:pt x="0" y="539"/>
                  </a:lnTo>
                  <a:close/>
                  <a:moveTo>
                    <a:pt x="0" y="53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0"/>
            <p:cNvSpPr/>
            <p:nvPr/>
          </p:nvSpPr>
          <p:spPr>
            <a:xfrm>
              <a:off x="6338880" y="4513680"/>
              <a:ext cx="594000" cy="9705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39"/>
                  </a:moveTo>
                  <a:lnTo>
                    <a:pt x="0" y="539"/>
                  </a:lnTo>
                  <a:lnTo>
                    <a:pt x="0" y="6737"/>
                  </a:lnTo>
                  <a:lnTo>
                    <a:pt x="0" y="7084"/>
                  </a:lnTo>
                  <a:lnTo>
                    <a:pt x="610" y="10000"/>
                  </a:lnTo>
                  <a:lnTo>
                    <a:pt x="610" y="9826"/>
                  </a:lnTo>
                  <a:lnTo>
                    <a:pt x="900" y="9826"/>
                  </a:lnTo>
                  <a:lnTo>
                    <a:pt x="1221" y="10000"/>
                  </a:lnTo>
                  <a:lnTo>
                    <a:pt x="1221" y="9826"/>
                  </a:lnTo>
                  <a:lnTo>
                    <a:pt x="1221" y="9459"/>
                  </a:lnTo>
                  <a:lnTo>
                    <a:pt x="1511" y="9092"/>
                  </a:lnTo>
                  <a:lnTo>
                    <a:pt x="2121" y="9459"/>
                  </a:lnTo>
                  <a:lnTo>
                    <a:pt x="1832" y="9633"/>
                  </a:lnTo>
                  <a:lnTo>
                    <a:pt x="2121" y="9633"/>
                  </a:lnTo>
                  <a:lnTo>
                    <a:pt x="2121" y="10000"/>
                  </a:lnTo>
                  <a:lnTo>
                    <a:pt x="2733" y="10000"/>
                  </a:lnTo>
                  <a:lnTo>
                    <a:pt x="3022" y="10000"/>
                  </a:lnTo>
                  <a:lnTo>
                    <a:pt x="3344" y="9826"/>
                  </a:lnTo>
                  <a:lnTo>
                    <a:pt x="3344" y="9633"/>
                  </a:lnTo>
                  <a:lnTo>
                    <a:pt x="3344" y="9266"/>
                  </a:lnTo>
                  <a:lnTo>
                    <a:pt x="3344" y="9092"/>
                  </a:lnTo>
                  <a:lnTo>
                    <a:pt x="3022" y="9092"/>
                  </a:lnTo>
                  <a:lnTo>
                    <a:pt x="2733" y="8918"/>
                  </a:lnTo>
                  <a:lnTo>
                    <a:pt x="2733" y="8725"/>
                  </a:lnTo>
                  <a:lnTo>
                    <a:pt x="2733" y="8552"/>
                  </a:lnTo>
                  <a:lnTo>
                    <a:pt x="10000" y="8185"/>
                  </a:lnTo>
                  <a:lnTo>
                    <a:pt x="10000" y="8011"/>
                  </a:lnTo>
                  <a:lnTo>
                    <a:pt x="10000" y="7644"/>
                  </a:lnTo>
                  <a:lnTo>
                    <a:pt x="10000" y="7084"/>
                  </a:lnTo>
                  <a:lnTo>
                    <a:pt x="9710" y="6737"/>
                  </a:lnTo>
                  <a:lnTo>
                    <a:pt x="9389" y="6370"/>
                  </a:lnTo>
                  <a:lnTo>
                    <a:pt x="9710" y="6003"/>
                  </a:lnTo>
                  <a:lnTo>
                    <a:pt x="9710" y="5830"/>
                  </a:lnTo>
                  <a:lnTo>
                    <a:pt x="10000" y="5637"/>
                  </a:lnTo>
                  <a:lnTo>
                    <a:pt x="9710" y="5270"/>
                  </a:lnTo>
                  <a:lnTo>
                    <a:pt x="10000" y="5095"/>
                  </a:lnTo>
                  <a:lnTo>
                    <a:pt x="9710" y="5095"/>
                  </a:lnTo>
                  <a:lnTo>
                    <a:pt x="9389" y="4903"/>
                  </a:lnTo>
                  <a:lnTo>
                    <a:pt x="9099" y="4362"/>
                  </a:lnTo>
                  <a:lnTo>
                    <a:pt x="8778" y="4362"/>
                  </a:lnTo>
                  <a:lnTo>
                    <a:pt x="6977" y="0"/>
                  </a:lnTo>
                  <a:lnTo>
                    <a:pt x="0" y="53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1"/>
            <p:cNvSpPr/>
            <p:nvPr/>
          </p:nvSpPr>
          <p:spPr>
            <a:xfrm>
              <a:off x="6501240" y="5256000"/>
              <a:ext cx="1456920" cy="109440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961" y="479"/>
                  </a:moveTo>
                  <a:lnTo>
                    <a:pt x="0" y="804"/>
                  </a:lnTo>
                  <a:lnTo>
                    <a:pt x="0" y="957"/>
                  </a:lnTo>
                  <a:lnTo>
                    <a:pt x="0" y="1130"/>
                  </a:lnTo>
                  <a:lnTo>
                    <a:pt x="117" y="1284"/>
                  </a:lnTo>
                  <a:lnTo>
                    <a:pt x="249" y="1284"/>
                  </a:lnTo>
                  <a:lnTo>
                    <a:pt x="249" y="1438"/>
                  </a:lnTo>
                  <a:lnTo>
                    <a:pt x="249" y="1763"/>
                  </a:lnTo>
                  <a:lnTo>
                    <a:pt x="249" y="1934"/>
                  </a:lnTo>
                  <a:lnTo>
                    <a:pt x="249" y="2089"/>
                  </a:lnTo>
                  <a:lnTo>
                    <a:pt x="366" y="1934"/>
                  </a:lnTo>
                  <a:lnTo>
                    <a:pt x="498" y="1934"/>
                  </a:lnTo>
                  <a:lnTo>
                    <a:pt x="614" y="1763"/>
                  </a:lnTo>
                  <a:lnTo>
                    <a:pt x="614" y="1609"/>
                  </a:lnTo>
                  <a:lnTo>
                    <a:pt x="614" y="1763"/>
                  </a:lnTo>
                  <a:lnTo>
                    <a:pt x="732" y="1609"/>
                  </a:lnTo>
                  <a:lnTo>
                    <a:pt x="732" y="1763"/>
                  </a:lnTo>
                  <a:lnTo>
                    <a:pt x="614" y="1763"/>
                  </a:lnTo>
                  <a:lnTo>
                    <a:pt x="732" y="1763"/>
                  </a:lnTo>
                  <a:lnTo>
                    <a:pt x="982" y="1763"/>
                  </a:lnTo>
                  <a:lnTo>
                    <a:pt x="1480" y="1609"/>
                  </a:lnTo>
                  <a:lnTo>
                    <a:pt x="1598" y="1609"/>
                  </a:lnTo>
                  <a:lnTo>
                    <a:pt x="1480" y="1763"/>
                  </a:lnTo>
                  <a:lnTo>
                    <a:pt x="1598" y="1763"/>
                  </a:lnTo>
                  <a:lnTo>
                    <a:pt x="1730" y="1763"/>
                  </a:lnTo>
                  <a:lnTo>
                    <a:pt x="1979" y="1763"/>
                  </a:lnTo>
                  <a:lnTo>
                    <a:pt x="2214" y="2089"/>
                  </a:lnTo>
                  <a:lnTo>
                    <a:pt x="2346" y="2089"/>
                  </a:lnTo>
                  <a:lnTo>
                    <a:pt x="2346" y="1934"/>
                  </a:lnTo>
                  <a:lnTo>
                    <a:pt x="2463" y="1934"/>
                  </a:lnTo>
                  <a:lnTo>
                    <a:pt x="2463" y="2089"/>
                  </a:lnTo>
                  <a:lnTo>
                    <a:pt x="2595" y="2089"/>
                  </a:lnTo>
                  <a:lnTo>
                    <a:pt x="2463" y="2089"/>
                  </a:lnTo>
                  <a:lnTo>
                    <a:pt x="2463" y="2260"/>
                  </a:lnTo>
                  <a:lnTo>
                    <a:pt x="2844" y="2414"/>
                  </a:lnTo>
                  <a:lnTo>
                    <a:pt x="2961" y="2568"/>
                  </a:lnTo>
                  <a:lnTo>
                    <a:pt x="2961" y="2739"/>
                  </a:lnTo>
                  <a:lnTo>
                    <a:pt x="2844" y="2892"/>
                  </a:lnTo>
                  <a:lnTo>
                    <a:pt x="2844" y="2739"/>
                  </a:lnTo>
                  <a:lnTo>
                    <a:pt x="2712" y="2739"/>
                  </a:lnTo>
                  <a:lnTo>
                    <a:pt x="2844" y="2892"/>
                  </a:lnTo>
                  <a:lnTo>
                    <a:pt x="3328" y="2739"/>
                  </a:lnTo>
                  <a:lnTo>
                    <a:pt x="3328" y="2568"/>
                  </a:lnTo>
                  <a:lnTo>
                    <a:pt x="3826" y="2260"/>
                  </a:lnTo>
                  <a:lnTo>
                    <a:pt x="3944" y="2260"/>
                  </a:lnTo>
                  <a:lnTo>
                    <a:pt x="3944" y="2089"/>
                  </a:lnTo>
                  <a:lnTo>
                    <a:pt x="4076" y="1763"/>
                  </a:lnTo>
                  <a:lnTo>
                    <a:pt x="4325" y="1763"/>
                  </a:lnTo>
                  <a:lnTo>
                    <a:pt x="4941" y="2260"/>
                  </a:lnTo>
                  <a:lnTo>
                    <a:pt x="4941" y="2414"/>
                  </a:lnTo>
                  <a:lnTo>
                    <a:pt x="5176" y="2414"/>
                  </a:lnTo>
                  <a:lnTo>
                    <a:pt x="5176" y="2739"/>
                  </a:lnTo>
                  <a:lnTo>
                    <a:pt x="5556" y="2892"/>
                  </a:lnTo>
                  <a:lnTo>
                    <a:pt x="5556" y="3065"/>
                  </a:lnTo>
                  <a:lnTo>
                    <a:pt x="5673" y="3219"/>
                  </a:lnTo>
                  <a:lnTo>
                    <a:pt x="6041" y="3219"/>
                  </a:lnTo>
                  <a:lnTo>
                    <a:pt x="6173" y="3544"/>
                  </a:lnTo>
                  <a:lnTo>
                    <a:pt x="6173" y="3698"/>
                  </a:lnTo>
                  <a:lnTo>
                    <a:pt x="6173" y="3869"/>
                  </a:lnTo>
                  <a:lnTo>
                    <a:pt x="6290" y="4195"/>
                  </a:lnTo>
                  <a:lnTo>
                    <a:pt x="6290" y="4673"/>
                  </a:lnTo>
                  <a:lnTo>
                    <a:pt x="6173" y="5154"/>
                  </a:lnTo>
                  <a:lnTo>
                    <a:pt x="6173" y="5479"/>
                  </a:lnTo>
                  <a:lnTo>
                    <a:pt x="6173" y="5633"/>
                  </a:lnTo>
                  <a:lnTo>
                    <a:pt x="6539" y="5804"/>
                  </a:lnTo>
                  <a:lnTo>
                    <a:pt x="6539" y="5633"/>
                  </a:lnTo>
                  <a:lnTo>
                    <a:pt x="6422" y="5308"/>
                  </a:lnTo>
                  <a:lnTo>
                    <a:pt x="6539" y="5308"/>
                  </a:lnTo>
                  <a:lnTo>
                    <a:pt x="6539" y="5479"/>
                  </a:lnTo>
                  <a:lnTo>
                    <a:pt x="6671" y="5479"/>
                  </a:lnTo>
                  <a:lnTo>
                    <a:pt x="6671" y="5308"/>
                  </a:lnTo>
                  <a:lnTo>
                    <a:pt x="6788" y="5308"/>
                  </a:lnTo>
                  <a:lnTo>
                    <a:pt x="6788" y="5479"/>
                  </a:lnTo>
                  <a:lnTo>
                    <a:pt x="6671" y="5633"/>
                  </a:lnTo>
                  <a:lnTo>
                    <a:pt x="6671" y="5804"/>
                  </a:lnTo>
                  <a:lnTo>
                    <a:pt x="6539" y="5958"/>
                  </a:lnTo>
                  <a:lnTo>
                    <a:pt x="6539" y="6130"/>
                  </a:lnTo>
                  <a:lnTo>
                    <a:pt x="6539" y="6284"/>
                  </a:lnTo>
                  <a:lnTo>
                    <a:pt x="6539" y="6438"/>
                  </a:lnTo>
                  <a:lnTo>
                    <a:pt x="6671" y="6438"/>
                  </a:lnTo>
                  <a:lnTo>
                    <a:pt x="6906" y="7089"/>
                  </a:lnTo>
                  <a:lnTo>
                    <a:pt x="7155" y="7243"/>
                  </a:lnTo>
                  <a:lnTo>
                    <a:pt x="7287" y="7243"/>
                  </a:lnTo>
                  <a:lnTo>
                    <a:pt x="7287" y="7089"/>
                  </a:lnTo>
                  <a:lnTo>
                    <a:pt x="7404" y="7089"/>
                  </a:lnTo>
                  <a:lnTo>
                    <a:pt x="7404" y="7414"/>
                  </a:lnTo>
                  <a:lnTo>
                    <a:pt x="7404" y="7568"/>
                  </a:lnTo>
                  <a:lnTo>
                    <a:pt x="7404" y="7739"/>
                  </a:lnTo>
                  <a:lnTo>
                    <a:pt x="7653" y="7893"/>
                  </a:lnTo>
                  <a:lnTo>
                    <a:pt x="7771" y="7893"/>
                  </a:lnTo>
                  <a:lnTo>
                    <a:pt x="7903" y="8698"/>
                  </a:lnTo>
                  <a:lnTo>
                    <a:pt x="8020" y="8698"/>
                  </a:lnTo>
                  <a:lnTo>
                    <a:pt x="8269" y="8698"/>
                  </a:lnTo>
                  <a:lnTo>
                    <a:pt x="8387" y="8869"/>
                  </a:lnTo>
                  <a:lnTo>
                    <a:pt x="8768" y="9349"/>
                  </a:lnTo>
                  <a:lnTo>
                    <a:pt x="8885" y="9503"/>
                  </a:lnTo>
                  <a:lnTo>
                    <a:pt x="9003" y="9674"/>
                  </a:lnTo>
                  <a:lnTo>
                    <a:pt x="9134" y="9828"/>
                  </a:lnTo>
                  <a:lnTo>
                    <a:pt x="9003" y="9828"/>
                  </a:lnTo>
                  <a:lnTo>
                    <a:pt x="8885" y="9828"/>
                  </a:lnTo>
                  <a:lnTo>
                    <a:pt x="8768" y="9828"/>
                  </a:lnTo>
                  <a:lnTo>
                    <a:pt x="8885" y="10000"/>
                  </a:lnTo>
                  <a:lnTo>
                    <a:pt x="9134" y="10000"/>
                  </a:lnTo>
                  <a:lnTo>
                    <a:pt x="9252" y="10000"/>
                  </a:lnTo>
                  <a:lnTo>
                    <a:pt x="9750" y="9674"/>
                  </a:lnTo>
                  <a:lnTo>
                    <a:pt x="9868" y="9349"/>
                  </a:lnTo>
                  <a:lnTo>
                    <a:pt x="9750" y="8869"/>
                  </a:lnTo>
                  <a:lnTo>
                    <a:pt x="9750" y="8698"/>
                  </a:lnTo>
                  <a:lnTo>
                    <a:pt x="9868" y="8544"/>
                  </a:lnTo>
                  <a:lnTo>
                    <a:pt x="10000" y="8544"/>
                  </a:lnTo>
                  <a:lnTo>
                    <a:pt x="9868" y="7893"/>
                  </a:lnTo>
                  <a:lnTo>
                    <a:pt x="10000" y="7568"/>
                  </a:lnTo>
                  <a:lnTo>
                    <a:pt x="9868" y="7089"/>
                  </a:lnTo>
                  <a:lnTo>
                    <a:pt x="9750" y="6438"/>
                  </a:lnTo>
                  <a:lnTo>
                    <a:pt x="9384" y="5804"/>
                  </a:lnTo>
                  <a:lnTo>
                    <a:pt x="9134" y="5154"/>
                  </a:lnTo>
                  <a:lnTo>
                    <a:pt x="8885" y="4673"/>
                  </a:lnTo>
                  <a:lnTo>
                    <a:pt x="8885" y="4503"/>
                  </a:lnTo>
                  <a:lnTo>
                    <a:pt x="8768" y="4348"/>
                  </a:lnTo>
                  <a:lnTo>
                    <a:pt x="8768" y="4195"/>
                  </a:lnTo>
                  <a:lnTo>
                    <a:pt x="8885" y="4023"/>
                  </a:lnTo>
                  <a:lnTo>
                    <a:pt x="8636" y="3373"/>
                  </a:lnTo>
                  <a:lnTo>
                    <a:pt x="8387" y="3065"/>
                  </a:lnTo>
                  <a:lnTo>
                    <a:pt x="8269" y="2892"/>
                  </a:lnTo>
                  <a:lnTo>
                    <a:pt x="8020" y="2568"/>
                  </a:lnTo>
                  <a:lnTo>
                    <a:pt x="7771" y="1763"/>
                  </a:lnTo>
                  <a:lnTo>
                    <a:pt x="7653" y="1438"/>
                  </a:lnTo>
                  <a:lnTo>
                    <a:pt x="7404" y="957"/>
                  </a:lnTo>
                  <a:lnTo>
                    <a:pt x="7404" y="804"/>
                  </a:lnTo>
                  <a:lnTo>
                    <a:pt x="7404" y="632"/>
                  </a:lnTo>
                  <a:lnTo>
                    <a:pt x="7287" y="325"/>
                  </a:lnTo>
                  <a:lnTo>
                    <a:pt x="7287" y="154"/>
                  </a:lnTo>
                  <a:lnTo>
                    <a:pt x="7155" y="154"/>
                  </a:lnTo>
                  <a:lnTo>
                    <a:pt x="6906" y="154"/>
                  </a:lnTo>
                  <a:lnTo>
                    <a:pt x="6788" y="0"/>
                  </a:lnTo>
                  <a:lnTo>
                    <a:pt x="6671" y="0"/>
                  </a:lnTo>
                  <a:lnTo>
                    <a:pt x="6539" y="154"/>
                  </a:lnTo>
                  <a:lnTo>
                    <a:pt x="6539" y="325"/>
                  </a:lnTo>
                  <a:lnTo>
                    <a:pt x="6671" y="632"/>
                  </a:lnTo>
                  <a:lnTo>
                    <a:pt x="6671" y="957"/>
                  </a:lnTo>
                  <a:lnTo>
                    <a:pt x="6539" y="957"/>
                  </a:lnTo>
                  <a:lnTo>
                    <a:pt x="6539" y="804"/>
                  </a:lnTo>
                  <a:lnTo>
                    <a:pt x="6422" y="632"/>
                  </a:lnTo>
                  <a:lnTo>
                    <a:pt x="3211" y="957"/>
                  </a:lnTo>
                  <a:lnTo>
                    <a:pt x="3211" y="632"/>
                  </a:lnTo>
                  <a:lnTo>
                    <a:pt x="3078" y="479"/>
                  </a:lnTo>
                  <a:lnTo>
                    <a:pt x="2961" y="479"/>
                  </a:lnTo>
                  <a:close/>
                  <a:moveTo>
                    <a:pt x="2961" y="47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2"/>
            <p:cNvSpPr/>
            <p:nvPr/>
          </p:nvSpPr>
          <p:spPr>
            <a:xfrm>
              <a:off x="6501240" y="5256000"/>
              <a:ext cx="1456920" cy="109440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961" y="479"/>
                  </a:moveTo>
                  <a:lnTo>
                    <a:pt x="0" y="804"/>
                  </a:lnTo>
                  <a:lnTo>
                    <a:pt x="0" y="957"/>
                  </a:lnTo>
                  <a:lnTo>
                    <a:pt x="0" y="1130"/>
                  </a:lnTo>
                  <a:lnTo>
                    <a:pt x="117" y="1284"/>
                  </a:lnTo>
                  <a:lnTo>
                    <a:pt x="249" y="1284"/>
                  </a:lnTo>
                  <a:lnTo>
                    <a:pt x="249" y="1438"/>
                  </a:lnTo>
                  <a:lnTo>
                    <a:pt x="249" y="1763"/>
                  </a:lnTo>
                  <a:lnTo>
                    <a:pt x="249" y="1934"/>
                  </a:lnTo>
                  <a:lnTo>
                    <a:pt x="249" y="2089"/>
                  </a:lnTo>
                  <a:lnTo>
                    <a:pt x="366" y="1934"/>
                  </a:lnTo>
                  <a:lnTo>
                    <a:pt x="498" y="1934"/>
                  </a:lnTo>
                  <a:lnTo>
                    <a:pt x="614" y="1763"/>
                  </a:lnTo>
                  <a:lnTo>
                    <a:pt x="614" y="1609"/>
                  </a:lnTo>
                  <a:lnTo>
                    <a:pt x="614" y="1763"/>
                  </a:lnTo>
                  <a:lnTo>
                    <a:pt x="732" y="1609"/>
                  </a:lnTo>
                  <a:lnTo>
                    <a:pt x="732" y="1763"/>
                  </a:lnTo>
                  <a:lnTo>
                    <a:pt x="614" y="1763"/>
                  </a:lnTo>
                  <a:lnTo>
                    <a:pt x="732" y="1763"/>
                  </a:lnTo>
                  <a:lnTo>
                    <a:pt x="982" y="1763"/>
                  </a:lnTo>
                  <a:lnTo>
                    <a:pt x="1480" y="1609"/>
                  </a:lnTo>
                  <a:lnTo>
                    <a:pt x="1598" y="1609"/>
                  </a:lnTo>
                  <a:lnTo>
                    <a:pt x="1480" y="1763"/>
                  </a:lnTo>
                  <a:lnTo>
                    <a:pt x="1598" y="1763"/>
                  </a:lnTo>
                  <a:lnTo>
                    <a:pt x="1730" y="1763"/>
                  </a:lnTo>
                  <a:lnTo>
                    <a:pt x="1979" y="1763"/>
                  </a:lnTo>
                  <a:lnTo>
                    <a:pt x="2214" y="2089"/>
                  </a:lnTo>
                  <a:lnTo>
                    <a:pt x="2346" y="2089"/>
                  </a:lnTo>
                  <a:lnTo>
                    <a:pt x="2346" y="1934"/>
                  </a:lnTo>
                  <a:lnTo>
                    <a:pt x="2463" y="1934"/>
                  </a:lnTo>
                  <a:lnTo>
                    <a:pt x="2463" y="2089"/>
                  </a:lnTo>
                  <a:lnTo>
                    <a:pt x="2595" y="2089"/>
                  </a:lnTo>
                  <a:lnTo>
                    <a:pt x="2463" y="2089"/>
                  </a:lnTo>
                  <a:lnTo>
                    <a:pt x="2463" y="2260"/>
                  </a:lnTo>
                  <a:lnTo>
                    <a:pt x="2844" y="2414"/>
                  </a:lnTo>
                  <a:lnTo>
                    <a:pt x="2961" y="2568"/>
                  </a:lnTo>
                  <a:lnTo>
                    <a:pt x="2961" y="2739"/>
                  </a:lnTo>
                  <a:lnTo>
                    <a:pt x="2844" y="2892"/>
                  </a:lnTo>
                  <a:lnTo>
                    <a:pt x="2844" y="2739"/>
                  </a:lnTo>
                  <a:lnTo>
                    <a:pt x="2712" y="2739"/>
                  </a:lnTo>
                  <a:lnTo>
                    <a:pt x="2844" y="2892"/>
                  </a:lnTo>
                  <a:lnTo>
                    <a:pt x="3328" y="2739"/>
                  </a:lnTo>
                  <a:lnTo>
                    <a:pt x="3328" y="2568"/>
                  </a:lnTo>
                  <a:lnTo>
                    <a:pt x="3826" y="2260"/>
                  </a:lnTo>
                  <a:lnTo>
                    <a:pt x="3944" y="2260"/>
                  </a:lnTo>
                  <a:lnTo>
                    <a:pt x="3944" y="2089"/>
                  </a:lnTo>
                  <a:lnTo>
                    <a:pt x="4076" y="1763"/>
                  </a:lnTo>
                  <a:lnTo>
                    <a:pt x="4325" y="1763"/>
                  </a:lnTo>
                  <a:lnTo>
                    <a:pt x="4941" y="2260"/>
                  </a:lnTo>
                  <a:lnTo>
                    <a:pt x="4941" y="2414"/>
                  </a:lnTo>
                  <a:lnTo>
                    <a:pt x="5176" y="2414"/>
                  </a:lnTo>
                  <a:lnTo>
                    <a:pt x="5176" y="2739"/>
                  </a:lnTo>
                  <a:lnTo>
                    <a:pt x="5556" y="2892"/>
                  </a:lnTo>
                  <a:lnTo>
                    <a:pt x="5556" y="3065"/>
                  </a:lnTo>
                  <a:lnTo>
                    <a:pt x="5673" y="3219"/>
                  </a:lnTo>
                  <a:lnTo>
                    <a:pt x="6041" y="3219"/>
                  </a:lnTo>
                  <a:lnTo>
                    <a:pt x="6173" y="3544"/>
                  </a:lnTo>
                  <a:lnTo>
                    <a:pt x="6173" y="3698"/>
                  </a:lnTo>
                  <a:lnTo>
                    <a:pt x="6173" y="3869"/>
                  </a:lnTo>
                  <a:lnTo>
                    <a:pt x="6290" y="4195"/>
                  </a:lnTo>
                  <a:lnTo>
                    <a:pt x="6290" y="4673"/>
                  </a:lnTo>
                  <a:lnTo>
                    <a:pt x="6173" y="5154"/>
                  </a:lnTo>
                  <a:lnTo>
                    <a:pt x="6173" y="5479"/>
                  </a:lnTo>
                  <a:lnTo>
                    <a:pt x="6173" y="5633"/>
                  </a:lnTo>
                  <a:lnTo>
                    <a:pt x="6539" y="5804"/>
                  </a:lnTo>
                  <a:lnTo>
                    <a:pt x="6539" y="5633"/>
                  </a:lnTo>
                  <a:lnTo>
                    <a:pt x="6422" y="5308"/>
                  </a:lnTo>
                  <a:lnTo>
                    <a:pt x="6539" y="5308"/>
                  </a:lnTo>
                  <a:lnTo>
                    <a:pt x="6539" y="5479"/>
                  </a:lnTo>
                  <a:lnTo>
                    <a:pt x="6671" y="5479"/>
                  </a:lnTo>
                  <a:lnTo>
                    <a:pt x="6671" y="5308"/>
                  </a:lnTo>
                  <a:lnTo>
                    <a:pt x="6788" y="5308"/>
                  </a:lnTo>
                  <a:lnTo>
                    <a:pt x="6788" y="5479"/>
                  </a:lnTo>
                  <a:lnTo>
                    <a:pt x="6671" y="5633"/>
                  </a:lnTo>
                  <a:lnTo>
                    <a:pt x="6671" y="5804"/>
                  </a:lnTo>
                  <a:lnTo>
                    <a:pt x="6539" y="5958"/>
                  </a:lnTo>
                  <a:lnTo>
                    <a:pt x="6539" y="6130"/>
                  </a:lnTo>
                  <a:lnTo>
                    <a:pt x="6539" y="6284"/>
                  </a:lnTo>
                  <a:lnTo>
                    <a:pt x="6539" y="6438"/>
                  </a:lnTo>
                  <a:lnTo>
                    <a:pt x="6671" y="6438"/>
                  </a:lnTo>
                  <a:lnTo>
                    <a:pt x="6906" y="7089"/>
                  </a:lnTo>
                  <a:lnTo>
                    <a:pt x="7155" y="7243"/>
                  </a:lnTo>
                  <a:lnTo>
                    <a:pt x="7287" y="7243"/>
                  </a:lnTo>
                  <a:lnTo>
                    <a:pt x="7287" y="7089"/>
                  </a:lnTo>
                  <a:lnTo>
                    <a:pt x="7404" y="7089"/>
                  </a:lnTo>
                  <a:lnTo>
                    <a:pt x="7404" y="7414"/>
                  </a:lnTo>
                  <a:lnTo>
                    <a:pt x="7404" y="7568"/>
                  </a:lnTo>
                  <a:lnTo>
                    <a:pt x="7404" y="7739"/>
                  </a:lnTo>
                  <a:lnTo>
                    <a:pt x="7653" y="7893"/>
                  </a:lnTo>
                  <a:lnTo>
                    <a:pt x="7771" y="7893"/>
                  </a:lnTo>
                  <a:lnTo>
                    <a:pt x="7903" y="8698"/>
                  </a:lnTo>
                  <a:lnTo>
                    <a:pt x="8020" y="8698"/>
                  </a:lnTo>
                  <a:lnTo>
                    <a:pt x="8269" y="8698"/>
                  </a:lnTo>
                  <a:lnTo>
                    <a:pt x="8387" y="8869"/>
                  </a:lnTo>
                  <a:lnTo>
                    <a:pt x="8768" y="9349"/>
                  </a:lnTo>
                  <a:lnTo>
                    <a:pt x="8885" y="9503"/>
                  </a:lnTo>
                  <a:lnTo>
                    <a:pt x="9003" y="9674"/>
                  </a:lnTo>
                  <a:lnTo>
                    <a:pt x="9134" y="9828"/>
                  </a:lnTo>
                  <a:lnTo>
                    <a:pt x="9003" y="9828"/>
                  </a:lnTo>
                  <a:lnTo>
                    <a:pt x="8885" y="9828"/>
                  </a:lnTo>
                  <a:lnTo>
                    <a:pt x="8768" y="9828"/>
                  </a:lnTo>
                  <a:lnTo>
                    <a:pt x="8885" y="10000"/>
                  </a:lnTo>
                  <a:lnTo>
                    <a:pt x="9134" y="10000"/>
                  </a:lnTo>
                  <a:lnTo>
                    <a:pt x="9252" y="10000"/>
                  </a:lnTo>
                  <a:lnTo>
                    <a:pt x="9750" y="9674"/>
                  </a:lnTo>
                  <a:lnTo>
                    <a:pt x="9868" y="9349"/>
                  </a:lnTo>
                  <a:lnTo>
                    <a:pt x="9750" y="8869"/>
                  </a:lnTo>
                  <a:lnTo>
                    <a:pt x="9750" y="8698"/>
                  </a:lnTo>
                  <a:lnTo>
                    <a:pt x="9868" y="8544"/>
                  </a:lnTo>
                  <a:lnTo>
                    <a:pt x="10000" y="8544"/>
                  </a:lnTo>
                  <a:lnTo>
                    <a:pt x="9868" y="7893"/>
                  </a:lnTo>
                  <a:lnTo>
                    <a:pt x="10000" y="7568"/>
                  </a:lnTo>
                  <a:lnTo>
                    <a:pt x="9868" y="7089"/>
                  </a:lnTo>
                  <a:lnTo>
                    <a:pt x="9750" y="6438"/>
                  </a:lnTo>
                  <a:lnTo>
                    <a:pt x="9384" y="5804"/>
                  </a:lnTo>
                  <a:lnTo>
                    <a:pt x="9134" y="5154"/>
                  </a:lnTo>
                  <a:lnTo>
                    <a:pt x="8885" y="4673"/>
                  </a:lnTo>
                  <a:lnTo>
                    <a:pt x="8885" y="4503"/>
                  </a:lnTo>
                  <a:lnTo>
                    <a:pt x="8768" y="4348"/>
                  </a:lnTo>
                  <a:lnTo>
                    <a:pt x="8768" y="4195"/>
                  </a:lnTo>
                  <a:lnTo>
                    <a:pt x="8885" y="4023"/>
                  </a:lnTo>
                  <a:lnTo>
                    <a:pt x="8636" y="3373"/>
                  </a:lnTo>
                  <a:lnTo>
                    <a:pt x="8387" y="3065"/>
                  </a:lnTo>
                  <a:lnTo>
                    <a:pt x="8269" y="2892"/>
                  </a:lnTo>
                  <a:lnTo>
                    <a:pt x="8020" y="2568"/>
                  </a:lnTo>
                  <a:lnTo>
                    <a:pt x="7771" y="1763"/>
                  </a:lnTo>
                  <a:lnTo>
                    <a:pt x="7653" y="1438"/>
                  </a:lnTo>
                  <a:lnTo>
                    <a:pt x="7404" y="957"/>
                  </a:lnTo>
                  <a:lnTo>
                    <a:pt x="7404" y="804"/>
                  </a:lnTo>
                  <a:lnTo>
                    <a:pt x="7404" y="632"/>
                  </a:lnTo>
                  <a:lnTo>
                    <a:pt x="7287" y="325"/>
                  </a:lnTo>
                  <a:lnTo>
                    <a:pt x="7287" y="154"/>
                  </a:lnTo>
                  <a:lnTo>
                    <a:pt x="7155" y="154"/>
                  </a:lnTo>
                  <a:lnTo>
                    <a:pt x="6906" y="154"/>
                  </a:lnTo>
                  <a:lnTo>
                    <a:pt x="6788" y="0"/>
                  </a:lnTo>
                  <a:lnTo>
                    <a:pt x="6671" y="0"/>
                  </a:lnTo>
                  <a:lnTo>
                    <a:pt x="6539" y="154"/>
                  </a:lnTo>
                  <a:lnTo>
                    <a:pt x="6539" y="325"/>
                  </a:lnTo>
                  <a:lnTo>
                    <a:pt x="6671" y="632"/>
                  </a:lnTo>
                  <a:lnTo>
                    <a:pt x="6671" y="957"/>
                  </a:lnTo>
                  <a:lnTo>
                    <a:pt x="6539" y="957"/>
                  </a:lnTo>
                  <a:lnTo>
                    <a:pt x="6539" y="804"/>
                  </a:lnTo>
                  <a:lnTo>
                    <a:pt x="6422" y="632"/>
                  </a:lnTo>
                  <a:lnTo>
                    <a:pt x="3211" y="957"/>
                  </a:lnTo>
                  <a:lnTo>
                    <a:pt x="3211" y="632"/>
                  </a:lnTo>
                  <a:lnTo>
                    <a:pt x="3078" y="479"/>
                  </a:lnTo>
                  <a:lnTo>
                    <a:pt x="2961" y="47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3"/>
            <p:cNvSpPr/>
            <p:nvPr/>
          </p:nvSpPr>
          <p:spPr>
            <a:xfrm>
              <a:off x="6753240" y="4478040"/>
              <a:ext cx="880200" cy="88272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3"/>
                  </a:moveTo>
                  <a:lnTo>
                    <a:pt x="1214" y="5201"/>
                  </a:lnTo>
                  <a:lnTo>
                    <a:pt x="1431" y="5201"/>
                  </a:lnTo>
                  <a:lnTo>
                    <a:pt x="1626" y="5795"/>
                  </a:lnTo>
                  <a:lnTo>
                    <a:pt x="1843" y="6008"/>
                  </a:lnTo>
                  <a:lnTo>
                    <a:pt x="2039" y="6008"/>
                  </a:lnTo>
                  <a:lnTo>
                    <a:pt x="1843" y="6198"/>
                  </a:lnTo>
                  <a:lnTo>
                    <a:pt x="2039" y="6602"/>
                  </a:lnTo>
                  <a:lnTo>
                    <a:pt x="1843" y="6815"/>
                  </a:lnTo>
                  <a:lnTo>
                    <a:pt x="1843" y="7006"/>
                  </a:lnTo>
                  <a:lnTo>
                    <a:pt x="1626" y="7409"/>
                  </a:lnTo>
                  <a:lnTo>
                    <a:pt x="1843" y="7813"/>
                  </a:lnTo>
                  <a:lnTo>
                    <a:pt x="2039" y="8195"/>
                  </a:lnTo>
                  <a:lnTo>
                    <a:pt x="2039" y="8811"/>
                  </a:lnTo>
                  <a:lnTo>
                    <a:pt x="2039" y="9214"/>
                  </a:lnTo>
                  <a:lnTo>
                    <a:pt x="2039" y="9405"/>
                  </a:lnTo>
                  <a:lnTo>
                    <a:pt x="2234" y="9405"/>
                  </a:lnTo>
                  <a:lnTo>
                    <a:pt x="2451" y="9596"/>
                  </a:lnTo>
                  <a:lnTo>
                    <a:pt x="2451" y="10000"/>
                  </a:lnTo>
                  <a:lnTo>
                    <a:pt x="7765" y="9596"/>
                  </a:lnTo>
                  <a:lnTo>
                    <a:pt x="7960" y="9808"/>
                  </a:lnTo>
                  <a:lnTo>
                    <a:pt x="7960" y="10000"/>
                  </a:lnTo>
                  <a:lnTo>
                    <a:pt x="8177" y="10000"/>
                  </a:lnTo>
                  <a:lnTo>
                    <a:pt x="8177" y="9596"/>
                  </a:lnTo>
                  <a:lnTo>
                    <a:pt x="7960" y="9214"/>
                  </a:lnTo>
                  <a:lnTo>
                    <a:pt x="7960" y="9002"/>
                  </a:lnTo>
                  <a:lnTo>
                    <a:pt x="8177" y="8811"/>
                  </a:lnTo>
                  <a:lnTo>
                    <a:pt x="8373" y="8811"/>
                  </a:lnTo>
                  <a:lnTo>
                    <a:pt x="8568" y="9002"/>
                  </a:lnTo>
                  <a:lnTo>
                    <a:pt x="8980" y="9002"/>
                  </a:lnTo>
                  <a:lnTo>
                    <a:pt x="9197" y="9002"/>
                  </a:lnTo>
                  <a:lnTo>
                    <a:pt x="9197" y="8598"/>
                  </a:lnTo>
                  <a:lnTo>
                    <a:pt x="8980" y="8407"/>
                  </a:lnTo>
                  <a:lnTo>
                    <a:pt x="8980" y="8195"/>
                  </a:lnTo>
                  <a:lnTo>
                    <a:pt x="8980" y="8004"/>
                  </a:lnTo>
                  <a:lnTo>
                    <a:pt x="9392" y="7197"/>
                  </a:lnTo>
                  <a:lnTo>
                    <a:pt x="9392" y="6815"/>
                  </a:lnTo>
                  <a:lnTo>
                    <a:pt x="9392" y="6602"/>
                  </a:lnTo>
                  <a:lnTo>
                    <a:pt x="9587" y="6198"/>
                  </a:lnTo>
                  <a:lnTo>
                    <a:pt x="9804" y="6008"/>
                  </a:lnTo>
                  <a:lnTo>
                    <a:pt x="10000" y="6008"/>
                  </a:lnTo>
                  <a:lnTo>
                    <a:pt x="9804" y="6008"/>
                  </a:lnTo>
                  <a:lnTo>
                    <a:pt x="9392" y="6008"/>
                  </a:lnTo>
                  <a:lnTo>
                    <a:pt x="9392" y="5795"/>
                  </a:lnTo>
                  <a:lnTo>
                    <a:pt x="9197" y="5201"/>
                  </a:lnTo>
                  <a:lnTo>
                    <a:pt x="8980" y="5009"/>
                  </a:lnTo>
                  <a:lnTo>
                    <a:pt x="8568" y="4798"/>
                  </a:lnTo>
                  <a:lnTo>
                    <a:pt x="8568" y="4416"/>
                  </a:lnTo>
                  <a:lnTo>
                    <a:pt x="8373" y="4203"/>
                  </a:lnTo>
                  <a:lnTo>
                    <a:pt x="8373" y="3800"/>
                  </a:lnTo>
                  <a:lnTo>
                    <a:pt x="8177" y="3800"/>
                  </a:lnTo>
                  <a:lnTo>
                    <a:pt x="7960" y="3800"/>
                  </a:lnTo>
                  <a:lnTo>
                    <a:pt x="7548" y="3397"/>
                  </a:lnTo>
                  <a:lnTo>
                    <a:pt x="7353" y="3205"/>
                  </a:lnTo>
                  <a:lnTo>
                    <a:pt x="7136" y="3014"/>
                  </a:lnTo>
                  <a:lnTo>
                    <a:pt x="6941" y="2802"/>
                  </a:lnTo>
                  <a:lnTo>
                    <a:pt x="6334" y="2208"/>
                  </a:lnTo>
                  <a:lnTo>
                    <a:pt x="5920" y="2208"/>
                  </a:lnTo>
                  <a:lnTo>
                    <a:pt x="5920" y="2016"/>
                  </a:lnTo>
                  <a:lnTo>
                    <a:pt x="5704" y="1613"/>
                  </a:lnTo>
                  <a:lnTo>
                    <a:pt x="5509" y="1401"/>
                  </a:lnTo>
                  <a:lnTo>
                    <a:pt x="5314" y="1210"/>
                  </a:lnTo>
                  <a:lnTo>
                    <a:pt x="5314" y="997"/>
                  </a:lnTo>
                  <a:lnTo>
                    <a:pt x="4902" y="997"/>
                  </a:lnTo>
                  <a:lnTo>
                    <a:pt x="4295" y="806"/>
                  </a:lnTo>
                  <a:lnTo>
                    <a:pt x="4078" y="614"/>
                  </a:lnTo>
                  <a:lnTo>
                    <a:pt x="4295" y="212"/>
                  </a:lnTo>
                  <a:lnTo>
                    <a:pt x="4490" y="212"/>
                  </a:lnTo>
                  <a:lnTo>
                    <a:pt x="4684" y="0"/>
                  </a:lnTo>
                  <a:lnTo>
                    <a:pt x="1843" y="212"/>
                  </a:lnTo>
                  <a:lnTo>
                    <a:pt x="0" y="403"/>
                  </a:lnTo>
                  <a:close/>
                  <a:moveTo>
                    <a:pt x="0" y="40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4"/>
            <p:cNvSpPr/>
            <p:nvPr/>
          </p:nvSpPr>
          <p:spPr>
            <a:xfrm>
              <a:off x="6753240" y="4478040"/>
              <a:ext cx="880200" cy="88272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3"/>
                  </a:moveTo>
                  <a:lnTo>
                    <a:pt x="1214" y="5201"/>
                  </a:lnTo>
                  <a:lnTo>
                    <a:pt x="1431" y="5201"/>
                  </a:lnTo>
                  <a:lnTo>
                    <a:pt x="1626" y="5795"/>
                  </a:lnTo>
                  <a:lnTo>
                    <a:pt x="1843" y="6008"/>
                  </a:lnTo>
                  <a:lnTo>
                    <a:pt x="2039" y="6008"/>
                  </a:lnTo>
                  <a:lnTo>
                    <a:pt x="1843" y="6198"/>
                  </a:lnTo>
                  <a:lnTo>
                    <a:pt x="2039" y="6602"/>
                  </a:lnTo>
                  <a:lnTo>
                    <a:pt x="1843" y="6815"/>
                  </a:lnTo>
                  <a:lnTo>
                    <a:pt x="1843" y="7006"/>
                  </a:lnTo>
                  <a:lnTo>
                    <a:pt x="1626" y="7409"/>
                  </a:lnTo>
                  <a:lnTo>
                    <a:pt x="1843" y="7813"/>
                  </a:lnTo>
                  <a:lnTo>
                    <a:pt x="2039" y="8195"/>
                  </a:lnTo>
                  <a:lnTo>
                    <a:pt x="2039" y="8811"/>
                  </a:lnTo>
                  <a:lnTo>
                    <a:pt x="2039" y="9214"/>
                  </a:lnTo>
                  <a:lnTo>
                    <a:pt x="2039" y="9405"/>
                  </a:lnTo>
                  <a:lnTo>
                    <a:pt x="2234" y="9405"/>
                  </a:lnTo>
                  <a:lnTo>
                    <a:pt x="2451" y="9596"/>
                  </a:lnTo>
                  <a:lnTo>
                    <a:pt x="2451" y="10000"/>
                  </a:lnTo>
                  <a:lnTo>
                    <a:pt x="7765" y="9596"/>
                  </a:lnTo>
                  <a:lnTo>
                    <a:pt x="7960" y="9808"/>
                  </a:lnTo>
                  <a:lnTo>
                    <a:pt x="7960" y="10000"/>
                  </a:lnTo>
                  <a:lnTo>
                    <a:pt x="8177" y="10000"/>
                  </a:lnTo>
                  <a:lnTo>
                    <a:pt x="8177" y="9596"/>
                  </a:lnTo>
                  <a:lnTo>
                    <a:pt x="7960" y="9214"/>
                  </a:lnTo>
                  <a:lnTo>
                    <a:pt x="7960" y="9002"/>
                  </a:lnTo>
                  <a:lnTo>
                    <a:pt x="8177" y="8811"/>
                  </a:lnTo>
                  <a:lnTo>
                    <a:pt x="8373" y="8811"/>
                  </a:lnTo>
                  <a:lnTo>
                    <a:pt x="8568" y="9002"/>
                  </a:lnTo>
                  <a:lnTo>
                    <a:pt x="8980" y="9002"/>
                  </a:lnTo>
                  <a:lnTo>
                    <a:pt x="9197" y="9002"/>
                  </a:lnTo>
                  <a:lnTo>
                    <a:pt x="9197" y="8598"/>
                  </a:lnTo>
                  <a:lnTo>
                    <a:pt x="8980" y="8407"/>
                  </a:lnTo>
                  <a:lnTo>
                    <a:pt x="8980" y="8195"/>
                  </a:lnTo>
                  <a:lnTo>
                    <a:pt x="8980" y="8004"/>
                  </a:lnTo>
                  <a:lnTo>
                    <a:pt x="9392" y="7197"/>
                  </a:lnTo>
                  <a:lnTo>
                    <a:pt x="9392" y="6815"/>
                  </a:lnTo>
                  <a:lnTo>
                    <a:pt x="9392" y="6602"/>
                  </a:lnTo>
                  <a:lnTo>
                    <a:pt x="9587" y="6198"/>
                  </a:lnTo>
                  <a:lnTo>
                    <a:pt x="9804" y="6008"/>
                  </a:lnTo>
                  <a:lnTo>
                    <a:pt x="10000" y="6008"/>
                  </a:lnTo>
                  <a:lnTo>
                    <a:pt x="9804" y="6008"/>
                  </a:lnTo>
                  <a:lnTo>
                    <a:pt x="9392" y="6008"/>
                  </a:lnTo>
                  <a:lnTo>
                    <a:pt x="9392" y="5795"/>
                  </a:lnTo>
                  <a:lnTo>
                    <a:pt x="9197" y="5201"/>
                  </a:lnTo>
                  <a:lnTo>
                    <a:pt x="8980" y="5009"/>
                  </a:lnTo>
                  <a:lnTo>
                    <a:pt x="8568" y="4798"/>
                  </a:lnTo>
                  <a:lnTo>
                    <a:pt x="8568" y="4416"/>
                  </a:lnTo>
                  <a:lnTo>
                    <a:pt x="8373" y="4203"/>
                  </a:lnTo>
                  <a:lnTo>
                    <a:pt x="8373" y="3800"/>
                  </a:lnTo>
                  <a:lnTo>
                    <a:pt x="8177" y="3800"/>
                  </a:lnTo>
                  <a:lnTo>
                    <a:pt x="7960" y="3800"/>
                  </a:lnTo>
                  <a:lnTo>
                    <a:pt x="7548" y="3397"/>
                  </a:lnTo>
                  <a:lnTo>
                    <a:pt x="7353" y="3205"/>
                  </a:lnTo>
                  <a:lnTo>
                    <a:pt x="7136" y="3014"/>
                  </a:lnTo>
                  <a:lnTo>
                    <a:pt x="6941" y="2802"/>
                  </a:lnTo>
                  <a:lnTo>
                    <a:pt x="6334" y="2208"/>
                  </a:lnTo>
                  <a:lnTo>
                    <a:pt x="5920" y="2208"/>
                  </a:lnTo>
                  <a:lnTo>
                    <a:pt x="5920" y="2016"/>
                  </a:lnTo>
                  <a:lnTo>
                    <a:pt x="5704" y="1613"/>
                  </a:lnTo>
                  <a:lnTo>
                    <a:pt x="5509" y="1401"/>
                  </a:lnTo>
                  <a:lnTo>
                    <a:pt x="5314" y="1210"/>
                  </a:lnTo>
                  <a:lnTo>
                    <a:pt x="5314" y="997"/>
                  </a:lnTo>
                  <a:lnTo>
                    <a:pt x="4902" y="997"/>
                  </a:lnTo>
                  <a:lnTo>
                    <a:pt x="4295" y="806"/>
                  </a:lnTo>
                  <a:lnTo>
                    <a:pt x="4078" y="614"/>
                  </a:lnTo>
                  <a:lnTo>
                    <a:pt x="4295" y="212"/>
                  </a:lnTo>
                  <a:lnTo>
                    <a:pt x="4490" y="212"/>
                  </a:lnTo>
                  <a:lnTo>
                    <a:pt x="4684" y="0"/>
                  </a:lnTo>
                  <a:lnTo>
                    <a:pt x="1843" y="212"/>
                  </a:lnTo>
                  <a:lnTo>
                    <a:pt x="0" y="40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5"/>
            <p:cNvSpPr/>
            <p:nvPr/>
          </p:nvSpPr>
          <p:spPr>
            <a:xfrm>
              <a:off x="7112160" y="4390200"/>
              <a:ext cx="846000" cy="618120"/>
            </a:xfrm>
            <a:custGeom>
              <a:avLst/>
              <a:gdLst>
                <a:gd name="textAreaLeft" fmla="*/ 0 w 846000"/>
                <a:gd name="textAreaRight" fmla="*/ 846360 w 846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5959" y="10000"/>
                  </a:moveTo>
                  <a:lnTo>
                    <a:pt x="5530" y="10000"/>
                  </a:lnTo>
                  <a:lnTo>
                    <a:pt x="5530" y="9696"/>
                  </a:lnTo>
                  <a:lnTo>
                    <a:pt x="5326" y="8848"/>
                  </a:lnTo>
                  <a:lnTo>
                    <a:pt x="5101" y="8575"/>
                  </a:lnTo>
                  <a:lnTo>
                    <a:pt x="4672" y="8272"/>
                  </a:lnTo>
                  <a:lnTo>
                    <a:pt x="4672" y="7727"/>
                  </a:lnTo>
                  <a:lnTo>
                    <a:pt x="4469" y="7424"/>
                  </a:lnTo>
                  <a:lnTo>
                    <a:pt x="4469" y="6848"/>
                  </a:lnTo>
                  <a:lnTo>
                    <a:pt x="4266" y="6848"/>
                  </a:lnTo>
                  <a:lnTo>
                    <a:pt x="4040" y="6848"/>
                  </a:lnTo>
                  <a:lnTo>
                    <a:pt x="3611" y="6272"/>
                  </a:lnTo>
                  <a:lnTo>
                    <a:pt x="3408" y="6000"/>
                  </a:lnTo>
                  <a:lnTo>
                    <a:pt x="3181" y="5726"/>
                  </a:lnTo>
                  <a:lnTo>
                    <a:pt x="2978" y="5423"/>
                  </a:lnTo>
                  <a:lnTo>
                    <a:pt x="2346" y="4575"/>
                  </a:lnTo>
                  <a:lnTo>
                    <a:pt x="1918" y="4575"/>
                  </a:lnTo>
                  <a:lnTo>
                    <a:pt x="1918" y="4303"/>
                  </a:lnTo>
                  <a:lnTo>
                    <a:pt x="1693" y="3727"/>
                  </a:lnTo>
                  <a:lnTo>
                    <a:pt x="1489" y="3423"/>
                  </a:lnTo>
                  <a:lnTo>
                    <a:pt x="1286" y="3151"/>
                  </a:lnTo>
                  <a:lnTo>
                    <a:pt x="1286" y="2848"/>
                  </a:lnTo>
                  <a:lnTo>
                    <a:pt x="857" y="2848"/>
                  </a:lnTo>
                  <a:lnTo>
                    <a:pt x="225" y="2575"/>
                  </a:lnTo>
                  <a:lnTo>
                    <a:pt x="0" y="2303"/>
                  </a:lnTo>
                  <a:lnTo>
                    <a:pt x="225" y="1727"/>
                  </a:lnTo>
                  <a:lnTo>
                    <a:pt x="428" y="1727"/>
                  </a:lnTo>
                  <a:lnTo>
                    <a:pt x="632" y="1424"/>
                  </a:lnTo>
                  <a:lnTo>
                    <a:pt x="1060" y="878"/>
                  </a:lnTo>
                  <a:lnTo>
                    <a:pt x="1286" y="878"/>
                  </a:lnTo>
                  <a:lnTo>
                    <a:pt x="1693" y="575"/>
                  </a:lnTo>
                  <a:lnTo>
                    <a:pt x="1693" y="303"/>
                  </a:lnTo>
                  <a:lnTo>
                    <a:pt x="1918" y="303"/>
                  </a:lnTo>
                  <a:lnTo>
                    <a:pt x="4469" y="0"/>
                  </a:lnTo>
                  <a:lnTo>
                    <a:pt x="4469" y="303"/>
                  </a:lnTo>
                  <a:lnTo>
                    <a:pt x="4672" y="303"/>
                  </a:lnTo>
                  <a:lnTo>
                    <a:pt x="5101" y="575"/>
                  </a:lnTo>
                  <a:lnTo>
                    <a:pt x="5101" y="878"/>
                  </a:lnTo>
                  <a:lnTo>
                    <a:pt x="7223" y="575"/>
                  </a:lnTo>
                  <a:lnTo>
                    <a:pt x="10000" y="2848"/>
                  </a:lnTo>
                  <a:lnTo>
                    <a:pt x="9774" y="2848"/>
                  </a:lnTo>
                  <a:lnTo>
                    <a:pt x="9571" y="3151"/>
                  </a:lnTo>
                  <a:lnTo>
                    <a:pt x="9367" y="3727"/>
                  </a:lnTo>
                  <a:lnTo>
                    <a:pt x="9142" y="4000"/>
                  </a:lnTo>
                  <a:lnTo>
                    <a:pt x="8939" y="4575"/>
                  </a:lnTo>
                  <a:lnTo>
                    <a:pt x="8939" y="4848"/>
                  </a:lnTo>
                  <a:lnTo>
                    <a:pt x="8939" y="5151"/>
                  </a:lnTo>
                  <a:lnTo>
                    <a:pt x="8939" y="5423"/>
                  </a:lnTo>
                  <a:lnTo>
                    <a:pt x="8713" y="5726"/>
                  </a:lnTo>
                  <a:lnTo>
                    <a:pt x="8510" y="6000"/>
                  </a:lnTo>
                  <a:lnTo>
                    <a:pt x="8284" y="6272"/>
                  </a:lnTo>
                  <a:lnTo>
                    <a:pt x="8081" y="6575"/>
                  </a:lnTo>
                  <a:lnTo>
                    <a:pt x="7878" y="6848"/>
                  </a:lnTo>
                  <a:lnTo>
                    <a:pt x="7652" y="7151"/>
                  </a:lnTo>
                  <a:lnTo>
                    <a:pt x="7449" y="7424"/>
                  </a:lnTo>
                  <a:lnTo>
                    <a:pt x="7223" y="7727"/>
                  </a:lnTo>
                  <a:lnTo>
                    <a:pt x="7020" y="8000"/>
                  </a:lnTo>
                  <a:lnTo>
                    <a:pt x="6817" y="8000"/>
                  </a:lnTo>
                  <a:lnTo>
                    <a:pt x="6591" y="8272"/>
                  </a:lnTo>
                  <a:lnTo>
                    <a:pt x="6591" y="8575"/>
                  </a:lnTo>
                  <a:lnTo>
                    <a:pt x="6388" y="8848"/>
                  </a:lnTo>
                  <a:lnTo>
                    <a:pt x="6162" y="8848"/>
                  </a:lnTo>
                  <a:lnTo>
                    <a:pt x="6162" y="9151"/>
                  </a:lnTo>
                  <a:lnTo>
                    <a:pt x="6162" y="9424"/>
                  </a:lnTo>
                  <a:lnTo>
                    <a:pt x="6162" y="9696"/>
                  </a:lnTo>
                  <a:lnTo>
                    <a:pt x="5959" y="9696"/>
                  </a:lnTo>
                  <a:lnTo>
                    <a:pt x="5959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6"/>
            <p:cNvSpPr/>
            <p:nvPr/>
          </p:nvSpPr>
          <p:spPr>
            <a:xfrm>
              <a:off x="5979960" y="4125600"/>
              <a:ext cx="1330920" cy="4590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0"/>
                  </a:moveTo>
                  <a:lnTo>
                    <a:pt x="7962" y="775"/>
                  </a:lnTo>
                  <a:lnTo>
                    <a:pt x="7833" y="1142"/>
                  </a:lnTo>
                  <a:lnTo>
                    <a:pt x="2840" y="2326"/>
                  </a:lnTo>
                  <a:lnTo>
                    <a:pt x="2696" y="2326"/>
                  </a:lnTo>
                  <a:lnTo>
                    <a:pt x="2568" y="2326"/>
                  </a:lnTo>
                  <a:lnTo>
                    <a:pt x="2696" y="2693"/>
                  </a:lnTo>
                  <a:lnTo>
                    <a:pt x="803" y="3469"/>
                  </a:lnTo>
                  <a:lnTo>
                    <a:pt x="674" y="3836"/>
                  </a:lnTo>
                  <a:lnTo>
                    <a:pt x="674" y="4612"/>
                  </a:lnTo>
                  <a:lnTo>
                    <a:pt x="674" y="4979"/>
                  </a:lnTo>
                  <a:lnTo>
                    <a:pt x="674" y="5387"/>
                  </a:lnTo>
                  <a:lnTo>
                    <a:pt x="674" y="5755"/>
                  </a:lnTo>
                  <a:lnTo>
                    <a:pt x="530" y="6530"/>
                  </a:lnTo>
                  <a:lnTo>
                    <a:pt x="400" y="6938"/>
                  </a:lnTo>
                  <a:lnTo>
                    <a:pt x="272" y="7673"/>
                  </a:lnTo>
                  <a:lnTo>
                    <a:pt x="272" y="8081"/>
                  </a:lnTo>
                  <a:lnTo>
                    <a:pt x="272" y="8857"/>
                  </a:lnTo>
                  <a:lnTo>
                    <a:pt x="272" y="9591"/>
                  </a:lnTo>
                  <a:lnTo>
                    <a:pt x="0" y="10000"/>
                  </a:lnTo>
                  <a:lnTo>
                    <a:pt x="2696" y="9591"/>
                  </a:lnTo>
                  <a:lnTo>
                    <a:pt x="5809" y="8448"/>
                  </a:lnTo>
                  <a:lnTo>
                    <a:pt x="7030" y="8081"/>
                  </a:lnTo>
                  <a:lnTo>
                    <a:pt x="7159" y="7306"/>
                  </a:lnTo>
                  <a:lnTo>
                    <a:pt x="7288" y="6938"/>
                  </a:lnTo>
                  <a:lnTo>
                    <a:pt x="7288" y="6530"/>
                  </a:lnTo>
                  <a:lnTo>
                    <a:pt x="7288" y="6162"/>
                  </a:lnTo>
                  <a:lnTo>
                    <a:pt x="7431" y="5755"/>
                  </a:lnTo>
                  <a:lnTo>
                    <a:pt x="7704" y="5387"/>
                  </a:lnTo>
                  <a:lnTo>
                    <a:pt x="7962" y="5387"/>
                  </a:lnTo>
                  <a:lnTo>
                    <a:pt x="8235" y="4612"/>
                  </a:lnTo>
                  <a:lnTo>
                    <a:pt x="8378" y="4612"/>
                  </a:lnTo>
                  <a:lnTo>
                    <a:pt x="8507" y="3836"/>
                  </a:lnTo>
                  <a:lnTo>
                    <a:pt x="8651" y="3836"/>
                  </a:lnTo>
                  <a:lnTo>
                    <a:pt x="8651" y="3469"/>
                  </a:lnTo>
                  <a:lnTo>
                    <a:pt x="8780" y="3469"/>
                  </a:lnTo>
                  <a:lnTo>
                    <a:pt x="8909" y="3061"/>
                  </a:lnTo>
                  <a:lnTo>
                    <a:pt x="9053" y="3469"/>
                  </a:lnTo>
                  <a:lnTo>
                    <a:pt x="9053" y="3061"/>
                  </a:lnTo>
                  <a:lnTo>
                    <a:pt x="9182" y="2693"/>
                  </a:lnTo>
                  <a:lnTo>
                    <a:pt x="9325" y="2693"/>
                  </a:lnTo>
                  <a:lnTo>
                    <a:pt x="9583" y="2693"/>
                  </a:lnTo>
                  <a:lnTo>
                    <a:pt x="9727" y="1551"/>
                  </a:lnTo>
                  <a:lnTo>
                    <a:pt x="10000" y="1142"/>
                  </a:lnTo>
                  <a:lnTo>
                    <a:pt x="10000" y="775"/>
                  </a:lnTo>
                  <a:lnTo>
                    <a:pt x="10000" y="367"/>
                  </a:ln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7"/>
            <p:cNvSpPr/>
            <p:nvPr/>
          </p:nvSpPr>
          <p:spPr>
            <a:xfrm>
              <a:off x="5979960" y="4125600"/>
              <a:ext cx="1330920" cy="4590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0"/>
                  </a:moveTo>
                  <a:lnTo>
                    <a:pt x="7962" y="775"/>
                  </a:lnTo>
                  <a:lnTo>
                    <a:pt x="7833" y="1142"/>
                  </a:lnTo>
                  <a:lnTo>
                    <a:pt x="2840" y="2326"/>
                  </a:lnTo>
                  <a:lnTo>
                    <a:pt x="2696" y="2326"/>
                  </a:lnTo>
                  <a:lnTo>
                    <a:pt x="2568" y="2326"/>
                  </a:lnTo>
                  <a:lnTo>
                    <a:pt x="2696" y="2693"/>
                  </a:lnTo>
                  <a:lnTo>
                    <a:pt x="803" y="3469"/>
                  </a:lnTo>
                  <a:lnTo>
                    <a:pt x="674" y="3836"/>
                  </a:lnTo>
                  <a:lnTo>
                    <a:pt x="674" y="4612"/>
                  </a:lnTo>
                  <a:lnTo>
                    <a:pt x="674" y="4979"/>
                  </a:lnTo>
                  <a:lnTo>
                    <a:pt x="674" y="5387"/>
                  </a:lnTo>
                  <a:lnTo>
                    <a:pt x="674" y="5755"/>
                  </a:lnTo>
                  <a:lnTo>
                    <a:pt x="530" y="6530"/>
                  </a:lnTo>
                  <a:lnTo>
                    <a:pt x="400" y="6938"/>
                  </a:lnTo>
                  <a:lnTo>
                    <a:pt x="272" y="7673"/>
                  </a:lnTo>
                  <a:lnTo>
                    <a:pt x="272" y="8081"/>
                  </a:lnTo>
                  <a:lnTo>
                    <a:pt x="272" y="8857"/>
                  </a:lnTo>
                  <a:lnTo>
                    <a:pt x="272" y="9591"/>
                  </a:lnTo>
                  <a:lnTo>
                    <a:pt x="0" y="10000"/>
                  </a:lnTo>
                  <a:lnTo>
                    <a:pt x="2696" y="9591"/>
                  </a:lnTo>
                  <a:lnTo>
                    <a:pt x="5809" y="8448"/>
                  </a:lnTo>
                  <a:lnTo>
                    <a:pt x="7030" y="8081"/>
                  </a:lnTo>
                  <a:lnTo>
                    <a:pt x="7159" y="7306"/>
                  </a:lnTo>
                  <a:lnTo>
                    <a:pt x="7288" y="6938"/>
                  </a:lnTo>
                  <a:lnTo>
                    <a:pt x="7288" y="6530"/>
                  </a:lnTo>
                  <a:lnTo>
                    <a:pt x="7288" y="6162"/>
                  </a:lnTo>
                  <a:lnTo>
                    <a:pt x="7431" y="5755"/>
                  </a:lnTo>
                  <a:lnTo>
                    <a:pt x="7704" y="5387"/>
                  </a:lnTo>
                  <a:lnTo>
                    <a:pt x="7962" y="5387"/>
                  </a:lnTo>
                  <a:lnTo>
                    <a:pt x="8235" y="4612"/>
                  </a:lnTo>
                  <a:lnTo>
                    <a:pt x="8378" y="4612"/>
                  </a:lnTo>
                  <a:lnTo>
                    <a:pt x="8507" y="3836"/>
                  </a:lnTo>
                  <a:lnTo>
                    <a:pt x="8651" y="3836"/>
                  </a:lnTo>
                  <a:lnTo>
                    <a:pt x="8651" y="3469"/>
                  </a:lnTo>
                  <a:lnTo>
                    <a:pt x="8780" y="3469"/>
                  </a:lnTo>
                  <a:lnTo>
                    <a:pt x="8909" y="3061"/>
                  </a:lnTo>
                  <a:lnTo>
                    <a:pt x="9053" y="3469"/>
                  </a:lnTo>
                  <a:lnTo>
                    <a:pt x="9053" y="3061"/>
                  </a:lnTo>
                  <a:lnTo>
                    <a:pt x="9182" y="2693"/>
                  </a:lnTo>
                  <a:lnTo>
                    <a:pt x="9325" y="2693"/>
                  </a:lnTo>
                  <a:lnTo>
                    <a:pt x="9583" y="2693"/>
                  </a:lnTo>
                  <a:lnTo>
                    <a:pt x="9727" y="1551"/>
                  </a:lnTo>
                  <a:lnTo>
                    <a:pt x="10000" y="1142"/>
                  </a:lnTo>
                  <a:lnTo>
                    <a:pt x="10000" y="775"/>
                  </a:lnTo>
                  <a:lnTo>
                    <a:pt x="10000" y="367"/>
                  </a:lnTo>
                  <a:lnTo>
                    <a:pt x="10000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78"/>
            <p:cNvSpPr/>
            <p:nvPr/>
          </p:nvSpPr>
          <p:spPr>
            <a:xfrm>
              <a:off x="6086880" y="3685320"/>
              <a:ext cx="1168560" cy="5994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2156" y="9406"/>
                  </a:lnTo>
                  <a:lnTo>
                    <a:pt x="2009" y="9125"/>
                  </a:lnTo>
                  <a:lnTo>
                    <a:pt x="2156" y="9125"/>
                  </a:lnTo>
                  <a:lnTo>
                    <a:pt x="2320" y="9125"/>
                  </a:lnTo>
                  <a:lnTo>
                    <a:pt x="8006" y="8218"/>
                  </a:lnTo>
                  <a:lnTo>
                    <a:pt x="8153" y="7937"/>
                  </a:lnTo>
                  <a:lnTo>
                    <a:pt x="8316" y="7937"/>
                  </a:lnTo>
                  <a:lnTo>
                    <a:pt x="8774" y="7343"/>
                  </a:lnTo>
                  <a:lnTo>
                    <a:pt x="8937" y="6750"/>
                  </a:lnTo>
                  <a:lnTo>
                    <a:pt x="9084" y="6468"/>
                  </a:lnTo>
                  <a:lnTo>
                    <a:pt x="9232" y="6156"/>
                  </a:lnTo>
                  <a:lnTo>
                    <a:pt x="9395" y="5875"/>
                  </a:lnTo>
                  <a:lnTo>
                    <a:pt x="10000" y="4687"/>
                  </a:lnTo>
                  <a:lnTo>
                    <a:pt x="10000" y="4092"/>
                  </a:lnTo>
                  <a:lnTo>
                    <a:pt x="9852" y="4092"/>
                  </a:lnTo>
                  <a:lnTo>
                    <a:pt x="9705" y="4092"/>
                  </a:lnTo>
                  <a:lnTo>
                    <a:pt x="9542" y="4092"/>
                  </a:lnTo>
                  <a:lnTo>
                    <a:pt x="9395" y="3531"/>
                  </a:lnTo>
                  <a:lnTo>
                    <a:pt x="9084" y="2937"/>
                  </a:lnTo>
                  <a:lnTo>
                    <a:pt x="9084" y="2625"/>
                  </a:lnTo>
                  <a:lnTo>
                    <a:pt x="9084" y="2343"/>
                  </a:lnTo>
                  <a:lnTo>
                    <a:pt x="9084" y="2062"/>
                  </a:lnTo>
                  <a:lnTo>
                    <a:pt x="9084" y="1750"/>
                  </a:lnTo>
                  <a:lnTo>
                    <a:pt x="8937" y="1468"/>
                  </a:lnTo>
                  <a:lnTo>
                    <a:pt x="8774" y="1156"/>
                  </a:lnTo>
                  <a:lnTo>
                    <a:pt x="8627" y="875"/>
                  </a:lnTo>
                  <a:lnTo>
                    <a:pt x="8464" y="875"/>
                  </a:lnTo>
                  <a:lnTo>
                    <a:pt x="8316" y="875"/>
                  </a:lnTo>
                  <a:lnTo>
                    <a:pt x="8316" y="1156"/>
                  </a:lnTo>
                  <a:lnTo>
                    <a:pt x="8006" y="1156"/>
                  </a:lnTo>
                  <a:lnTo>
                    <a:pt x="7696" y="875"/>
                  </a:lnTo>
                  <a:lnTo>
                    <a:pt x="7549" y="1468"/>
                  </a:lnTo>
                  <a:lnTo>
                    <a:pt x="7238" y="875"/>
                  </a:lnTo>
                  <a:lnTo>
                    <a:pt x="7091" y="875"/>
                  </a:lnTo>
                  <a:lnTo>
                    <a:pt x="6781" y="875"/>
                  </a:lnTo>
                  <a:lnTo>
                    <a:pt x="6617" y="562"/>
                  </a:lnTo>
                  <a:lnTo>
                    <a:pt x="6470" y="0"/>
                  </a:lnTo>
                  <a:lnTo>
                    <a:pt x="6306" y="281"/>
                  </a:lnTo>
                  <a:lnTo>
                    <a:pt x="6159" y="281"/>
                  </a:lnTo>
                  <a:lnTo>
                    <a:pt x="6012" y="0"/>
                  </a:lnTo>
                  <a:lnTo>
                    <a:pt x="5848" y="281"/>
                  </a:lnTo>
                  <a:lnTo>
                    <a:pt x="5848" y="562"/>
                  </a:lnTo>
                  <a:lnTo>
                    <a:pt x="6012" y="875"/>
                  </a:lnTo>
                  <a:lnTo>
                    <a:pt x="6012" y="1156"/>
                  </a:lnTo>
                  <a:lnTo>
                    <a:pt x="5701" y="1156"/>
                  </a:lnTo>
                  <a:lnTo>
                    <a:pt x="5539" y="1750"/>
                  </a:lnTo>
                  <a:lnTo>
                    <a:pt x="5392" y="1468"/>
                  </a:lnTo>
                  <a:lnTo>
                    <a:pt x="5245" y="1750"/>
                  </a:lnTo>
                  <a:lnTo>
                    <a:pt x="5245" y="2062"/>
                  </a:lnTo>
                  <a:lnTo>
                    <a:pt x="4770" y="3531"/>
                  </a:lnTo>
                  <a:lnTo>
                    <a:pt x="4623" y="4092"/>
                  </a:lnTo>
                  <a:lnTo>
                    <a:pt x="4312" y="4092"/>
                  </a:lnTo>
                  <a:lnTo>
                    <a:pt x="4166" y="3812"/>
                  </a:lnTo>
                  <a:lnTo>
                    <a:pt x="4003" y="3812"/>
                  </a:lnTo>
                  <a:lnTo>
                    <a:pt x="3856" y="4092"/>
                  </a:lnTo>
                  <a:lnTo>
                    <a:pt x="3856" y="4687"/>
                  </a:lnTo>
                  <a:lnTo>
                    <a:pt x="3692" y="5000"/>
                  </a:lnTo>
                  <a:lnTo>
                    <a:pt x="3545" y="4687"/>
                  </a:lnTo>
                  <a:lnTo>
                    <a:pt x="3545" y="4406"/>
                  </a:lnTo>
                  <a:lnTo>
                    <a:pt x="3234" y="4406"/>
                  </a:lnTo>
                  <a:lnTo>
                    <a:pt x="3234" y="5000"/>
                  </a:lnTo>
                  <a:lnTo>
                    <a:pt x="3087" y="5000"/>
                  </a:lnTo>
                  <a:lnTo>
                    <a:pt x="2777" y="4687"/>
                  </a:lnTo>
                  <a:lnTo>
                    <a:pt x="2320" y="5000"/>
                  </a:lnTo>
                  <a:lnTo>
                    <a:pt x="2156" y="5000"/>
                  </a:lnTo>
                  <a:lnTo>
                    <a:pt x="2009" y="5000"/>
                  </a:lnTo>
                  <a:lnTo>
                    <a:pt x="2156" y="5000"/>
                  </a:lnTo>
                  <a:lnTo>
                    <a:pt x="2009" y="5281"/>
                  </a:lnTo>
                  <a:lnTo>
                    <a:pt x="1846" y="5281"/>
                  </a:lnTo>
                  <a:lnTo>
                    <a:pt x="1699" y="5592"/>
                  </a:lnTo>
                  <a:lnTo>
                    <a:pt x="1699" y="5875"/>
                  </a:lnTo>
                  <a:lnTo>
                    <a:pt x="1846" y="6156"/>
                  </a:lnTo>
                  <a:lnTo>
                    <a:pt x="1388" y="6468"/>
                  </a:lnTo>
                  <a:lnTo>
                    <a:pt x="1241" y="6750"/>
                  </a:lnTo>
                  <a:lnTo>
                    <a:pt x="1241" y="7062"/>
                  </a:lnTo>
                  <a:lnTo>
                    <a:pt x="1388" y="7625"/>
                  </a:lnTo>
                  <a:lnTo>
                    <a:pt x="1241" y="7937"/>
                  </a:lnTo>
                  <a:lnTo>
                    <a:pt x="1078" y="7625"/>
                  </a:lnTo>
                  <a:lnTo>
                    <a:pt x="931" y="7343"/>
                  </a:lnTo>
                  <a:lnTo>
                    <a:pt x="620" y="7343"/>
                  </a:lnTo>
                  <a:lnTo>
                    <a:pt x="473" y="7343"/>
                  </a:lnTo>
                  <a:lnTo>
                    <a:pt x="473" y="8218"/>
                  </a:lnTo>
                  <a:lnTo>
                    <a:pt x="473" y="8531"/>
                  </a:lnTo>
                  <a:lnTo>
                    <a:pt x="473" y="9406"/>
                  </a:lnTo>
                  <a:lnTo>
                    <a:pt x="310" y="9406"/>
                  </a:lnTo>
                  <a:lnTo>
                    <a:pt x="163" y="9687"/>
                  </a:lnTo>
                  <a:lnTo>
                    <a:pt x="0" y="10000"/>
                  </a:lnTo>
                  <a:close/>
                  <a:moveTo>
                    <a:pt x="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79"/>
            <p:cNvSpPr/>
            <p:nvPr/>
          </p:nvSpPr>
          <p:spPr>
            <a:xfrm>
              <a:off x="6086880" y="3685320"/>
              <a:ext cx="1168560" cy="5994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2156" y="9406"/>
                  </a:lnTo>
                  <a:lnTo>
                    <a:pt x="2009" y="9125"/>
                  </a:lnTo>
                  <a:lnTo>
                    <a:pt x="2156" y="9125"/>
                  </a:lnTo>
                  <a:lnTo>
                    <a:pt x="2320" y="9125"/>
                  </a:lnTo>
                  <a:lnTo>
                    <a:pt x="8006" y="8218"/>
                  </a:lnTo>
                  <a:lnTo>
                    <a:pt x="8153" y="7937"/>
                  </a:lnTo>
                  <a:lnTo>
                    <a:pt x="8316" y="7937"/>
                  </a:lnTo>
                  <a:lnTo>
                    <a:pt x="8774" y="7343"/>
                  </a:lnTo>
                  <a:lnTo>
                    <a:pt x="8937" y="6750"/>
                  </a:lnTo>
                  <a:lnTo>
                    <a:pt x="9084" y="6468"/>
                  </a:lnTo>
                  <a:lnTo>
                    <a:pt x="9232" y="6156"/>
                  </a:lnTo>
                  <a:lnTo>
                    <a:pt x="9395" y="5875"/>
                  </a:lnTo>
                  <a:lnTo>
                    <a:pt x="10000" y="4687"/>
                  </a:lnTo>
                  <a:lnTo>
                    <a:pt x="10000" y="4092"/>
                  </a:lnTo>
                  <a:lnTo>
                    <a:pt x="9852" y="4092"/>
                  </a:lnTo>
                  <a:lnTo>
                    <a:pt x="9705" y="4092"/>
                  </a:lnTo>
                  <a:lnTo>
                    <a:pt x="9542" y="4092"/>
                  </a:lnTo>
                  <a:lnTo>
                    <a:pt x="9395" y="3531"/>
                  </a:lnTo>
                  <a:lnTo>
                    <a:pt x="9084" y="2937"/>
                  </a:lnTo>
                  <a:lnTo>
                    <a:pt x="9084" y="2625"/>
                  </a:lnTo>
                  <a:lnTo>
                    <a:pt x="9084" y="2343"/>
                  </a:lnTo>
                  <a:lnTo>
                    <a:pt x="9084" y="2062"/>
                  </a:lnTo>
                  <a:lnTo>
                    <a:pt x="9084" y="1750"/>
                  </a:lnTo>
                  <a:lnTo>
                    <a:pt x="8937" y="1468"/>
                  </a:lnTo>
                  <a:lnTo>
                    <a:pt x="8774" y="1156"/>
                  </a:lnTo>
                  <a:lnTo>
                    <a:pt x="8627" y="875"/>
                  </a:lnTo>
                  <a:lnTo>
                    <a:pt x="8464" y="875"/>
                  </a:lnTo>
                  <a:lnTo>
                    <a:pt x="8316" y="875"/>
                  </a:lnTo>
                  <a:lnTo>
                    <a:pt x="8316" y="1156"/>
                  </a:lnTo>
                  <a:lnTo>
                    <a:pt x="8006" y="1156"/>
                  </a:lnTo>
                  <a:lnTo>
                    <a:pt x="7696" y="875"/>
                  </a:lnTo>
                  <a:lnTo>
                    <a:pt x="7549" y="1468"/>
                  </a:lnTo>
                  <a:lnTo>
                    <a:pt x="7238" y="875"/>
                  </a:lnTo>
                  <a:lnTo>
                    <a:pt x="7091" y="875"/>
                  </a:lnTo>
                  <a:lnTo>
                    <a:pt x="6781" y="875"/>
                  </a:lnTo>
                  <a:lnTo>
                    <a:pt x="6617" y="562"/>
                  </a:lnTo>
                  <a:lnTo>
                    <a:pt x="6470" y="0"/>
                  </a:lnTo>
                  <a:lnTo>
                    <a:pt x="6306" y="281"/>
                  </a:lnTo>
                  <a:lnTo>
                    <a:pt x="6159" y="281"/>
                  </a:lnTo>
                  <a:lnTo>
                    <a:pt x="6012" y="0"/>
                  </a:lnTo>
                  <a:lnTo>
                    <a:pt x="5848" y="281"/>
                  </a:lnTo>
                  <a:lnTo>
                    <a:pt x="5848" y="562"/>
                  </a:lnTo>
                  <a:lnTo>
                    <a:pt x="6012" y="875"/>
                  </a:lnTo>
                  <a:lnTo>
                    <a:pt x="6012" y="1156"/>
                  </a:lnTo>
                  <a:lnTo>
                    <a:pt x="5701" y="1156"/>
                  </a:lnTo>
                  <a:lnTo>
                    <a:pt x="5539" y="1750"/>
                  </a:lnTo>
                  <a:lnTo>
                    <a:pt x="5392" y="1468"/>
                  </a:lnTo>
                  <a:lnTo>
                    <a:pt x="5245" y="1750"/>
                  </a:lnTo>
                  <a:lnTo>
                    <a:pt x="5245" y="2062"/>
                  </a:lnTo>
                  <a:lnTo>
                    <a:pt x="4770" y="3531"/>
                  </a:lnTo>
                  <a:lnTo>
                    <a:pt x="4623" y="4092"/>
                  </a:lnTo>
                  <a:lnTo>
                    <a:pt x="4312" y="4092"/>
                  </a:lnTo>
                  <a:lnTo>
                    <a:pt x="4166" y="3812"/>
                  </a:lnTo>
                  <a:lnTo>
                    <a:pt x="4003" y="3812"/>
                  </a:lnTo>
                  <a:lnTo>
                    <a:pt x="3856" y="4092"/>
                  </a:lnTo>
                  <a:lnTo>
                    <a:pt x="3856" y="4687"/>
                  </a:lnTo>
                  <a:lnTo>
                    <a:pt x="3692" y="5000"/>
                  </a:lnTo>
                  <a:lnTo>
                    <a:pt x="3545" y="4687"/>
                  </a:lnTo>
                  <a:lnTo>
                    <a:pt x="3545" y="4406"/>
                  </a:lnTo>
                  <a:lnTo>
                    <a:pt x="3234" y="4406"/>
                  </a:lnTo>
                  <a:lnTo>
                    <a:pt x="3234" y="5000"/>
                  </a:lnTo>
                  <a:lnTo>
                    <a:pt x="3087" y="5000"/>
                  </a:lnTo>
                  <a:lnTo>
                    <a:pt x="2777" y="4687"/>
                  </a:lnTo>
                  <a:lnTo>
                    <a:pt x="2320" y="5000"/>
                  </a:lnTo>
                  <a:lnTo>
                    <a:pt x="2156" y="5000"/>
                  </a:lnTo>
                  <a:lnTo>
                    <a:pt x="2009" y="5000"/>
                  </a:lnTo>
                  <a:lnTo>
                    <a:pt x="2156" y="5000"/>
                  </a:lnTo>
                  <a:lnTo>
                    <a:pt x="2009" y="5281"/>
                  </a:lnTo>
                  <a:lnTo>
                    <a:pt x="1846" y="5281"/>
                  </a:lnTo>
                  <a:lnTo>
                    <a:pt x="1699" y="5592"/>
                  </a:lnTo>
                  <a:lnTo>
                    <a:pt x="1699" y="5875"/>
                  </a:lnTo>
                  <a:lnTo>
                    <a:pt x="1846" y="6156"/>
                  </a:lnTo>
                  <a:lnTo>
                    <a:pt x="1388" y="6468"/>
                  </a:lnTo>
                  <a:lnTo>
                    <a:pt x="1241" y="6750"/>
                  </a:lnTo>
                  <a:lnTo>
                    <a:pt x="1241" y="7062"/>
                  </a:lnTo>
                  <a:lnTo>
                    <a:pt x="1388" y="7625"/>
                  </a:lnTo>
                  <a:lnTo>
                    <a:pt x="1241" y="7937"/>
                  </a:lnTo>
                  <a:lnTo>
                    <a:pt x="1078" y="7625"/>
                  </a:lnTo>
                  <a:lnTo>
                    <a:pt x="931" y="7343"/>
                  </a:lnTo>
                  <a:lnTo>
                    <a:pt x="620" y="7343"/>
                  </a:lnTo>
                  <a:lnTo>
                    <a:pt x="473" y="7343"/>
                  </a:lnTo>
                  <a:lnTo>
                    <a:pt x="473" y="8218"/>
                  </a:lnTo>
                  <a:lnTo>
                    <a:pt x="473" y="8531"/>
                  </a:lnTo>
                  <a:lnTo>
                    <a:pt x="473" y="9406"/>
                  </a:lnTo>
                  <a:lnTo>
                    <a:pt x="310" y="9406"/>
                  </a:lnTo>
                  <a:lnTo>
                    <a:pt x="163" y="9687"/>
                  </a:lnTo>
                  <a:lnTo>
                    <a:pt x="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0"/>
            <p:cNvSpPr/>
            <p:nvPr/>
          </p:nvSpPr>
          <p:spPr>
            <a:xfrm>
              <a:off x="6302880" y="3173400"/>
              <a:ext cx="486360" cy="828360"/>
            </a:xfrm>
            <a:custGeom>
              <a:avLst/>
              <a:gdLst>
                <a:gd name="textAreaLeft" fmla="*/ 0 w 486360"/>
                <a:gd name="textAreaRight" fmla="*/ 486360 w 486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392" y="632"/>
                  </a:moveTo>
                  <a:lnTo>
                    <a:pt x="1137" y="6176"/>
                  </a:lnTo>
                  <a:lnTo>
                    <a:pt x="745" y="6176"/>
                  </a:lnTo>
                  <a:lnTo>
                    <a:pt x="745" y="6583"/>
                  </a:lnTo>
                  <a:lnTo>
                    <a:pt x="745" y="6809"/>
                  </a:lnTo>
                  <a:lnTo>
                    <a:pt x="1137" y="7239"/>
                  </a:lnTo>
                  <a:lnTo>
                    <a:pt x="1489" y="7669"/>
                  </a:lnTo>
                  <a:lnTo>
                    <a:pt x="745" y="8303"/>
                  </a:lnTo>
                  <a:lnTo>
                    <a:pt x="745" y="8733"/>
                  </a:lnTo>
                  <a:lnTo>
                    <a:pt x="0" y="9140"/>
                  </a:lnTo>
                  <a:lnTo>
                    <a:pt x="0" y="9366"/>
                  </a:lnTo>
                  <a:lnTo>
                    <a:pt x="0" y="9796"/>
                  </a:lnTo>
                  <a:lnTo>
                    <a:pt x="0" y="10000"/>
                  </a:lnTo>
                  <a:lnTo>
                    <a:pt x="392" y="10000"/>
                  </a:lnTo>
                  <a:lnTo>
                    <a:pt x="745" y="9796"/>
                  </a:lnTo>
                  <a:lnTo>
                    <a:pt x="392" y="9796"/>
                  </a:lnTo>
                  <a:lnTo>
                    <a:pt x="745" y="9796"/>
                  </a:lnTo>
                  <a:lnTo>
                    <a:pt x="1137" y="9796"/>
                  </a:lnTo>
                  <a:lnTo>
                    <a:pt x="2235" y="9570"/>
                  </a:lnTo>
                  <a:lnTo>
                    <a:pt x="2980" y="9796"/>
                  </a:lnTo>
                  <a:lnTo>
                    <a:pt x="3333" y="9796"/>
                  </a:lnTo>
                  <a:lnTo>
                    <a:pt x="3333" y="9366"/>
                  </a:lnTo>
                  <a:lnTo>
                    <a:pt x="4078" y="9366"/>
                  </a:lnTo>
                  <a:lnTo>
                    <a:pt x="4078" y="9570"/>
                  </a:lnTo>
                  <a:lnTo>
                    <a:pt x="4431" y="9796"/>
                  </a:lnTo>
                  <a:lnTo>
                    <a:pt x="4823" y="9570"/>
                  </a:lnTo>
                  <a:lnTo>
                    <a:pt x="4823" y="9140"/>
                  </a:lnTo>
                  <a:lnTo>
                    <a:pt x="5176" y="8936"/>
                  </a:lnTo>
                  <a:lnTo>
                    <a:pt x="5567" y="8936"/>
                  </a:lnTo>
                  <a:lnTo>
                    <a:pt x="5920" y="9140"/>
                  </a:lnTo>
                  <a:lnTo>
                    <a:pt x="6666" y="9140"/>
                  </a:lnTo>
                  <a:lnTo>
                    <a:pt x="7019" y="8733"/>
                  </a:lnTo>
                  <a:lnTo>
                    <a:pt x="8156" y="7669"/>
                  </a:lnTo>
                  <a:lnTo>
                    <a:pt x="8156" y="7443"/>
                  </a:lnTo>
                  <a:lnTo>
                    <a:pt x="8509" y="7239"/>
                  </a:lnTo>
                  <a:lnTo>
                    <a:pt x="8862" y="7443"/>
                  </a:lnTo>
                  <a:lnTo>
                    <a:pt x="9254" y="7013"/>
                  </a:lnTo>
                  <a:lnTo>
                    <a:pt x="10000" y="7013"/>
                  </a:lnTo>
                  <a:lnTo>
                    <a:pt x="10000" y="6809"/>
                  </a:lnTo>
                  <a:lnTo>
                    <a:pt x="9607" y="6583"/>
                  </a:lnTo>
                  <a:lnTo>
                    <a:pt x="9607" y="6380"/>
                  </a:lnTo>
                  <a:lnTo>
                    <a:pt x="10000" y="6176"/>
                  </a:lnTo>
                  <a:lnTo>
                    <a:pt x="8862" y="0"/>
                  </a:lnTo>
                  <a:lnTo>
                    <a:pt x="8509" y="0"/>
                  </a:lnTo>
                  <a:lnTo>
                    <a:pt x="2235" y="407"/>
                  </a:lnTo>
                  <a:lnTo>
                    <a:pt x="1489" y="632"/>
                  </a:lnTo>
                  <a:lnTo>
                    <a:pt x="1137" y="632"/>
                  </a:lnTo>
                  <a:lnTo>
                    <a:pt x="745" y="632"/>
                  </a:lnTo>
                  <a:lnTo>
                    <a:pt x="392" y="632"/>
                  </a:lnTo>
                  <a:close/>
                  <a:moveTo>
                    <a:pt x="392" y="63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1"/>
            <p:cNvSpPr/>
            <p:nvPr/>
          </p:nvSpPr>
          <p:spPr>
            <a:xfrm>
              <a:off x="6302880" y="3173400"/>
              <a:ext cx="486360" cy="828360"/>
            </a:xfrm>
            <a:custGeom>
              <a:avLst/>
              <a:gdLst>
                <a:gd name="textAreaLeft" fmla="*/ 0 w 486360"/>
                <a:gd name="textAreaRight" fmla="*/ 486360 w 486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392" y="632"/>
                  </a:moveTo>
                  <a:lnTo>
                    <a:pt x="1137" y="6176"/>
                  </a:lnTo>
                  <a:lnTo>
                    <a:pt x="745" y="6176"/>
                  </a:lnTo>
                  <a:lnTo>
                    <a:pt x="745" y="6583"/>
                  </a:lnTo>
                  <a:lnTo>
                    <a:pt x="745" y="6809"/>
                  </a:lnTo>
                  <a:lnTo>
                    <a:pt x="1137" y="7239"/>
                  </a:lnTo>
                  <a:lnTo>
                    <a:pt x="1489" y="7669"/>
                  </a:lnTo>
                  <a:lnTo>
                    <a:pt x="745" y="8303"/>
                  </a:lnTo>
                  <a:lnTo>
                    <a:pt x="745" y="8733"/>
                  </a:lnTo>
                  <a:lnTo>
                    <a:pt x="0" y="9140"/>
                  </a:lnTo>
                  <a:lnTo>
                    <a:pt x="0" y="9366"/>
                  </a:lnTo>
                  <a:lnTo>
                    <a:pt x="0" y="9796"/>
                  </a:lnTo>
                  <a:lnTo>
                    <a:pt x="0" y="10000"/>
                  </a:lnTo>
                  <a:lnTo>
                    <a:pt x="392" y="10000"/>
                  </a:lnTo>
                  <a:lnTo>
                    <a:pt x="745" y="9796"/>
                  </a:lnTo>
                  <a:lnTo>
                    <a:pt x="392" y="9796"/>
                  </a:lnTo>
                  <a:lnTo>
                    <a:pt x="745" y="9796"/>
                  </a:lnTo>
                  <a:lnTo>
                    <a:pt x="1137" y="9796"/>
                  </a:lnTo>
                  <a:lnTo>
                    <a:pt x="2235" y="9570"/>
                  </a:lnTo>
                  <a:lnTo>
                    <a:pt x="2980" y="9796"/>
                  </a:lnTo>
                  <a:lnTo>
                    <a:pt x="3333" y="9796"/>
                  </a:lnTo>
                  <a:lnTo>
                    <a:pt x="3333" y="9366"/>
                  </a:lnTo>
                  <a:lnTo>
                    <a:pt x="4078" y="9366"/>
                  </a:lnTo>
                  <a:lnTo>
                    <a:pt x="4078" y="9570"/>
                  </a:lnTo>
                  <a:lnTo>
                    <a:pt x="4431" y="9796"/>
                  </a:lnTo>
                  <a:lnTo>
                    <a:pt x="4823" y="9570"/>
                  </a:lnTo>
                  <a:lnTo>
                    <a:pt x="4823" y="9140"/>
                  </a:lnTo>
                  <a:lnTo>
                    <a:pt x="5176" y="8936"/>
                  </a:lnTo>
                  <a:lnTo>
                    <a:pt x="5567" y="8936"/>
                  </a:lnTo>
                  <a:lnTo>
                    <a:pt x="5920" y="9140"/>
                  </a:lnTo>
                  <a:lnTo>
                    <a:pt x="6666" y="9140"/>
                  </a:lnTo>
                  <a:lnTo>
                    <a:pt x="7019" y="8733"/>
                  </a:lnTo>
                  <a:lnTo>
                    <a:pt x="8156" y="7669"/>
                  </a:lnTo>
                  <a:lnTo>
                    <a:pt x="8156" y="7443"/>
                  </a:lnTo>
                  <a:lnTo>
                    <a:pt x="8509" y="7239"/>
                  </a:lnTo>
                  <a:lnTo>
                    <a:pt x="8862" y="7443"/>
                  </a:lnTo>
                  <a:lnTo>
                    <a:pt x="9254" y="7013"/>
                  </a:lnTo>
                  <a:lnTo>
                    <a:pt x="10000" y="7013"/>
                  </a:lnTo>
                  <a:lnTo>
                    <a:pt x="10000" y="6809"/>
                  </a:lnTo>
                  <a:lnTo>
                    <a:pt x="9607" y="6583"/>
                  </a:lnTo>
                  <a:lnTo>
                    <a:pt x="9607" y="6380"/>
                  </a:lnTo>
                  <a:lnTo>
                    <a:pt x="10000" y="6176"/>
                  </a:lnTo>
                  <a:lnTo>
                    <a:pt x="8862" y="0"/>
                  </a:lnTo>
                  <a:lnTo>
                    <a:pt x="8509" y="0"/>
                  </a:lnTo>
                  <a:lnTo>
                    <a:pt x="2235" y="407"/>
                  </a:lnTo>
                  <a:lnTo>
                    <a:pt x="1489" y="632"/>
                  </a:lnTo>
                  <a:lnTo>
                    <a:pt x="1137" y="632"/>
                  </a:lnTo>
                  <a:lnTo>
                    <a:pt x="745" y="632"/>
                  </a:lnTo>
                  <a:lnTo>
                    <a:pt x="392" y="63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2"/>
            <p:cNvSpPr/>
            <p:nvPr/>
          </p:nvSpPr>
          <p:spPr>
            <a:xfrm>
              <a:off x="6734160" y="3031200"/>
              <a:ext cx="647280" cy="7588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876"/>
                  </a:moveTo>
                  <a:lnTo>
                    <a:pt x="855" y="8617"/>
                  </a:lnTo>
                  <a:lnTo>
                    <a:pt x="1120" y="8839"/>
                  </a:lnTo>
                  <a:lnTo>
                    <a:pt x="1386" y="8839"/>
                  </a:lnTo>
                  <a:lnTo>
                    <a:pt x="1681" y="8617"/>
                  </a:lnTo>
                  <a:lnTo>
                    <a:pt x="1946" y="9061"/>
                  </a:lnTo>
                  <a:lnTo>
                    <a:pt x="2241" y="9308"/>
                  </a:lnTo>
                  <a:lnTo>
                    <a:pt x="2802" y="9308"/>
                  </a:lnTo>
                  <a:lnTo>
                    <a:pt x="3067" y="9308"/>
                  </a:lnTo>
                  <a:lnTo>
                    <a:pt x="3628" y="9777"/>
                  </a:lnTo>
                  <a:lnTo>
                    <a:pt x="3892" y="9308"/>
                  </a:lnTo>
                  <a:lnTo>
                    <a:pt x="4454" y="9530"/>
                  </a:lnTo>
                  <a:lnTo>
                    <a:pt x="5014" y="9530"/>
                  </a:lnTo>
                  <a:lnTo>
                    <a:pt x="5014" y="9308"/>
                  </a:lnTo>
                  <a:lnTo>
                    <a:pt x="5280" y="9308"/>
                  </a:lnTo>
                  <a:lnTo>
                    <a:pt x="5575" y="9308"/>
                  </a:lnTo>
                  <a:lnTo>
                    <a:pt x="5840" y="9530"/>
                  </a:lnTo>
                  <a:lnTo>
                    <a:pt x="6134" y="9777"/>
                  </a:lnTo>
                  <a:lnTo>
                    <a:pt x="6401" y="10000"/>
                  </a:lnTo>
                  <a:lnTo>
                    <a:pt x="6666" y="10000"/>
                  </a:lnTo>
                  <a:lnTo>
                    <a:pt x="6961" y="9530"/>
                  </a:lnTo>
                  <a:lnTo>
                    <a:pt x="6961" y="9308"/>
                  </a:lnTo>
                  <a:lnTo>
                    <a:pt x="7227" y="9308"/>
                  </a:lnTo>
                  <a:lnTo>
                    <a:pt x="6961" y="8839"/>
                  </a:lnTo>
                  <a:lnTo>
                    <a:pt x="7227" y="8148"/>
                  </a:lnTo>
                  <a:lnTo>
                    <a:pt x="7522" y="8148"/>
                  </a:lnTo>
                  <a:lnTo>
                    <a:pt x="7787" y="8370"/>
                  </a:lnTo>
                  <a:lnTo>
                    <a:pt x="8053" y="8370"/>
                  </a:lnTo>
                  <a:lnTo>
                    <a:pt x="8053" y="7901"/>
                  </a:lnTo>
                  <a:lnTo>
                    <a:pt x="8053" y="7456"/>
                  </a:lnTo>
                  <a:lnTo>
                    <a:pt x="8348" y="7456"/>
                  </a:lnTo>
                  <a:lnTo>
                    <a:pt x="8348" y="7209"/>
                  </a:lnTo>
                  <a:lnTo>
                    <a:pt x="8613" y="6987"/>
                  </a:lnTo>
                  <a:lnTo>
                    <a:pt x="8908" y="6987"/>
                  </a:lnTo>
                  <a:lnTo>
                    <a:pt x="9174" y="6987"/>
                  </a:lnTo>
                  <a:lnTo>
                    <a:pt x="9174" y="6740"/>
                  </a:lnTo>
                  <a:lnTo>
                    <a:pt x="9734" y="6518"/>
                  </a:lnTo>
                  <a:lnTo>
                    <a:pt x="10000" y="6048"/>
                  </a:lnTo>
                  <a:lnTo>
                    <a:pt x="10000" y="5826"/>
                  </a:lnTo>
                  <a:lnTo>
                    <a:pt x="10000" y="5580"/>
                  </a:lnTo>
                  <a:lnTo>
                    <a:pt x="10000" y="5358"/>
                  </a:lnTo>
                  <a:lnTo>
                    <a:pt x="10000" y="4419"/>
                  </a:lnTo>
                  <a:lnTo>
                    <a:pt x="9734" y="4197"/>
                  </a:lnTo>
                  <a:lnTo>
                    <a:pt x="10000" y="3950"/>
                  </a:lnTo>
                  <a:lnTo>
                    <a:pt x="10000" y="3728"/>
                  </a:lnTo>
                  <a:lnTo>
                    <a:pt x="10000" y="3481"/>
                  </a:lnTo>
                  <a:lnTo>
                    <a:pt x="9469" y="0"/>
                  </a:lnTo>
                  <a:lnTo>
                    <a:pt x="8348" y="691"/>
                  </a:lnTo>
                  <a:lnTo>
                    <a:pt x="7787" y="938"/>
                  </a:lnTo>
                  <a:lnTo>
                    <a:pt x="7522" y="938"/>
                  </a:lnTo>
                  <a:lnTo>
                    <a:pt x="6961" y="1876"/>
                  </a:lnTo>
                  <a:lnTo>
                    <a:pt x="6666" y="1876"/>
                  </a:lnTo>
                  <a:lnTo>
                    <a:pt x="6401" y="1876"/>
                  </a:lnTo>
                  <a:lnTo>
                    <a:pt x="6134" y="1876"/>
                  </a:lnTo>
                  <a:lnTo>
                    <a:pt x="5840" y="1876"/>
                  </a:lnTo>
                  <a:lnTo>
                    <a:pt x="5280" y="2098"/>
                  </a:lnTo>
                  <a:lnTo>
                    <a:pt x="5014" y="2098"/>
                  </a:lnTo>
                  <a:lnTo>
                    <a:pt x="4719" y="2098"/>
                  </a:lnTo>
                  <a:lnTo>
                    <a:pt x="4454" y="2098"/>
                  </a:lnTo>
                  <a:lnTo>
                    <a:pt x="4454" y="1876"/>
                  </a:lnTo>
                  <a:lnTo>
                    <a:pt x="3892" y="1876"/>
                  </a:lnTo>
                  <a:lnTo>
                    <a:pt x="3333" y="1629"/>
                  </a:lnTo>
                  <a:lnTo>
                    <a:pt x="3067" y="1629"/>
                  </a:lnTo>
                  <a:lnTo>
                    <a:pt x="0" y="1876"/>
                  </a:lnTo>
                  <a:close/>
                  <a:moveTo>
                    <a:pt x="0" y="187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3"/>
            <p:cNvSpPr/>
            <p:nvPr/>
          </p:nvSpPr>
          <p:spPr>
            <a:xfrm>
              <a:off x="6734160" y="3031200"/>
              <a:ext cx="647280" cy="7588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876"/>
                  </a:moveTo>
                  <a:lnTo>
                    <a:pt x="855" y="8617"/>
                  </a:lnTo>
                  <a:lnTo>
                    <a:pt x="1120" y="8839"/>
                  </a:lnTo>
                  <a:lnTo>
                    <a:pt x="1386" y="8839"/>
                  </a:lnTo>
                  <a:lnTo>
                    <a:pt x="1681" y="8617"/>
                  </a:lnTo>
                  <a:lnTo>
                    <a:pt x="1946" y="9061"/>
                  </a:lnTo>
                  <a:lnTo>
                    <a:pt x="2241" y="9308"/>
                  </a:lnTo>
                  <a:lnTo>
                    <a:pt x="2802" y="9308"/>
                  </a:lnTo>
                  <a:lnTo>
                    <a:pt x="3067" y="9308"/>
                  </a:lnTo>
                  <a:lnTo>
                    <a:pt x="3628" y="9777"/>
                  </a:lnTo>
                  <a:lnTo>
                    <a:pt x="3892" y="9308"/>
                  </a:lnTo>
                  <a:lnTo>
                    <a:pt x="4454" y="9530"/>
                  </a:lnTo>
                  <a:lnTo>
                    <a:pt x="5014" y="9530"/>
                  </a:lnTo>
                  <a:lnTo>
                    <a:pt x="5014" y="9308"/>
                  </a:lnTo>
                  <a:lnTo>
                    <a:pt x="5280" y="9308"/>
                  </a:lnTo>
                  <a:lnTo>
                    <a:pt x="5575" y="9308"/>
                  </a:lnTo>
                  <a:lnTo>
                    <a:pt x="5840" y="9530"/>
                  </a:lnTo>
                  <a:lnTo>
                    <a:pt x="6134" y="9777"/>
                  </a:lnTo>
                  <a:lnTo>
                    <a:pt x="6401" y="10000"/>
                  </a:lnTo>
                  <a:lnTo>
                    <a:pt x="6666" y="10000"/>
                  </a:lnTo>
                  <a:lnTo>
                    <a:pt x="6961" y="9530"/>
                  </a:lnTo>
                  <a:lnTo>
                    <a:pt x="6961" y="9308"/>
                  </a:lnTo>
                  <a:lnTo>
                    <a:pt x="7227" y="9308"/>
                  </a:lnTo>
                  <a:lnTo>
                    <a:pt x="6961" y="8839"/>
                  </a:lnTo>
                  <a:lnTo>
                    <a:pt x="7227" y="8148"/>
                  </a:lnTo>
                  <a:lnTo>
                    <a:pt x="7522" y="8148"/>
                  </a:lnTo>
                  <a:lnTo>
                    <a:pt x="7787" y="8370"/>
                  </a:lnTo>
                  <a:lnTo>
                    <a:pt x="8053" y="8370"/>
                  </a:lnTo>
                  <a:lnTo>
                    <a:pt x="8053" y="7901"/>
                  </a:lnTo>
                  <a:lnTo>
                    <a:pt x="8053" y="7456"/>
                  </a:lnTo>
                  <a:lnTo>
                    <a:pt x="8348" y="7456"/>
                  </a:lnTo>
                  <a:lnTo>
                    <a:pt x="8348" y="7209"/>
                  </a:lnTo>
                  <a:lnTo>
                    <a:pt x="8613" y="6987"/>
                  </a:lnTo>
                  <a:lnTo>
                    <a:pt x="8908" y="6987"/>
                  </a:lnTo>
                  <a:lnTo>
                    <a:pt x="9174" y="6987"/>
                  </a:lnTo>
                  <a:lnTo>
                    <a:pt x="9174" y="6740"/>
                  </a:lnTo>
                  <a:lnTo>
                    <a:pt x="9734" y="6518"/>
                  </a:lnTo>
                  <a:lnTo>
                    <a:pt x="10000" y="6048"/>
                  </a:lnTo>
                  <a:lnTo>
                    <a:pt x="10000" y="5826"/>
                  </a:lnTo>
                  <a:lnTo>
                    <a:pt x="10000" y="5580"/>
                  </a:lnTo>
                  <a:lnTo>
                    <a:pt x="10000" y="5358"/>
                  </a:lnTo>
                  <a:lnTo>
                    <a:pt x="10000" y="4419"/>
                  </a:lnTo>
                  <a:lnTo>
                    <a:pt x="9734" y="4197"/>
                  </a:lnTo>
                  <a:lnTo>
                    <a:pt x="10000" y="3950"/>
                  </a:lnTo>
                  <a:lnTo>
                    <a:pt x="10000" y="3728"/>
                  </a:lnTo>
                  <a:lnTo>
                    <a:pt x="10000" y="3481"/>
                  </a:lnTo>
                  <a:lnTo>
                    <a:pt x="9469" y="0"/>
                  </a:lnTo>
                  <a:lnTo>
                    <a:pt x="8348" y="691"/>
                  </a:lnTo>
                  <a:lnTo>
                    <a:pt x="7787" y="938"/>
                  </a:lnTo>
                  <a:lnTo>
                    <a:pt x="7522" y="938"/>
                  </a:lnTo>
                  <a:lnTo>
                    <a:pt x="6961" y="1876"/>
                  </a:lnTo>
                  <a:lnTo>
                    <a:pt x="6666" y="1876"/>
                  </a:lnTo>
                  <a:lnTo>
                    <a:pt x="6401" y="1876"/>
                  </a:lnTo>
                  <a:lnTo>
                    <a:pt x="6134" y="1876"/>
                  </a:lnTo>
                  <a:lnTo>
                    <a:pt x="5840" y="1876"/>
                  </a:lnTo>
                  <a:lnTo>
                    <a:pt x="5280" y="2098"/>
                  </a:lnTo>
                  <a:lnTo>
                    <a:pt x="5014" y="2098"/>
                  </a:lnTo>
                  <a:lnTo>
                    <a:pt x="4719" y="2098"/>
                  </a:lnTo>
                  <a:lnTo>
                    <a:pt x="4454" y="2098"/>
                  </a:lnTo>
                  <a:lnTo>
                    <a:pt x="4454" y="1876"/>
                  </a:lnTo>
                  <a:lnTo>
                    <a:pt x="3892" y="1876"/>
                  </a:lnTo>
                  <a:lnTo>
                    <a:pt x="3333" y="1629"/>
                  </a:lnTo>
                  <a:lnTo>
                    <a:pt x="3067" y="1629"/>
                  </a:lnTo>
                  <a:lnTo>
                    <a:pt x="0" y="187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4"/>
            <p:cNvSpPr/>
            <p:nvPr/>
          </p:nvSpPr>
          <p:spPr>
            <a:xfrm>
              <a:off x="7148520" y="3295080"/>
              <a:ext cx="720000" cy="7066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36" y="0"/>
                  </a:moveTo>
                  <a:lnTo>
                    <a:pt x="3236" y="264"/>
                  </a:lnTo>
                  <a:lnTo>
                    <a:pt x="3236" y="503"/>
                  </a:lnTo>
                  <a:lnTo>
                    <a:pt x="2997" y="769"/>
                  </a:lnTo>
                  <a:lnTo>
                    <a:pt x="3236" y="1007"/>
                  </a:lnTo>
                  <a:lnTo>
                    <a:pt x="3236" y="2014"/>
                  </a:lnTo>
                  <a:lnTo>
                    <a:pt x="3236" y="2254"/>
                  </a:lnTo>
                  <a:lnTo>
                    <a:pt x="3236" y="2519"/>
                  </a:lnTo>
                  <a:lnTo>
                    <a:pt x="3236" y="2758"/>
                  </a:lnTo>
                  <a:lnTo>
                    <a:pt x="2997" y="3262"/>
                  </a:lnTo>
                  <a:lnTo>
                    <a:pt x="2493" y="3501"/>
                  </a:lnTo>
                  <a:lnTo>
                    <a:pt x="2493" y="3766"/>
                  </a:lnTo>
                  <a:lnTo>
                    <a:pt x="2254" y="3766"/>
                  </a:lnTo>
                  <a:lnTo>
                    <a:pt x="1989" y="3766"/>
                  </a:lnTo>
                  <a:lnTo>
                    <a:pt x="1750" y="4005"/>
                  </a:lnTo>
                  <a:lnTo>
                    <a:pt x="1750" y="4270"/>
                  </a:lnTo>
                  <a:lnTo>
                    <a:pt x="1485" y="4270"/>
                  </a:lnTo>
                  <a:lnTo>
                    <a:pt x="1485" y="4748"/>
                  </a:lnTo>
                  <a:lnTo>
                    <a:pt x="1485" y="5251"/>
                  </a:lnTo>
                  <a:lnTo>
                    <a:pt x="1246" y="5251"/>
                  </a:lnTo>
                  <a:lnTo>
                    <a:pt x="1007" y="5012"/>
                  </a:lnTo>
                  <a:lnTo>
                    <a:pt x="742" y="5012"/>
                  </a:lnTo>
                  <a:lnTo>
                    <a:pt x="503" y="5755"/>
                  </a:lnTo>
                  <a:lnTo>
                    <a:pt x="742" y="6259"/>
                  </a:lnTo>
                  <a:lnTo>
                    <a:pt x="503" y="6259"/>
                  </a:lnTo>
                  <a:lnTo>
                    <a:pt x="503" y="6498"/>
                  </a:lnTo>
                  <a:lnTo>
                    <a:pt x="238" y="7002"/>
                  </a:lnTo>
                  <a:lnTo>
                    <a:pt x="0" y="7002"/>
                  </a:lnTo>
                  <a:lnTo>
                    <a:pt x="0" y="7267"/>
                  </a:lnTo>
                  <a:lnTo>
                    <a:pt x="0" y="7506"/>
                  </a:lnTo>
                  <a:lnTo>
                    <a:pt x="0" y="7745"/>
                  </a:lnTo>
                  <a:lnTo>
                    <a:pt x="0" y="8010"/>
                  </a:lnTo>
                  <a:lnTo>
                    <a:pt x="503" y="8514"/>
                  </a:lnTo>
                  <a:lnTo>
                    <a:pt x="742" y="8992"/>
                  </a:lnTo>
                  <a:lnTo>
                    <a:pt x="1007" y="8992"/>
                  </a:lnTo>
                  <a:lnTo>
                    <a:pt x="1246" y="8992"/>
                  </a:lnTo>
                  <a:lnTo>
                    <a:pt x="1485" y="8992"/>
                  </a:lnTo>
                  <a:lnTo>
                    <a:pt x="1750" y="9257"/>
                  </a:lnTo>
                  <a:lnTo>
                    <a:pt x="1485" y="9496"/>
                  </a:lnTo>
                  <a:lnTo>
                    <a:pt x="1989" y="9761"/>
                  </a:lnTo>
                  <a:lnTo>
                    <a:pt x="2493" y="10000"/>
                  </a:lnTo>
                  <a:lnTo>
                    <a:pt x="2758" y="10000"/>
                  </a:lnTo>
                  <a:lnTo>
                    <a:pt x="2997" y="9761"/>
                  </a:lnTo>
                  <a:lnTo>
                    <a:pt x="3236" y="9496"/>
                  </a:lnTo>
                  <a:lnTo>
                    <a:pt x="3236" y="9761"/>
                  </a:lnTo>
                  <a:lnTo>
                    <a:pt x="3501" y="9761"/>
                  </a:lnTo>
                  <a:lnTo>
                    <a:pt x="3740" y="9761"/>
                  </a:lnTo>
                  <a:lnTo>
                    <a:pt x="4244" y="9496"/>
                  </a:lnTo>
                  <a:lnTo>
                    <a:pt x="4244" y="8992"/>
                  </a:lnTo>
                  <a:lnTo>
                    <a:pt x="4509" y="9257"/>
                  </a:lnTo>
                  <a:lnTo>
                    <a:pt x="4986" y="8992"/>
                  </a:lnTo>
                  <a:lnTo>
                    <a:pt x="5490" y="8514"/>
                  </a:lnTo>
                  <a:lnTo>
                    <a:pt x="5251" y="8249"/>
                  </a:lnTo>
                  <a:lnTo>
                    <a:pt x="5251" y="8010"/>
                  </a:lnTo>
                  <a:lnTo>
                    <a:pt x="5755" y="7267"/>
                  </a:lnTo>
                  <a:lnTo>
                    <a:pt x="6233" y="5251"/>
                  </a:lnTo>
                  <a:lnTo>
                    <a:pt x="6737" y="5517"/>
                  </a:lnTo>
                  <a:lnTo>
                    <a:pt x="6737" y="5755"/>
                  </a:lnTo>
                  <a:lnTo>
                    <a:pt x="7002" y="5755"/>
                  </a:lnTo>
                  <a:lnTo>
                    <a:pt x="7241" y="5251"/>
                  </a:lnTo>
                  <a:lnTo>
                    <a:pt x="7506" y="4748"/>
                  </a:lnTo>
                  <a:lnTo>
                    <a:pt x="7745" y="4509"/>
                  </a:lnTo>
                  <a:lnTo>
                    <a:pt x="7984" y="4270"/>
                  </a:lnTo>
                  <a:lnTo>
                    <a:pt x="8249" y="4270"/>
                  </a:lnTo>
                  <a:lnTo>
                    <a:pt x="8488" y="4005"/>
                  </a:lnTo>
                  <a:lnTo>
                    <a:pt x="8488" y="3501"/>
                  </a:lnTo>
                  <a:lnTo>
                    <a:pt x="8753" y="3501"/>
                  </a:lnTo>
                  <a:lnTo>
                    <a:pt x="8753" y="3262"/>
                  </a:lnTo>
                  <a:lnTo>
                    <a:pt x="8753" y="2758"/>
                  </a:lnTo>
                  <a:lnTo>
                    <a:pt x="9734" y="3262"/>
                  </a:lnTo>
                  <a:lnTo>
                    <a:pt x="10000" y="3262"/>
                  </a:lnTo>
                  <a:lnTo>
                    <a:pt x="10000" y="2758"/>
                  </a:lnTo>
                  <a:lnTo>
                    <a:pt x="9734" y="2254"/>
                  </a:lnTo>
                  <a:lnTo>
                    <a:pt x="9496" y="2014"/>
                  </a:lnTo>
                  <a:lnTo>
                    <a:pt x="9496" y="1750"/>
                  </a:lnTo>
                  <a:lnTo>
                    <a:pt x="9496" y="2014"/>
                  </a:lnTo>
                  <a:lnTo>
                    <a:pt x="9230" y="2014"/>
                  </a:lnTo>
                  <a:lnTo>
                    <a:pt x="8992" y="1750"/>
                  </a:lnTo>
                  <a:lnTo>
                    <a:pt x="8488" y="2014"/>
                  </a:lnTo>
                  <a:lnTo>
                    <a:pt x="8249" y="2254"/>
                  </a:lnTo>
                  <a:lnTo>
                    <a:pt x="7984" y="2519"/>
                  </a:lnTo>
                  <a:lnTo>
                    <a:pt x="7745" y="2254"/>
                  </a:lnTo>
                  <a:lnTo>
                    <a:pt x="7506" y="2519"/>
                  </a:lnTo>
                  <a:lnTo>
                    <a:pt x="7506" y="2758"/>
                  </a:lnTo>
                  <a:lnTo>
                    <a:pt x="7241" y="2758"/>
                  </a:lnTo>
                  <a:lnTo>
                    <a:pt x="7002" y="2758"/>
                  </a:lnTo>
                  <a:lnTo>
                    <a:pt x="6737" y="3501"/>
                  </a:lnTo>
                  <a:lnTo>
                    <a:pt x="6498" y="3501"/>
                  </a:lnTo>
                  <a:lnTo>
                    <a:pt x="6233" y="3501"/>
                  </a:lnTo>
                  <a:lnTo>
                    <a:pt x="5994" y="2254"/>
                  </a:lnTo>
                  <a:lnTo>
                    <a:pt x="3740" y="2758"/>
                  </a:lnTo>
                  <a:lnTo>
                    <a:pt x="3236" y="0"/>
                  </a:lnTo>
                  <a:close/>
                  <a:moveTo>
                    <a:pt x="3236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5"/>
            <p:cNvSpPr/>
            <p:nvPr/>
          </p:nvSpPr>
          <p:spPr>
            <a:xfrm>
              <a:off x="7148520" y="3295080"/>
              <a:ext cx="720000" cy="7066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36" y="0"/>
                  </a:moveTo>
                  <a:lnTo>
                    <a:pt x="3236" y="264"/>
                  </a:lnTo>
                  <a:lnTo>
                    <a:pt x="3236" y="503"/>
                  </a:lnTo>
                  <a:lnTo>
                    <a:pt x="2997" y="769"/>
                  </a:lnTo>
                  <a:lnTo>
                    <a:pt x="3236" y="1007"/>
                  </a:lnTo>
                  <a:lnTo>
                    <a:pt x="3236" y="2014"/>
                  </a:lnTo>
                  <a:lnTo>
                    <a:pt x="3236" y="2254"/>
                  </a:lnTo>
                  <a:lnTo>
                    <a:pt x="3236" y="2519"/>
                  </a:lnTo>
                  <a:lnTo>
                    <a:pt x="3236" y="2758"/>
                  </a:lnTo>
                  <a:lnTo>
                    <a:pt x="2997" y="3262"/>
                  </a:lnTo>
                  <a:lnTo>
                    <a:pt x="2493" y="3501"/>
                  </a:lnTo>
                  <a:lnTo>
                    <a:pt x="2493" y="3766"/>
                  </a:lnTo>
                  <a:lnTo>
                    <a:pt x="2254" y="3766"/>
                  </a:lnTo>
                  <a:lnTo>
                    <a:pt x="1989" y="3766"/>
                  </a:lnTo>
                  <a:lnTo>
                    <a:pt x="1750" y="4005"/>
                  </a:lnTo>
                  <a:lnTo>
                    <a:pt x="1750" y="4270"/>
                  </a:lnTo>
                  <a:lnTo>
                    <a:pt x="1485" y="4270"/>
                  </a:lnTo>
                  <a:lnTo>
                    <a:pt x="1485" y="4748"/>
                  </a:lnTo>
                  <a:lnTo>
                    <a:pt x="1485" y="5251"/>
                  </a:lnTo>
                  <a:lnTo>
                    <a:pt x="1246" y="5251"/>
                  </a:lnTo>
                  <a:lnTo>
                    <a:pt x="1007" y="5012"/>
                  </a:lnTo>
                  <a:lnTo>
                    <a:pt x="742" y="5012"/>
                  </a:lnTo>
                  <a:lnTo>
                    <a:pt x="503" y="5755"/>
                  </a:lnTo>
                  <a:lnTo>
                    <a:pt x="742" y="6259"/>
                  </a:lnTo>
                  <a:lnTo>
                    <a:pt x="503" y="6259"/>
                  </a:lnTo>
                  <a:lnTo>
                    <a:pt x="503" y="6498"/>
                  </a:lnTo>
                  <a:lnTo>
                    <a:pt x="238" y="7002"/>
                  </a:lnTo>
                  <a:lnTo>
                    <a:pt x="0" y="7002"/>
                  </a:lnTo>
                  <a:lnTo>
                    <a:pt x="0" y="7267"/>
                  </a:lnTo>
                  <a:lnTo>
                    <a:pt x="0" y="7506"/>
                  </a:lnTo>
                  <a:lnTo>
                    <a:pt x="0" y="7745"/>
                  </a:lnTo>
                  <a:lnTo>
                    <a:pt x="0" y="8010"/>
                  </a:lnTo>
                  <a:lnTo>
                    <a:pt x="503" y="8514"/>
                  </a:lnTo>
                  <a:lnTo>
                    <a:pt x="742" y="8992"/>
                  </a:lnTo>
                  <a:lnTo>
                    <a:pt x="1007" y="8992"/>
                  </a:lnTo>
                  <a:lnTo>
                    <a:pt x="1246" y="8992"/>
                  </a:lnTo>
                  <a:lnTo>
                    <a:pt x="1485" y="8992"/>
                  </a:lnTo>
                  <a:lnTo>
                    <a:pt x="1750" y="9257"/>
                  </a:lnTo>
                  <a:lnTo>
                    <a:pt x="1485" y="9496"/>
                  </a:lnTo>
                  <a:lnTo>
                    <a:pt x="1989" y="9761"/>
                  </a:lnTo>
                  <a:lnTo>
                    <a:pt x="2493" y="10000"/>
                  </a:lnTo>
                  <a:lnTo>
                    <a:pt x="2758" y="10000"/>
                  </a:lnTo>
                  <a:lnTo>
                    <a:pt x="2997" y="9761"/>
                  </a:lnTo>
                  <a:lnTo>
                    <a:pt x="3236" y="9496"/>
                  </a:lnTo>
                  <a:lnTo>
                    <a:pt x="3236" y="9761"/>
                  </a:lnTo>
                  <a:lnTo>
                    <a:pt x="3501" y="9761"/>
                  </a:lnTo>
                  <a:lnTo>
                    <a:pt x="3740" y="9761"/>
                  </a:lnTo>
                  <a:lnTo>
                    <a:pt x="4244" y="9496"/>
                  </a:lnTo>
                  <a:lnTo>
                    <a:pt x="4244" y="8992"/>
                  </a:lnTo>
                  <a:lnTo>
                    <a:pt x="4509" y="9257"/>
                  </a:lnTo>
                  <a:lnTo>
                    <a:pt x="4986" y="8992"/>
                  </a:lnTo>
                  <a:lnTo>
                    <a:pt x="5490" y="8514"/>
                  </a:lnTo>
                  <a:lnTo>
                    <a:pt x="5251" y="8249"/>
                  </a:lnTo>
                  <a:lnTo>
                    <a:pt x="5251" y="8010"/>
                  </a:lnTo>
                  <a:lnTo>
                    <a:pt x="5755" y="7267"/>
                  </a:lnTo>
                  <a:lnTo>
                    <a:pt x="6233" y="5251"/>
                  </a:lnTo>
                  <a:lnTo>
                    <a:pt x="6737" y="5517"/>
                  </a:lnTo>
                  <a:lnTo>
                    <a:pt x="6737" y="5755"/>
                  </a:lnTo>
                  <a:lnTo>
                    <a:pt x="7002" y="5755"/>
                  </a:lnTo>
                  <a:lnTo>
                    <a:pt x="7241" y="5251"/>
                  </a:lnTo>
                  <a:lnTo>
                    <a:pt x="7506" y="4748"/>
                  </a:lnTo>
                  <a:lnTo>
                    <a:pt x="7745" y="4509"/>
                  </a:lnTo>
                  <a:lnTo>
                    <a:pt x="7984" y="4270"/>
                  </a:lnTo>
                  <a:lnTo>
                    <a:pt x="8249" y="4270"/>
                  </a:lnTo>
                  <a:lnTo>
                    <a:pt x="8488" y="4005"/>
                  </a:lnTo>
                  <a:lnTo>
                    <a:pt x="8488" y="3501"/>
                  </a:lnTo>
                  <a:lnTo>
                    <a:pt x="8753" y="3501"/>
                  </a:lnTo>
                  <a:lnTo>
                    <a:pt x="8753" y="3262"/>
                  </a:lnTo>
                  <a:lnTo>
                    <a:pt x="8753" y="2758"/>
                  </a:lnTo>
                  <a:lnTo>
                    <a:pt x="9734" y="3262"/>
                  </a:lnTo>
                  <a:lnTo>
                    <a:pt x="10000" y="3262"/>
                  </a:lnTo>
                  <a:lnTo>
                    <a:pt x="10000" y="2758"/>
                  </a:lnTo>
                  <a:lnTo>
                    <a:pt x="9734" y="2254"/>
                  </a:lnTo>
                  <a:lnTo>
                    <a:pt x="9496" y="2014"/>
                  </a:lnTo>
                  <a:lnTo>
                    <a:pt x="9496" y="1750"/>
                  </a:lnTo>
                  <a:lnTo>
                    <a:pt x="9496" y="2014"/>
                  </a:lnTo>
                  <a:lnTo>
                    <a:pt x="9230" y="2014"/>
                  </a:lnTo>
                  <a:lnTo>
                    <a:pt x="8992" y="1750"/>
                  </a:lnTo>
                  <a:lnTo>
                    <a:pt x="8488" y="2014"/>
                  </a:lnTo>
                  <a:lnTo>
                    <a:pt x="8249" y="2254"/>
                  </a:lnTo>
                  <a:lnTo>
                    <a:pt x="7984" y="2519"/>
                  </a:lnTo>
                  <a:lnTo>
                    <a:pt x="7745" y="2254"/>
                  </a:lnTo>
                  <a:lnTo>
                    <a:pt x="7506" y="2519"/>
                  </a:lnTo>
                  <a:lnTo>
                    <a:pt x="7506" y="2758"/>
                  </a:lnTo>
                  <a:lnTo>
                    <a:pt x="7241" y="2758"/>
                  </a:lnTo>
                  <a:lnTo>
                    <a:pt x="7002" y="2758"/>
                  </a:lnTo>
                  <a:lnTo>
                    <a:pt x="6737" y="3501"/>
                  </a:lnTo>
                  <a:lnTo>
                    <a:pt x="6498" y="3501"/>
                  </a:lnTo>
                  <a:lnTo>
                    <a:pt x="6233" y="3501"/>
                  </a:lnTo>
                  <a:lnTo>
                    <a:pt x="5994" y="2254"/>
                  </a:lnTo>
                  <a:lnTo>
                    <a:pt x="3740" y="2758"/>
                  </a:lnTo>
                  <a:lnTo>
                    <a:pt x="3236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6"/>
            <p:cNvSpPr/>
            <p:nvPr/>
          </p:nvSpPr>
          <p:spPr>
            <a:xfrm>
              <a:off x="6915600" y="3984840"/>
              <a:ext cx="1420560" cy="5806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580680"/>
                <a:gd name="textAreaBottom" fmla="*/ 580680 h 580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06"/>
                  </a:moveTo>
                  <a:lnTo>
                    <a:pt x="120" y="8193"/>
                  </a:lnTo>
                  <a:lnTo>
                    <a:pt x="241" y="7903"/>
                  </a:lnTo>
                  <a:lnTo>
                    <a:pt x="241" y="7580"/>
                  </a:lnTo>
                  <a:lnTo>
                    <a:pt x="241" y="7290"/>
                  </a:lnTo>
                  <a:lnTo>
                    <a:pt x="375" y="6967"/>
                  </a:lnTo>
                  <a:lnTo>
                    <a:pt x="631" y="6677"/>
                  </a:lnTo>
                  <a:lnTo>
                    <a:pt x="873" y="6677"/>
                  </a:lnTo>
                  <a:lnTo>
                    <a:pt x="1129" y="6064"/>
                  </a:lnTo>
                  <a:lnTo>
                    <a:pt x="1263" y="6064"/>
                  </a:lnTo>
                  <a:lnTo>
                    <a:pt x="1384" y="5451"/>
                  </a:lnTo>
                  <a:lnTo>
                    <a:pt x="1518" y="5451"/>
                  </a:lnTo>
                  <a:lnTo>
                    <a:pt x="1518" y="5161"/>
                  </a:lnTo>
                  <a:lnTo>
                    <a:pt x="1639" y="5161"/>
                  </a:lnTo>
                  <a:lnTo>
                    <a:pt x="1760" y="4837"/>
                  </a:lnTo>
                  <a:lnTo>
                    <a:pt x="1895" y="5161"/>
                  </a:lnTo>
                  <a:lnTo>
                    <a:pt x="1895" y="4837"/>
                  </a:lnTo>
                  <a:lnTo>
                    <a:pt x="2016" y="4548"/>
                  </a:lnTo>
                  <a:lnTo>
                    <a:pt x="2150" y="4548"/>
                  </a:lnTo>
                  <a:lnTo>
                    <a:pt x="2392" y="4548"/>
                  </a:lnTo>
                  <a:lnTo>
                    <a:pt x="2526" y="3645"/>
                  </a:lnTo>
                  <a:lnTo>
                    <a:pt x="2782" y="3322"/>
                  </a:lnTo>
                  <a:lnTo>
                    <a:pt x="2782" y="3031"/>
                  </a:lnTo>
                  <a:lnTo>
                    <a:pt x="2782" y="2709"/>
                  </a:lnTo>
                  <a:lnTo>
                    <a:pt x="2782" y="2419"/>
                  </a:lnTo>
                  <a:lnTo>
                    <a:pt x="3037" y="2419"/>
                  </a:lnTo>
                  <a:lnTo>
                    <a:pt x="3278" y="2419"/>
                  </a:lnTo>
                  <a:lnTo>
                    <a:pt x="3412" y="2419"/>
                  </a:lnTo>
                  <a:lnTo>
                    <a:pt x="3534" y="2419"/>
                  </a:lnTo>
                  <a:lnTo>
                    <a:pt x="6451" y="1193"/>
                  </a:lnTo>
                  <a:lnTo>
                    <a:pt x="9354" y="0"/>
                  </a:lnTo>
                  <a:lnTo>
                    <a:pt x="9489" y="0"/>
                  </a:lnTo>
                  <a:lnTo>
                    <a:pt x="9610" y="289"/>
                  </a:lnTo>
                  <a:lnTo>
                    <a:pt x="9744" y="612"/>
                  </a:lnTo>
                  <a:lnTo>
                    <a:pt x="9744" y="903"/>
                  </a:lnTo>
                  <a:lnTo>
                    <a:pt x="9744" y="1193"/>
                  </a:lnTo>
                  <a:lnTo>
                    <a:pt x="9610" y="903"/>
                  </a:lnTo>
                  <a:lnTo>
                    <a:pt x="9489" y="903"/>
                  </a:lnTo>
                  <a:lnTo>
                    <a:pt x="9354" y="903"/>
                  </a:lnTo>
                  <a:lnTo>
                    <a:pt x="9354" y="1193"/>
                  </a:lnTo>
                  <a:lnTo>
                    <a:pt x="9112" y="1193"/>
                  </a:lnTo>
                  <a:lnTo>
                    <a:pt x="9112" y="1516"/>
                  </a:lnTo>
                  <a:lnTo>
                    <a:pt x="8978" y="1806"/>
                  </a:lnTo>
                  <a:lnTo>
                    <a:pt x="8723" y="1806"/>
                  </a:lnTo>
                  <a:lnTo>
                    <a:pt x="8723" y="2129"/>
                  </a:lnTo>
                  <a:lnTo>
                    <a:pt x="8723" y="2419"/>
                  </a:lnTo>
                  <a:lnTo>
                    <a:pt x="8857" y="2419"/>
                  </a:lnTo>
                  <a:lnTo>
                    <a:pt x="9112" y="2129"/>
                  </a:lnTo>
                  <a:lnTo>
                    <a:pt x="9233" y="1806"/>
                  </a:lnTo>
                  <a:lnTo>
                    <a:pt x="9489" y="1806"/>
                  </a:lnTo>
                  <a:lnTo>
                    <a:pt x="9489" y="2129"/>
                  </a:lnTo>
                  <a:lnTo>
                    <a:pt x="9610" y="2419"/>
                  </a:lnTo>
                  <a:lnTo>
                    <a:pt x="9610" y="2129"/>
                  </a:lnTo>
                  <a:lnTo>
                    <a:pt x="9744" y="2129"/>
                  </a:lnTo>
                  <a:lnTo>
                    <a:pt x="9744" y="1806"/>
                  </a:lnTo>
                  <a:lnTo>
                    <a:pt x="9865" y="1806"/>
                  </a:lnTo>
                  <a:lnTo>
                    <a:pt x="9865" y="2129"/>
                  </a:lnTo>
                  <a:lnTo>
                    <a:pt x="9865" y="2419"/>
                  </a:lnTo>
                  <a:lnTo>
                    <a:pt x="10000" y="2709"/>
                  </a:lnTo>
                  <a:lnTo>
                    <a:pt x="9744" y="3322"/>
                  </a:lnTo>
                  <a:lnTo>
                    <a:pt x="9610" y="3645"/>
                  </a:lnTo>
                  <a:lnTo>
                    <a:pt x="9489" y="3934"/>
                  </a:lnTo>
                  <a:lnTo>
                    <a:pt x="9233" y="3934"/>
                  </a:lnTo>
                  <a:lnTo>
                    <a:pt x="9233" y="3645"/>
                  </a:lnTo>
                  <a:lnTo>
                    <a:pt x="9233" y="3934"/>
                  </a:lnTo>
                  <a:lnTo>
                    <a:pt x="9112" y="3645"/>
                  </a:lnTo>
                  <a:lnTo>
                    <a:pt x="9112" y="3322"/>
                  </a:lnTo>
                  <a:lnTo>
                    <a:pt x="8978" y="3322"/>
                  </a:lnTo>
                  <a:lnTo>
                    <a:pt x="9112" y="3934"/>
                  </a:lnTo>
                  <a:lnTo>
                    <a:pt x="8978" y="3934"/>
                  </a:lnTo>
                  <a:lnTo>
                    <a:pt x="9112" y="4258"/>
                  </a:lnTo>
                  <a:lnTo>
                    <a:pt x="9233" y="4548"/>
                  </a:lnTo>
                  <a:lnTo>
                    <a:pt x="9233" y="4837"/>
                  </a:lnTo>
                  <a:lnTo>
                    <a:pt x="8978" y="5451"/>
                  </a:lnTo>
                  <a:lnTo>
                    <a:pt x="8857" y="5451"/>
                  </a:lnTo>
                  <a:lnTo>
                    <a:pt x="8723" y="5451"/>
                  </a:lnTo>
                  <a:lnTo>
                    <a:pt x="8978" y="5451"/>
                  </a:lnTo>
                  <a:lnTo>
                    <a:pt x="9112" y="5451"/>
                  </a:lnTo>
                  <a:lnTo>
                    <a:pt x="9354" y="5161"/>
                  </a:lnTo>
                  <a:lnTo>
                    <a:pt x="9489" y="5451"/>
                  </a:lnTo>
                  <a:lnTo>
                    <a:pt x="9354" y="5451"/>
                  </a:lnTo>
                  <a:lnTo>
                    <a:pt x="9233" y="6064"/>
                  </a:lnTo>
                  <a:lnTo>
                    <a:pt x="9112" y="6354"/>
                  </a:lnTo>
                  <a:lnTo>
                    <a:pt x="8978" y="6354"/>
                  </a:lnTo>
                  <a:lnTo>
                    <a:pt x="8723" y="6354"/>
                  </a:lnTo>
                  <a:lnTo>
                    <a:pt x="8602" y="7290"/>
                  </a:lnTo>
                  <a:lnTo>
                    <a:pt x="8481" y="7290"/>
                  </a:lnTo>
                  <a:lnTo>
                    <a:pt x="8346" y="7903"/>
                  </a:lnTo>
                  <a:lnTo>
                    <a:pt x="8091" y="7903"/>
                  </a:lnTo>
                  <a:lnTo>
                    <a:pt x="7970" y="8806"/>
                  </a:lnTo>
                  <a:lnTo>
                    <a:pt x="7836" y="9419"/>
                  </a:lnTo>
                  <a:lnTo>
                    <a:pt x="7836" y="9709"/>
                  </a:lnTo>
                  <a:lnTo>
                    <a:pt x="7836" y="10000"/>
                  </a:lnTo>
                  <a:lnTo>
                    <a:pt x="7338" y="10000"/>
                  </a:lnTo>
                  <a:lnTo>
                    <a:pt x="5684" y="7580"/>
                  </a:lnTo>
                  <a:lnTo>
                    <a:pt x="4422" y="7903"/>
                  </a:lnTo>
                  <a:lnTo>
                    <a:pt x="4422" y="7580"/>
                  </a:lnTo>
                  <a:lnTo>
                    <a:pt x="4166" y="7290"/>
                  </a:lnTo>
                  <a:lnTo>
                    <a:pt x="4045" y="7290"/>
                  </a:lnTo>
                  <a:lnTo>
                    <a:pt x="4045" y="6967"/>
                  </a:lnTo>
                  <a:lnTo>
                    <a:pt x="2526" y="7290"/>
                  </a:lnTo>
                  <a:lnTo>
                    <a:pt x="2392" y="7290"/>
                  </a:lnTo>
                  <a:lnTo>
                    <a:pt x="2392" y="7580"/>
                  </a:lnTo>
                  <a:lnTo>
                    <a:pt x="2150" y="7903"/>
                  </a:lnTo>
                  <a:lnTo>
                    <a:pt x="2016" y="7903"/>
                  </a:lnTo>
                  <a:lnTo>
                    <a:pt x="1760" y="8483"/>
                  </a:lnTo>
                  <a:lnTo>
                    <a:pt x="0" y="8806"/>
                  </a:lnTo>
                  <a:close/>
                  <a:moveTo>
                    <a:pt x="0" y="88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87"/>
            <p:cNvSpPr/>
            <p:nvPr/>
          </p:nvSpPr>
          <p:spPr>
            <a:xfrm>
              <a:off x="6915600" y="3984840"/>
              <a:ext cx="1420560" cy="5806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580680"/>
                <a:gd name="textAreaBottom" fmla="*/ 580680 h 580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06"/>
                  </a:moveTo>
                  <a:lnTo>
                    <a:pt x="120" y="8193"/>
                  </a:lnTo>
                  <a:lnTo>
                    <a:pt x="241" y="7903"/>
                  </a:lnTo>
                  <a:lnTo>
                    <a:pt x="241" y="7580"/>
                  </a:lnTo>
                  <a:lnTo>
                    <a:pt x="241" y="7290"/>
                  </a:lnTo>
                  <a:lnTo>
                    <a:pt x="375" y="6967"/>
                  </a:lnTo>
                  <a:lnTo>
                    <a:pt x="631" y="6677"/>
                  </a:lnTo>
                  <a:lnTo>
                    <a:pt x="873" y="6677"/>
                  </a:lnTo>
                  <a:lnTo>
                    <a:pt x="1129" y="6064"/>
                  </a:lnTo>
                  <a:lnTo>
                    <a:pt x="1263" y="6064"/>
                  </a:lnTo>
                  <a:lnTo>
                    <a:pt x="1384" y="5451"/>
                  </a:lnTo>
                  <a:lnTo>
                    <a:pt x="1518" y="5451"/>
                  </a:lnTo>
                  <a:lnTo>
                    <a:pt x="1518" y="5161"/>
                  </a:lnTo>
                  <a:lnTo>
                    <a:pt x="1639" y="5161"/>
                  </a:lnTo>
                  <a:lnTo>
                    <a:pt x="1760" y="4837"/>
                  </a:lnTo>
                  <a:lnTo>
                    <a:pt x="1895" y="5161"/>
                  </a:lnTo>
                  <a:lnTo>
                    <a:pt x="1895" y="4837"/>
                  </a:lnTo>
                  <a:lnTo>
                    <a:pt x="2016" y="4548"/>
                  </a:lnTo>
                  <a:lnTo>
                    <a:pt x="2150" y="4548"/>
                  </a:lnTo>
                  <a:lnTo>
                    <a:pt x="2392" y="4548"/>
                  </a:lnTo>
                  <a:lnTo>
                    <a:pt x="2526" y="3645"/>
                  </a:lnTo>
                  <a:lnTo>
                    <a:pt x="2782" y="3322"/>
                  </a:lnTo>
                  <a:lnTo>
                    <a:pt x="2782" y="3031"/>
                  </a:lnTo>
                  <a:lnTo>
                    <a:pt x="2782" y="2709"/>
                  </a:lnTo>
                  <a:lnTo>
                    <a:pt x="2782" y="2419"/>
                  </a:lnTo>
                  <a:lnTo>
                    <a:pt x="3037" y="2419"/>
                  </a:lnTo>
                  <a:lnTo>
                    <a:pt x="3278" y="2419"/>
                  </a:lnTo>
                  <a:lnTo>
                    <a:pt x="3412" y="2419"/>
                  </a:lnTo>
                  <a:lnTo>
                    <a:pt x="3534" y="2419"/>
                  </a:lnTo>
                  <a:lnTo>
                    <a:pt x="6451" y="1193"/>
                  </a:lnTo>
                  <a:lnTo>
                    <a:pt x="9354" y="0"/>
                  </a:lnTo>
                  <a:lnTo>
                    <a:pt x="9489" y="0"/>
                  </a:lnTo>
                  <a:lnTo>
                    <a:pt x="9610" y="289"/>
                  </a:lnTo>
                  <a:lnTo>
                    <a:pt x="9744" y="612"/>
                  </a:lnTo>
                  <a:lnTo>
                    <a:pt x="9744" y="903"/>
                  </a:lnTo>
                  <a:lnTo>
                    <a:pt x="9744" y="1193"/>
                  </a:lnTo>
                  <a:lnTo>
                    <a:pt x="9610" y="903"/>
                  </a:lnTo>
                  <a:lnTo>
                    <a:pt x="9489" y="903"/>
                  </a:lnTo>
                  <a:lnTo>
                    <a:pt x="9354" y="903"/>
                  </a:lnTo>
                  <a:lnTo>
                    <a:pt x="9354" y="1193"/>
                  </a:lnTo>
                  <a:lnTo>
                    <a:pt x="9112" y="1193"/>
                  </a:lnTo>
                  <a:lnTo>
                    <a:pt x="9112" y="1516"/>
                  </a:lnTo>
                  <a:lnTo>
                    <a:pt x="8978" y="1806"/>
                  </a:lnTo>
                  <a:lnTo>
                    <a:pt x="8723" y="1806"/>
                  </a:lnTo>
                  <a:lnTo>
                    <a:pt x="8723" y="2129"/>
                  </a:lnTo>
                  <a:lnTo>
                    <a:pt x="8723" y="2419"/>
                  </a:lnTo>
                  <a:lnTo>
                    <a:pt x="8857" y="2419"/>
                  </a:lnTo>
                  <a:lnTo>
                    <a:pt x="9112" y="2129"/>
                  </a:lnTo>
                  <a:lnTo>
                    <a:pt x="9233" y="1806"/>
                  </a:lnTo>
                  <a:lnTo>
                    <a:pt x="9489" y="1806"/>
                  </a:lnTo>
                  <a:lnTo>
                    <a:pt x="9489" y="2129"/>
                  </a:lnTo>
                  <a:lnTo>
                    <a:pt x="9610" y="2419"/>
                  </a:lnTo>
                  <a:lnTo>
                    <a:pt x="9610" y="2129"/>
                  </a:lnTo>
                  <a:lnTo>
                    <a:pt x="9744" y="2129"/>
                  </a:lnTo>
                  <a:lnTo>
                    <a:pt x="9744" y="1806"/>
                  </a:lnTo>
                  <a:lnTo>
                    <a:pt x="9865" y="1806"/>
                  </a:lnTo>
                  <a:lnTo>
                    <a:pt x="9865" y="2129"/>
                  </a:lnTo>
                  <a:lnTo>
                    <a:pt x="9865" y="2419"/>
                  </a:lnTo>
                  <a:lnTo>
                    <a:pt x="10000" y="2709"/>
                  </a:lnTo>
                  <a:lnTo>
                    <a:pt x="9744" y="3322"/>
                  </a:lnTo>
                  <a:lnTo>
                    <a:pt x="9610" y="3645"/>
                  </a:lnTo>
                  <a:lnTo>
                    <a:pt x="9489" y="3934"/>
                  </a:lnTo>
                  <a:lnTo>
                    <a:pt x="9233" y="3934"/>
                  </a:lnTo>
                  <a:lnTo>
                    <a:pt x="9233" y="3645"/>
                  </a:lnTo>
                  <a:lnTo>
                    <a:pt x="9233" y="3934"/>
                  </a:lnTo>
                  <a:lnTo>
                    <a:pt x="9112" y="3645"/>
                  </a:lnTo>
                  <a:lnTo>
                    <a:pt x="9112" y="3322"/>
                  </a:lnTo>
                  <a:lnTo>
                    <a:pt x="8978" y="3322"/>
                  </a:lnTo>
                  <a:lnTo>
                    <a:pt x="9112" y="3934"/>
                  </a:lnTo>
                  <a:lnTo>
                    <a:pt x="8978" y="3934"/>
                  </a:lnTo>
                  <a:lnTo>
                    <a:pt x="9112" y="4258"/>
                  </a:lnTo>
                  <a:lnTo>
                    <a:pt x="9233" y="4548"/>
                  </a:lnTo>
                  <a:lnTo>
                    <a:pt x="9233" y="4837"/>
                  </a:lnTo>
                  <a:lnTo>
                    <a:pt x="8978" y="5451"/>
                  </a:lnTo>
                  <a:lnTo>
                    <a:pt x="8857" y="5451"/>
                  </a:lnTo>
                  <a:lnTo>
                    <a:pt x="8723" y="5451"/>
                  </a:lnTo>
                  <a:lnTo>
                    <a:pt x="8978" y="5451"/>
                  </a:lnTo>
                  <a:lnTo>
                    <a:pt x="9112" y="5451"/>
                  </a:lnTo>
                  <a:lnTo>
                    <a:pt x="9354" y="5161"/>
                  </a:lnTo>
                  <a:lnTo>
                    <a:pt x="9489" y="5451"/>
                  </a:lnTo>
                  <a:lnTo>
                    <a:pt x="9354" y="5451"/>
                  </a:lnTo>
                  <a:lnTo>
                    <a:pt x="9233" y="6064"/>
                  </a:lnTo>
                  <a:lnTo>
                    <a:pt x="9112" y="6354"/>
                  </a:lnTo>
                  <a:lnTo>
                    <a:pt x="8978" y="6354"/>
                  </a:lnTo>
                  <a:lnTo>
                    <a:pt x="8723" y="6354"/>
                  </a:lnTo>
                  <a:lnTo>
                    <a:pt x="8602" y="7290"/>
                  </a:lnTo>
                  <a:lnTo>
                    <a:pt x="8481" y="7290"/>
                  </a:lnTo>
                  <a:lnTo>
                    <a:pt x="8346" y="7903"/>
                  </a:lnTo>
                  <a:lnTo>
                    <a:pt x="8091" y="7903"/>
                  </a:lnTo>
                  <a:lnTo>
                    <a:pt x="7970" y="8806"/>
                  </a:lnTo>
                  <a:lnTo>
                    <a:pt x="7836" y="9419"/>
                  </a:lnTo>
                  <a:lnTo>
                    <a:pt x="7836" y="9709"/>
                  </a:lnTo>
                  <a:lnTo>
                    <a:pt x="7836" y="10000"/>
                  </a:lnTo>
                  <a:lnTo>
                    <a:pt x="7338" y="10000"/>
                  </a:lnTo>
                  <a:lnTo>
                    <a:pt x="5684" y="7580"/>
                  </a:lnTo>
                  <a:lnTo>
                    <a:pt x="4422" y="7903"/>
                  </a:lnTo>
                  <a:lnTo>
                    <a:pt x="4422" y="7580"/>
                  </a:lnTo>
                  <a:lnTo>
                    <a:pt x="4166" y="7290"/>
                  </a:lnTo>
                  <a:lnTo>
                    <a:pt x="4045" y="7290"/>
                  </a:lnTo>
                  <a:lnTo>
                    <a:pt x="4045" y="6967"/>
                  </a:lnTo>
                  <a:lnTo>
                    <a:pt x="2526" y="7290"/>
                  </a:lnTo>
                  <a:lnTo>
                    <a:pt x="2392" y="7290"/>
                  </a:lnTo>
                  <a:lnTo>
                    <a:pt x="2392" y="7580"/>
                  </a:lnTo>
                  <a:lnTo>
                    <a:pt x="2150" y="7903"/>
                  </a:lnTo>
                  <a:lnTo>
                    <a:pt x="2016" y="7903"/>
                  </a:lnTo>
                  <a:lnTo>
                    <a:pt x="1760" y="8483"/>
                  </a:lnTo>
                  <a:lnTo>
                    <a:pt x="0" y="88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88"/>
            <p:cNvSpPr/>
            <p:nvPr/>
          </p:nvSpPr>
          <p:spPr>
            <a:xfrm>
              <a:off x="7580160" y="3349440"/>
              <a:ext cx="736920" cy="3355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5520"/>
                <a:gd name="textAreaBottom" fmla="*/ 335520 h 335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564" y="0"/>
                  </a:moveTo>
                  <a:lnTo>
                    <a:pt x="5854" y="502"/>
                  </a:lnTo>
                  <a:lnTo>
                    <a:pt x="0" y="3128"/>
                  </a:lnTo>
                  <a:lnTo>
                    <a:pt x="232" y="5754"/>
                  </a:lnTo>
                  <a:lnTo>
                    <a:pt x="492" y="5754"/>
                  </a:lnTo>
                  <a:lnTo>
                    <a:pt x="725" y="5754"/>
                  </a:lnTo>
                  <a:lnTo>
                    <a:pt x="984" y="4189"/>
                  </a:lnTo>
                  <a:lnTo>
                    <a:pt x="1217" y="4189"/>
                  </a:lnTo>
                  <a:lnTo>
                    <a:pt x="1476" y="4189"/>
                  </a:lnTo>
                  <a:lnTo>
                    <a:pt x="1476" y="3687"/>
                  </a:lnTo>
                  <a:lnTo>
                    <a:pt x="1709" y="3128"/>
                  </a:lnTo>
                  <a:lnTo>
                    <a:pt x="1943" y="3687"/>
                  </a:lnTo>
                  <a:lnTo>
                    <a:pt x="2202" y="3128"/>
                  </a:lnTo>
                  <a:lnTo>
                    <a:pt x="2435" y="2625"/>
                  </a:lnTo>
                  <a:lnTo>
                    <a:pt x="2927" y="2067"/>
                  </a:lnTo>
                  <a:lnTo>
                    <a:pt x="3159" y="2625"/>
                  </a:lnTo>
                  <a:lnTo>
                    <a:pt x="3419" y="2625"/>
                  </a:lnTo>
                  <a:lnTo>
                    <a:pt x="3419" y="2067"/>
                  </a:lnTo>
                  <a:lnTo>
                    <a:pt x="3419" y="2625"/>
                  </a:lnTo>
                  <a:lnTo>
                    <a:pt x="3652" y="3128"/>
                  </a:lnTo>
                  <a:lnTo>
                    <a:pt x="3911" y="4189"/>
                  </a:lnTo>
                  <a:lnTo>
                    <a:pt x="4145" y="4189"/>
                  </a:lnTo>
                  <a:lnTo>
                    <a:pt x="4404" y="4189"/>
                  </a:lnTo>
                  <a:lnTo>
                    <a:pt x="4404" y="4692"/>
                  </a:lnTo>
                  <a:lnTo>
                    <a:pt x="4637" y="5251"/>
                  </a:lnTo>
                  <a:lnTo>
                    <a:pt x="5129" y="5251"/>
                  </a:lnTo>
                  <a:lnTo>
                    <a:pt x="5129" y="5754"/>
                  </a:lnTo>
                  <a:lnTo>
                    <a:pt x="5362" y="5754"/>
                  </a:lnTo>
                  <a:lnTo>
                    <a:pt x="5620" y="6312"/>
                  </a:lnTo>
                  <a:lnTo>
                    <a:pt x="5620" y="6815"/>
                  </a:lnTo>
                  <a:lnTo>
                    <a:pt x="5362" y="7877"/>
                  </a:lnTo>
                  <a:lnTo>
                    <a:pt x="5129" y="8379"/>
                  </a:lnTo>
                  <a:lnTo>
                    <a:pt x="5129" y="9441"/>
                  </a:lnTo>
                  <a:lnTo>
                    <a:pt x="5620" y="9441"/>
                  </a:lnTo>
                  <a:lnTo>
                    <a:pt x="5854" y="8938"/>
                  </a:lnTo>
                  <a:lnTo>
                    <a:pt x="6087" y="9441"/>
                  </a:lnTo>
                  <a:lnTo>
                    <a:pt x="6347" y="9441"/>
                  </a:lnTo>
                  <a:lnTo>
                    <a:pt x="6839" y="9441"/>
                  </a:lnTo>
                  <a:lnTo>
                    <a:pt x="7072" y="9441"/>
                  </a:lnTo>
                  <a:lnTo>
                    <a:pt x="7331" y="10000"/>
                  </a:lnTo>
                  <a:lnTo>
                    <a:pt x="7564" y="10000"/>
                  </a:lnTo>
                  <a:lnTo>
                    <a:pt x="7564" y="9441"/>
                  </a:lnTo>
                  <a:lnTo>
                    <a:pt x="7331" y="9441"/>
                  </a:lnTo>
                  <a:lnTo>
                    <a:pt x="7072" y="8938"/>
                  </a:lnTo>
                  <a:lnTo>
                    <a:pt x="7072" y="8379"/>
                  </a:lnTo>
                  <a:lnTo>
                    <a:pt x="7072" y="7877"/>
                  </a:lnTo>
                  <a:lnTo>
                    <a:pt x="6839" y="7374"/>
                  </a:lnTo>
                  <a:lnTo>
                    <a:pt x="6580" y="6312"/>
                  </a:lnTo>
                  <a:lnTo>
                    <a:pt x="6580" y="5754"/>
                  </a:lnTo>
                  <a:lnTo>
                    <a:pt x="6580" y="4189"/>
                  </a:lnTo>
                  <a:lnTo>
                    <a:pt x="6580" y="3687"/>
                  </a:lnTo>
                  <a:lnTo>
                    <a:pt x="6580" y="3128"/>
                  </a:lnTo>
                  <a:lnTo>
                    <a:pt x="6839" y="2625"/>
                  </a:lnTo>
                  <a:lnTo>
                    <a:pt x="7072" y="2067"/>
                  </a:lnTo>
                  <a:lnTo>
                    <a:pt x="7072" y="1061"/>
                  </a:lnTo>
                  <a:lnTo>
                    <a:pt x="7564" y="1061"/>
                  </a:lnTo>
                  <a:lnTo>
                    <a:pt x="7564" y="1564"/>
                  </a:lnTo>
                  <a:lnTo>
                    <a:pt x="7331" y="2067"/>
                  </a:lnTo>
                  <a:lnTo>
                    <a:pt x="7072" y="2625"/>
                  </a:lnTo>
                  <a:lnTo>
                    <a:pt x="7072" y="3128"/>
                  </a:lnTo>
                  <a:lnTo>
                    <a:pt x="7072" y="3687"/>
                  </a:lnTo>
                  <a:lnTo>
                    <a:pt x="7072" y="4189"/>
                  </a:lnTo>
                  <a:lnTo>
                    <a:pt x="7331" y="4189"/>
                  </a:lnTo>
                  <a:lnTo>
                    <a:pt x="7331" y="5251"/>
                  </a:lnTo>
                  <a:lnTo>
                    <a:pt x="7331" y="5754"/>
                  </a:lnTo>
                  <a:lnTo>
                    <a:pt x="7072" y="5754"/>
                  </a:lnTo>
                  <a:lnTo>
                    <a:pt x="7331" y="6312"/>
                  </a:lnTo>
                  <a:lnTo>
                    <a:pt x="7331" y="6815"/>
                  </a:lnTo>
                  <a:lnTo>
                    <a:pt x="7331" y="7374"/>
                  </a:lnTo>
                  <a:lnTo>
                    <a:pt x="7331" y="7877"/>
                  </a:lnTo>
                  <a:lnTo>
                    <a:pt x="7564" y="7877"/>
                  </a:lnTo>
                  <a:lnTo>
                    <a:pt x="7797" y="8379"/>
                  </a:lnTo>
                  <a:lnTo>
                    <a:pt x="8056" y="8379"/>
                  </a:lnTo>
                  <a:lnTo>
                    <a:pt x="8290" y="8379"/>
                  </a:lnTo>
                  <a:lnTo>
                    <a:pt x="8290" y="8938"/>
                  </a:lnTo>
                  <a:lnTo>
                    <a:pt x="8549" y="9441"/>
                  </a:lnTo>
                  <a:lnTo>
                    <a:pt x="8782" y="10000"/>
                  </a:lnTo>
                  <a:lnTo>
                    <a:pt x="9015" y="9441"/>
                  </a:lnTo>
                  <a:lnTo>
                    <a:pt x="9766" y="9441"/>
                  </a:lnTo>
                  <a:lnTo>
                    <a:pt x="9766" y="8938"/>
                  </a:lnTo>
                  <a:lnTo>
                    <a:pt x="9766" y="8379"/>
                  </a:lnTo>
                  <a:lnTo>
                    <a:pt x="10000" y="6815"/>
                  </a:lnTo>
                  <a:lnTo>
                    <a:pt x="10000" y="6312"/>
                  </a:lnTo>
                  <a:lnTo>
                    <a:pt x="8782" y="7374"/>
                  </a:lnTo>
                  <a:lnTo>
                    <a:pt x="7564" y="0"/>
                  </a:lnTo>
                  <a:close/>
                  <a:moveTo>
                    <a:pt x="7564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89"/>
            <p:cNvSpPr/>
            <p:nvPr/>
          </p:nvSpPr>
          <p:spPr>
            <a:xfrm>
              <a:off x="7580160" y="3349440"/>
              <a:ext cx="736920" cy="3355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5520"/>
                <a:gd name="textAreaBottom" fmla="*/ 335520 h 335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564" y="0"/>
                  </a:moveTo>
                  <a:lnTo>
                    <a:pt x="5854" y="502"/>
                  </a:lnTo>
                  <a:lnTo>
                    <a:pt x="0" y="3128"/>
                  </a:lnTo>
                  <a:lnTo>
                    <a:pt x="232" y="5754"/>
                  </a:lnTo>
                  <a:lnTo>
                    <a:pt x="492" y="5754"/>
                  </a:lnTo>
                  <a:lnTo>
                    <a:pt x="725" y="5754"/>
                  </a:lnTo>
                  <a:lnTo>
                    <a:pt x="984" y="4189"/>
                  </a:lnTo>
                  <a:lnTo>
                    <a:pt x="1217" y="4189"/>
                  </a:lnTo>
                  <a:lnTo>
                    <a:pt x="1476" y="4189"/>
                  </a:lnTo>
                  <a:lnTo>
                    <a:pt x="1476" y="3687"/>
                  </a:lnTo>
                  <a:lnTo>
                    <a:pt x="1709" y="3128"/>
                  </a:lnTo>
                  <a:lnTo>
                    <a:pt x="1943" y="3687"/>
                  </a:lnTo>
                  <a:lnTo>
                    <a:pt x="2202" y="3128"/>
                  </a:lnTo>
                  <a:lnTo>
                    <a:pt x="2435" y="2625"/>
                  </a:lnTo>
                  <a:lnTo>
                    <a:pt x="2927" y="2067"/>
                  </a:lnTo>
                  <a:lnTo>
                    <a:pt x="3159" y="2625"/>
                  </a:lnTo>
                  <a:lnTo>
                    <a:pt x="3419" y="2625"/>
                  </a:lnTo>
                  <a:lnTo>
                    <a:pt x="3419" y="2067"/>
                  </a:lnTo>
                  <a:lnTo>
                    <a:pt x="3419" y="2625"/>
                  </a:lnTo>
                  <a:lnTo>
                    <a:pt x="3652" y="3128"/>
                  </a:lnTo>
                  <a:lnTo>
                    <a:pt x="3911" y="4189"/>
                  </a:lnTo>
                  <a:lnTo>
                    <a:pt x="4145" y="4189"/>
                  </a:lnTo>
                  <a:lnTo>
                    <a:pt x="4404" y="4189"/>
                  </a:lnTo>
                  <a:lnTo>
                    <a:pt x="4404" y="4692"/>
                  </a:lnTo>
                  <a:lnTo>
                    <a:pt x="4637" y="5251"/>
                  </a:lnTo>
                  <a:lnTo>
                    <a:pt x="5129" y="5251"/>
                  </a:lnTo>
                  <a:lnTo>
                    <a:pt x="5129" y="5754"/>
                  </a:lnTo>
                  <a:lnTo>
                    <a:pt x="5362" y="5754"/>
                  </a:lnTo>
                  <a:lnTo>
                    <a:pt x="5620" y="6312"/>
                  </a:lnTo>
                  <a:lnTo>
                    <a:pt x="5620" y="6815"/>
                  </a:lnTo>
                  <a:lnTo>
                    <a:pt x="5362" y="7877"/>
                  </a:lnTo>
                  <a:lnTo>
                    <a:pt x="5129" y="8379"/>
                  </a:lnTo>
                  <a:lnTo>
                    <a:pt x="5129" y="9441"/>
                  </a:lnTo>
                  <a:lnTo>
                    <a:pt x="5620" y="9441"/>
                  </a:lnTo>
                  <a:lnTo>
                    <a:pt x="5854" y="8938"/>
                  </a:lnTo>
                  <a:lnTo>
                    <a:pt x="6087" y="9441"/>
                  </a:lnTo>
                  <a:lnTo>
                    <a:pt x="6347" y="9441"/>
                  </a:lnTo>
                  <a:lnTo>
                    <a:pt x="6839" y="9441"/>
                  </a:lnTo>
                  <a:lnTo>
                    <a:pt x="7072" y="9441"/>
                  </a:lnTo>
                  <a:lnTo>
                    <a:pt x="7331" y="10000"/>
                  </a:lnTo>
                  <a:lnTo>
                    <a:pt x="7564" y="10000"/>
                  </a:lnTo>
                  <a:lnTo>
                    <a:pt x="7564" y="9441"/>
                  </a:lnTo>
                  <a:lnTo>
                    <a:pt x="7331" y="9441"/>
                  </a:lnTo>
                  <a:lnTo>
                    <a:pt x="7072" y="8938"/>
                  </a:lnTo>
                  <a:lnTo>
                    <a:pt x="7072" y="8379"/>
                  </a:lnTo>
                  <a:lnTo>
                    <a:pt x="7072" y="7877"/>
                  </a:lnTo>
                  <a:lnTo>
                    <a:pt x="6839" y="7374"/>
                  </a:lnTo>
                  <a:lnTo>
                    <a:pt x="6580" y="6312"/>
                  </a:lnTo>
                  <a:lnTo>
                    <a:pt x="6580" y="5754"/>
                  </a:lnTo>
                  <a:lnTo>
                    <a:pt x="6580" y="4189"/>
                  </a:lnTo>
                  <a:lnTo>
                    <a:pt x="6580" y="3687"/>
                  </a:lnTo>
                  <a:lnTo>
                    <a:pt x="6580" y="3128"/>
                  </a:lnTo>
                  <a:lnTo>
                    <a:pt x="6839" y="2625"/>
                  </a:lnTo>
                  <a:lnTo>
                    <a:pt x="7072" y="2067"/>
                  </a:lnTo>
                  <a:lnTo>
                    <a:pt x="7072" y="1061"/>
                  </a:lnTo>
                  <a:lnTo>
                    <a:pt x="7564" y="1061"/>
                  </a:lnTo>
                  <a:lnTo>
                    <a:pt x="7564" y="1564"/>
                  </a:lnTo>
                  <a:lnTo>
                    <a:pt x="7331" y="2067"/>
                  </a:lnTo>
                  <a:lnTo>
                    <a:pt x="7072" y="2625"/>
                  </a:lnTo>
                  <a:lnTo>
                    <a:pt x="7072" y="3128"/>
                  </a:lnTo>
                  <a:lnTo>
                    <a:pt x="7072" y="3687"/>
                  </a:lnTo>
                  <a:lnTo>
                    <a:pt x="7072" y="4189"/>
                  </a:lnTo>
                  <a:lnTo>
                    <a:pt x="7331" y="4189"/>
                  </a:lnTo>
                  <a:lnTo>
                    <a:pt x="7331" y="5251"/>
                  </a:lnTo>
                  <a:lnTo>
                    <a:pt x="7331" y="5754"/>
                  </a:lnTo>
                  <a:lnTo>
                    <a:pt x="7072" y="5754"/>
                  </a:lnTo>
                  <a:lnTo>
                    <a:pt x="7331" y="6312"/>
                  </a:lnTo>
                  <a:lnTo>
                    <a:pt x="7331" y="6815"/>
                  </a:lnTo>
                  <a:lnTo>
                    <a:pt x="7331" y="7374"/>
                  </a:lnTo>
                  <a:lnTo>
                    <a:pt x="7331" y="7877"/>
                  </a:lnTo>
                  <a:lnTo>
                    <a:pt x="7564" y="7877"/>
                  </a:lnTo>
                  <a:lnTo>
                    <a:pt x="7797" y="8379"/>
                  </a:lnTo>
                  <a:lnTo>
                    <a:pt x="8056" y="8379"/>
                  </a:lnTo>
                  <a:lnTo>
                    <a:pt x="8290" y="8379"/>
                  </a:lnTo>
                  <a:lnTo>
                    <a:pt x="8290" y="8938"/>
                  </a:lnTo>
                  <a:lnTo>
                    <a:pt x="8549" y="9441"/>
                  </a:lnTo>
                  <a:lnTo>
                    <a:pt x="8782" y="10000"/>
                  </a:lnTo>
                  <a:lnTo>
                    <a:pt x="9015" y="9441"/>
                  </a:lnTo>
                  <a:lnTo>
                    <a:pt x="9766" y="9441"/>
                  </a:lnTo>
                  <a:lnTo>
                    <a:pt x="9766" y="8938"/>
                  </a:lnTo>
                  <a:lnTo>
                    <a:pt x="9766" y="8379"/>
                  </a:lnTo>
                  <a:lnTo>
                    <a:pt x="10000" y="6815"/>
                  </a:lnTo>
                  <a:lnTo>
                    <a:pt x="10000" y="6312"/>
                  </a:lnTo>
                  <a:lnTo>
                    <a:pt x="8782" y="7374"/>
                  </a:lnTo>
                  <a:lnTo>
                    <a:pt x="7564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0"/>
            <p:cNvSpPr/>
            <p:nvPr/>
          </p:nvSpPr>
          <p:spPr>
            <a:xfrm>
              <a:off x="8137440" y="3313800"/>
              <a:ext cx="179640" cy="2829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741"/>
                  </a:moveTo>
                  <a:lnTo>
                    <a:pt x="10000" y="8079"/>
                  </a:lnTo>
                  <a:lnTo>
                    <a:pt x="9042" y="7483"/>
                  </a:lnTo>
                  <a:lnTo>
                    <a:pt x="7978" y="6225"/>
                  </a:lnTo>
                  <a:lnTo>
                    <a:pt x="5956" y="6225"/>
                  </a:lnTo>
                  <a:lnTo>
                    <a:pt x="5956" y="5629"/>
                  </a:lnTo>
                  <a:lnTo>
                    <a:pt x="5000" y="4966"/>
                  </a:lnTo>
                  <a:lnTo>
                    <a:pt x="5000" y="3708"/>
                  </a:lnTo>
                  <a:lnTo>
                    <a:pt x="4042" y="3708"/>
                  </a:lnTo>
                  <a:lnTo>
                    <a:pt x="2978" y="2516"/>
                  </a:lnTo>
                  <a:lnTo>
                    <a:pt x="2021" y="1854"/>
                  </a:lnTo>
                  <a:lnTo>
                    <a:pt x="2021" y="1257"/>
                  </a:lnTo>
                  <a:lnTo>
                    <a:pt x="2978" y="0"/>
                  </a:lnTo>
                  <a:lnTo>
                    <a:pt x="2021" y="0"/>
                  </a:lnTo>
                  <a:lnTo>
                    <a:pt x="957" y="0"/>
                  </a:lnTo>
                  <a:lnTo>
                    <a:pt x="957" y="596"/>
                  </a:lnTo>
                  <a:lnTo>
                    <a:pt x="957" y="1257"/>
                  </a:lnTo>
                  <a:lnTo>
                    <a:pt x="0" y="1257"/>
                  </a:lnTo>
                  <a:lnTo>
                    <a:pt x="5000" y="10000"/>
                  </a:lnTo>
                  <a:lnTo>
                    <a:pt x="10000" y="8741"/>
                  </a:lnTo>
                  <a:close/>
                  <a:moveTo>
                    <a:pt x="10000" y="874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1"/>
            <p:cNvSpPr/>
            <p:nvPr/>
          </p:nvSpPr>
          <p:spPr>
            <a:xfrm>
              <a:off x="7347240" y="2890440"/>
              <a:ext cx="952560" cy="5994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444" y="9406"/>
                  </a:moveTo>
                  <a:lnTo>
                    <a:pt x="6973" y="7937"/>
                  </a:lnTo>
                  <a:lnTo>
                    <a:pt x="8296" y="7656"/>
                  </a:lnTo>
                  <a:lnTo>
                    <a:pt x="8476" y="7656"/>
                  </a:lnTo>
                  <a:lnTo>
                    <a:pt x="8476" y="7343"/>
                  </a:lnTo>
                  <a:lnTo>
                    <a:pt x="8476" y="7062"/>
                  </a:lnTo>
                  <a:lnTo>
                    <a:pt x="8677" y="7062"/>
                  </a:lnTo>
                  <a:lnTo>
                    <a:pt x="8857" y="7062"/>
                  </a:lnTo>
                  <a:lnTo>
                    <a:pt x="9238" y="6750"/>
                  </a:lnTo>
                  <a:lnTo>
                    <a:pt x="9238" y="6468"/>
                  </a:lnTo>
                  <a:lnTo>
                    <a:pt x="9619" y="5875"/>
                  </a:lnTo>
                  <a:lnTo>
                    <a:pt x="10000" y="5592"/>
                  </a:lnTo>
                  <a:lnTo>
                    <a:pt x="9619" y="5281"/>
                  </a:lnTo>
                  <a:lnTo>
                    <a:pt x="9418" y="5000"/>
                  </a:lnTo>
                  <a:lnTo>
                    <a:pt x="9238" y="5000"/>
                  </a:lnTo>
                  <a:lnTo>
                    <a:pt x="9238" y="4717"/>
                  </a:lnTo>
                  <a:lnTo>
                    <a:pt x="8857" y="4717"/>
                  </a:lnTo>
                  <a:lnTo>
                    <a:pt x="8857" y="4406"/>
                  </a:lnTo>
                  <a:lnTo>
                    <a:pt x="8857" y="3812"/>
                  </a:lnTo>
                  <a:lnTo>
                    <a:pt x="9058" y="3531"/>
                  </a:lnTo>
                  <a:lnTo>
                    <a:pt x="8857" y="3217"/>
                  </a:lnTo>
                  <a:lnTo>
                    <a:pt x="8857" y="2937"/>
                  </a:lnTo>
                  <a:lnTo>
                    <a:pt x="9058" y="2656"/>
                  </a:lnTo>
                  <a:lnTo>
                    <a:pt x="9238" y="2343"/>
                  </a:lnTo>
                  <a:lnTo>
                    <a:pt x="9238" y="2062"/>
                  </a:lnTo>
                  <a:lnTo>
                    <a:pt x="9238" y="1750"/>
                  </a:lnTo>
                  <a:lnTo>
                    <a:pt x="9238" y="1468"/>
                  </a:lnTo>
                  <a:lnTo>
                    <a:pt x="8677" y="1468"/>
                  </a:lnTo>
                  <a:lnTo>
                    <a:pt x="8476" y="1187"/>
                  </a:lnTo>
                  <a:lnTo>
                    <a:pt x="8476" y="281"/>
                  </a:lnTo>
                  <a:lnTo>
                    <a:pt x="8296" y="281"/>
                  </a:lnTo>
                  <a:lnTo>
                    <a:pt x="8116" y="281"/>
                  </a:lnTo>
                  <a:lnTo>
                    <a:pt x="8116" y="0"/>
                  </a:lnTo>
                  <a:lnTo>
                    <a:pt x="7915" y="0"/>
                  </a:lnTo>
                  <a:lnTo>
                    <a:pt x="1122" y="2062"/>
                  </a:lnTo>
                  <a:lnTo>
                    <a:pt x="1122" y="1187"/>
                  </a:lnTo>
                  <a:lnTo>
                    <a:pt x="741" y="1750"/>
                  </a:lnTo>
                  <a:lnTo>
                    <a:pt x="561" y="1750"/>
                  </a:lnTo>
                  <a:lnTo>
                    <a:pt x="561" y="1468"/>
                  </a:lnTo>
                  <a:lnTo>
                    <a:pt x="360" y="1468"/>
                  </a:lnTo>
                  <a:lnTo>
                    <a:pt x="360" y="2062"/>
                  </a:lnTo>
                  <a:lnTo>
                    <a:pt x="180" y="2343"/>
                  </a:lnTo>
                  <a:lnTo>
                    <a:pt x="0" y="2343"/>
                  </a:lnTo>
                  <a:lnTo>
                    <a:pt x="360" y="6750"/>
                  </a:lnTo>
                  <a:lnTo>
                    <a:pt x="741" y="10000"/>
                  </a:lnTo>
                  <a:lnTo>
                    <a:pt x="2444" y="9406"/>
                  </a:lnTo>
                  <a:close/>
                  <a:moveTo>
                    <a:pt x="2444" y="94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2"/>
            <p:cNvSpPr/>
            <p:nvPr/>
          </p:nvSpPr>
          <p:spPr>
            <a:xfrm>
              <a:off x="7347240" y="2890440"/>
              <a:ext cx="952560" cy="5994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444" y="9406"/>
                  </a:moveTo>
                  <a:lnTo>
                    <a:pt x="6973" y="7937"/>
                  </a:lnTo>
                  <a:lnTo>
                    <a:pt x="8296" y="7656"/>
                  </a:lnTo>
                  <a:lnTo>
                    <a:pt x="8476" y="7656"/>
                  </a:lnTo>
                  <a:lnTo>
                    <a:pt x="8476" y="7343"/>
                  </a:lnTo>
                  <a:lnTo>
                    <a:pt x="8476" y="7062"/>
                  </a:lnTo>
                  <a:lnTo>
                    <a:pt x="8677" y="7062"/>
                  </a:lnTo>
                  <a:lnTo>
                    <a:pt x="8857" y="7062"/>
                  </a:lnTo>
                  <a:lnTo>
                    <a:pt x="9238" y="6750"/>
                  </a:lnTo>
                  <a:lnTo>
                    <a:pt x="9238" y="6468"/>
                  </a:lnTo>
                  <a:lnTo>
                    <a:pt x="9619" y="5875"/>
                  </a:lnTo>
                  <a:lnTo>
                    <a:pt x="10000" y="5592"/>
                  </a:lnTo>
                  <a:lnTo>
                    <a:pt x="9619" y="5281"/>
                  </a:lnTo>
                  <a:lnTo>
                    <a:pt x="9418" y="5000"/>
                  </a:lnTo>
                  <a:lnTo>
                    <a:pt x="9238" y="5000"/>
                  </a:lnTo>
                  <a:lnTo>
                    <a:pt x="9238" y="4717"/>
                  </a:lnTo>
                  <a:lnTo>
                    <a:pt x="8857" y="4717"/>
                  </a:lnTo>
                  <a:lnTo>
                    <a:pt x="8857" y="4406"/>
                  </a:lnTo>
                  <a:lnTo>
                    <a:pt x="8857" y="3812"/>
                  </a:lnTo>
                  <a:lnTo>
                    <a:pt x="9058" y="3531"/>
                  </a:lnTo>
                  <a:lnTo>
                    <a:pt x="8857" y="3217"/>
                  </a:lnTo>
                  <a:lnTo>
                    <a:pt x="8857" y="2937"/>
                  </a:lnTo>
                  <a:lnTo>
                    <a:pt x="9058" y="2656"/>
                  </a:lnTo>
                  <a:lnTo>
                    <a:pt x="9238" y="2343"/>
                  </a:lnTo>
                  <a:lnTo>
                    <a:pt x="9238" y="2062"/>
                  </a:lnTo>
                  <a:lnTo>
                    <a:pt x="9238" y="1750"/>
                  </a:lnTo>
                  <a:lnTo>
                    <a:pt x="9238" y="1468"/>
                  </a:lnTo>
                  <a:lnTo>
                    <a:pt x="8677" y="1468"/>
                  </a:lnTo>
                  <a:lnTo>
                    <a:pt x="8476" y="1187"/>
                  </a:lnTo>
                  <a:lnTo>
                    <a:pt x="8476" y="281"/>
                  </a:lnTo>
                  <a:lnTo>
                    <a:pt x="8296" y="281"/>
                  </a:lnTo>
                  <a:lnTo>
                    <a:pt x="8116" y="281"/>
                  </a:lnTo>
                  <a:lnTo>
                    <a:pt x="8116" y="0"/>
                  </a:lnTo>
                  <a:lnTo>
                    <a:pt x="7915" y="0"/>
                  </a:lnTo>
                  <a:lnTo>
                    <a:pt x="1122" y="2062"/>
                  </a:lnTo>
                  <a:lnTo>
                    <a:pt x="1122" y="1187"/>
                  </a:lnTo>
                  <a:lnTo>
                    <a:pt x="741" y="1750"/>
                  </a:lnTo>
                  <a:lnTo>
                    <a:pt x="561" y="1750"/>
                  </a:lnTo>
                  <a:lnTo>
                    <a:pt x="561" y="1468"/>
                  </a:lnTo>
                  <a:lnTo>
                    <a:pt x="360" y="1468"/>
                  </a:lnTo>
                  <a:lnTo>
                    <a:pt x="360" y="2062"/>
                  </a:lnTo>
                  <a:lnTo>
                    <a:pt x="180" y="2343"/>
                  </a:lnTo>
                  <a:lnTo>
                    <a:pt x="0" y="2343"/>
                  </a:lnTo>
                  <a:lnTo>
                    <a:pt x="360" y="6750"/>
                  </a:lnTo>
                  <a:lnTo>
                    <a:pt x="741" y="10000"/>
                  </a:lnTo>
                  <a:lnTo>
                    <a:pt x="2444" y="94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3"/>
            <p:cNvSpPr/>
            <p:nvPr/>
          </p:nvSpPr>
          <p:spPr>
            <a:xfrm>
              <a:off x="8173800" y="2995560"/>
              <a:ext cx="232920" cy="477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37" y="6666"/>
                  </a:moveTo>
                  <a:lnTo>
                    <a:pt x="0" y="7411"/>
                  </a:lnTo>
                  <a:lnTo>
                    <a:pt x="737" y="7411"/>
                  </a:lnTo>
                  <a:lnTo>
                    <a:pt x="737" y="7764"/>
                  </a:lnTo>
                  <a:lnTo>
                    <a:pt x="1557" y="8156"/>
                  </a:lnTo>
                  <a:lnTo>
                    <a:pt x="2295" y="8509"/>
                  </a:lnTo>
                  <a:lnTo>
                    <a:pt x="3852" y="8862"/>
                  </a:lnTo>
                  <a:lnTo>
                    <a:pt x="5409" y="8862"/>
                  </a:lnTo>
                  <a:lnTo>
                    <a:pt x="5409" y="9607"/>
                  </a:lnTo>
                  <a:lnTo>
                    <a:pt x="5409" y="10000"/>
                  </a:lnTo>
                  <a:lnTo>
                    <a:pt x="6147" y="10000"/>
                  </a:lnTo>
                  <a:lnTo>
                    <a:pt x="6967" y="9254"/>
                  </a:lnTo>
                  <a:lnTo>
                    <a:pt x="6967" y="8862"/>
                  </a:lnTo>
                  <a:lnTo>
                    <a:pt x="7704" y="8156"/>
                  </a:lnTo>
                  <a:lnTo>
                    <a:pt x="7704" y="7764"/>
                  </a:lnTo>
                  <a:lnTo>
                    <a:pt x="9262" y="7019"/>
                  </a:lnTo>
                  <a:lnTo>
                    <a:pt x="9262" y="6666"/>
                  </a:lnTo>
                  <a:lnTo>
                    <a:pt x="10000" y="6273"/>
                  </a:lnTo>
                  <a:lnTo>
                    <a:pt x="10000" y="5920"/>
                  </a:lnTo>
                  <a:lnTo>
                    <a:pt x="10000" y="4431"/>
                  </a:lnTo>
                  <a:lnTo>
                    <a:pt x="9262" y="3725"/>
                  </a:lnTo>
                  <a:lnTo>
                    <a:pt x="8442" y="2980"/>
                  </a:lnTo>
                  <a:lnTo>
                    <a:pt x="7704" y="3333"/>
                  </a:lnTo>
                  <a:lnTo>
                    <a:pt x="6967" y="3333"/>
                  </a:lnTo>
                  <a:lnTo>
                    <a:pt x="6967" y="2980"/>
                  </a:lnTo>
                  <a:lnTo>
                    <a:pt x="7704" y="2588"/>
                  </a:lnTo>
                  <a:lnTo>
                    <a:pt x="7704" y="2235"/>
                  </a:lnTo>
                  <a:lnTo>
                    <a:pt x="7704" y="1843"/>
                  </a:lnTo>
                  <a:lnTo>
                    <a:pt x="7704" y="1489"/>
                  </a:lnTo>
                  <a:lnTo>
                    <a:pt x="8442" y="1137"/>
                  </a:lnTo>
                  <a:lnTo>
                    <a:pt x="7704" y="745"/>
                  </a:lnTo>
                  <a:lnTo>
                    <a:pt x="2295" y="0"/>
                  </a:lnTo>
                  <a:lnTo>
                    <a:pt x="2295" y="392"/>
                  </a:lnTo>
                  <a:lnTo>
                    <a:pt x="2295" y="745"/>
                  </a:lnTo>
                  <a:lnTo>
                    <a:pt x="1557" y="1137"/>
                  </a:lnTo>
                  <a:lnTo>
                    <a:pt x="737" y="1489"/>
                  </a:lnTo>
                  <a:lnTo>
                    <a:pt x="737" y="1843"/>
                  </a:lnTo>
                  <a:lnTo>
                    <a:pt x="1557" y="2235"/>
                  </a:lnTo>
                  <a:lnTo>
                    <a:pt x="737" y="2588"/>
                  </a:lnTo>
                  <a:lnTo>
                    <a:pt x="737" y="3333"/>
                  </a:lnTo>
                  <a:lnTo>
                    <a:pt x="737" y="3725"/>
                  </a:lnTo>
                  <a:lnTo>
                    <a:pt x="2295" y="3725"/>
                  </a:lnTo>
                  <a:lnTo>
                    <a:pt x="2295" y="4078"/>
                  </a:lnTo>
                  <a:lnTo>
                    <a:pt x="3031" y="4078"/>
                  </a:lnTo>
                  <a:lnTo>
                    <a:pt x="3852" y="4431"/>
                  </a:lnTo>
                  <a:lnTo>
                    <a:pt x="5409" y="4823"/>
                  </a:lnTo>
                  <a:lnTo>
                    <a:pt x="3852" y="5176"/>
                  </a:lnTo>
                  <a:lnTo>
                    <a:pt x="2295" y="5920"/>
                  </a:lnTo>
                  <a:lnTo>
                    <a:pt x="2295" y="6273"/>
                  </a:lnTo>
                  <a:lnTo>
                    <a:pt x="737" y="6666"/>
                  </a:lnTo>
                  <a:close/>
                  <a:moveTo>
                    <a:pt x="737" y="666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4"/>
            <p:cNvSpPr/>
            <p:nvPr/>
          </p:nvSpPr>
          <p:spPr>
            <a:xfrm>
              <a:off x="8173800" y="2995560"/>
              <a:ext cx="232920" cy="477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37" y="6666"/>
                  </a:moveTo>
                  <a:lnTo>
                    <a:pt x="0" y="7411"/>
                  </a:lnTo>
                  <a:lnTo>
                    <a:pt x="737" y="7411"/>
                  </a:lnTo>
                  <a:lnTo>
                    <a:pt x="737" y="7764"/>
                  </a:lnTo>
                  <a:lnTo>
                    <a:pt x="1557" y="8156"/>
                  </a:lnTo>
                  <a:lnTo>
                    <a:pt x="2295" y="8509"/>
                  </a:lnTo>
                  <a:lnTo>
                    <a:pt x="3852" y="8862"/>
                  </a:lnTo>
                  <a:lnTo>
                    <a:pt x="5409" y="8862"/>
                  </a:lnTo>
                  <a:lnTo>
                    <a:pt x="5409" y="9607"/>
                  </a:lnTo>
                  <a:lnTo>
                    <a:pt x="5409" y="10000"/>
                  </a:lnTo>
                  <a:lnTo>
                    <a:pt x="6147" y="10000"/>
                  </a:lnTo>
                  <a:lnTo>
                    <a:pt x="6967" y="9254"/>
                  </a:lnTo>
                  <a:lnTo>
                    <a:pt x="6967" y="8862"/>
                  </a:lnTo>
                  <a:lnTo>
                    <a:pt x="7704" y="8156"/>
                  </a:lnTo>
                  <a:lnTo>
                    <a:pt x="7704" y="7764"/>
                  </a:lnTo>
                  <a:lnTo>
                    <a:pt x="9262" y="7019"/>
                  </a:lnTo>
                  <a:lnTo>
                    <a:pt x="9262" y="6666"/>
                  </a:lnTo>
                  <a:lnTo>
                    <a:pt x="10000" y="6273"/>
                  </a:lnTo>
                  <a:lnTo>
                    <a:pt x="10000" y="5920"/>
                  </a:lnTo>
                  <a:lnTo>
                    <a:pt x="10000" y="4431"/>
                  </a:lnTo>
                  <a:lnTo>
                    <a:pt x="9262" y="3725"/>
                  </a:lnTo>
                  <a:lnTo>
                    <a:pt x="8442" y="2980"/>
                  </a:lnTo>
                  <a:lnTo>
                    <a:pt x="7704" y="3333"/>
                  </a:lnTo>
                  <a:lnTo>
                    <a:pt x="6967" y="3333"/>
                  </a:lnTo>
                  <a:lnTo>
                    <a:pt x="6967" y="2980"/>
                  </a:lnTo>
                  <a:lnTo>
                    <a:pt x="7704" y="2588"/>
                  </a:lnTo>
                  <a:lnTo>
                    <a:pt x="7704" y="2235"/>
                  </a:lnTo>
                  <a:lnTo>
                    <a:pt x="7704" y="1843"/>
                  </a:lnTo>
                  <a:lnTo>
                    <a:pt x="7704" y="1489"/>
                  </a:lnTo>
                  <a:lnTo>
                    <a:pt x="8442" y="1137"/>
                  </a:lnTo>
                  <a:lnTo>
                    <a:pt x="7704" y="745"/>
                  </a:lnTo>
                  <a:lnTo>
                    <a:pt x="2295" y="0"/>
                  </a:lnTo>
                  <a:lnTo>
                    <a:pt x="2295" y="392"/>
                  </a:lnTo>
                  <a:lnTo>
                    <a:pt x="2295" y="745"/>
                  </a:lnTo>
                  <a:lnTo>
                    <a:pt x="1557" y="1137"/>
                  </a:lnTo>
                  <a:lnTo>
                    <a:pt x="737" y="1489"/>
                  </a:lnTo>
                  <a:lnTo>
                    <a:pt x="737" y="1843"/>
                  </a:lnTo>
                  <a:lnTo>
                    <a:pt x="1557" y="2235"/>
                  </a:lnTo>
                  <a:lnTo>
                    <a:pt x="737" y="2588"/>
                  </a:lnTo>
                  <a:lnTo>
                    <a:pt x="737" y="3333"/>
                  </a:lnTo>
                  <a:lnTo>
                    <a:pt x="737" y="3725"/>
                  </a:lnTo>
                  <a:lnTo>
                    <a:pt x="2295" y="3725"/>
                  </a:lnTo>
                  <a:lnTo>
                    <a:pt x="2295" y="4078"/>
                  </a:lnTo>
                  <a:lnTo>
                    <a:pt x="3031" y="4078"/>
                  </a:lnTo>
                  <a:lnTo>
                    <a:pt x="3852" y="4431"/>
                  </a:lnTo>
                  <a:lnTo>
                    <a:pt x="5409" y="4823"/>
                  </a:lnTo>
                  <a:lnTo>
                    <a:pt x="3852" y="5176"/>
                  </a:lnTo>
                  <a:lnTo>
                    <a:pt x="2295" y="5920"/>
                  </a:lnTo>
                  <a:lnTo>
                    <a:pt x="2295" y="6273"/>
                  </a:lnTo>
                  <a:lnTo>
                    <a:pt x="737" y="666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5"/>
            <p:cNvSpPr/>
            <p:nvPr/>
          </p:nvSpPr>
          <p:spPr>
            <a:xfrm>
              <a:off x="8389800" y="2766960"/>
              <a:ext cx="268560" cy="2642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985"/>
                  </a:moveTo>
                  <a:lnTo>
                    <a:pt x="3333" y="638"/>
                  </a:lnTo>
                  <a:lnTo>
                    <a:pt x="3333" y="1347"/>
                  </a:lnTo>
                  <a:lnTo>
                    <a:pt x="3333" y="638"/>
                  </a:lnTo>
                  <a:lnTo>
                    <a:pt x="8652" y="0"/>
                  </a:lnTo>
                  <a:lnTo>
                    <a:pt x="10000" y="3970"/>
                  </a:lnTo>
                  <a:lnTo>
                    <a:pt x="10000" y="4680"/>
                  </a:lnTo>
                  <a:lnTo>
                    <a:pt x="10000" y="5319"/>
                  </a:lnTo>
                  <a:lnTo>
                    <a:pt x="9361" y="5319"/>
                  </a:lnTo>
                  <a:lnTo>
                    <a:pt x="7304" y="5319"/>
                  </a:lnTo>
                  <a:lnTo>
                    <a:pt x="6666" y="5319"/>
                  </a:lnTo>
                  <a:lnTo>
                    <a:pt x="6666" y="6028"/>
                  </a:lnTo>
                  <a:lnTo>
                    <a:pt x="6028" y="6666"/>
                  </a:lnTo>
                  <a:lnTo>
                    <a:pt x="3970" y="7375"/>
                  </a:lnTo>
                  <a:lnTo>
                    <a:pt x="3970" y="6666"/>
                  </a:lnTo>
                  <a:lnTo>
                    <a:pt x="3333" y="8014"/>
                  </a:lnTo>
                  <a:lnTo>
                    <a:pt x="1347" y="9361"/>
                  </a:lnTo>
                  <a:lnTo>
                    <a:pt x="638" y="10000"/>
                  </a:lnTo>
                  <a:lnTo>
                    <a:pt x="0" y="9361"/>
                  </a:lnTo>
                  <a:lnTo>
                    <a:pt x="1347" y="8014"/>
                  </a:lnTo>
                  <a:lnTo>
                    <a:pt x="638" y="7375"/>
                  </a:lnTo>
                  <a:lnTo>
                    <a:pt x="0" y="1985"/>
                  </a:lnTo>
                  <a:close/>
                  <a:moveTo>
                    <a:pt x="0" y="1985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6"/>
            <p:cNvSpPr/>
            <p:nvPr/>
          </p:nvSpPr>
          <p:spPr>
            <a:xfrm>
              <a:off x="8389800" y="2766960"/>
              <a:ext cx="268560" cy="2642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985"/>
                  </a:moveTo>
                  <a:lnTo>
                    <a:pt x="3333" y="638"/>
                  </a:lnTo>
                  <a:lnTo>
                    <a:pt x="3333" y="1347"/>
                  </a:lnTo>
                  <a:lnTo>
                    <a:pt x="3333" y="638"/>
                  </a:lnTo>
                  <a:lnTo>
                    <a:pt x="8652" y="0"/>
                  </a:lnTo>
                  <a:lnTo>
                    <a:pt x="10000" y="3970"/>
                  </a:lnTo>
                  <a:lnTo>
                    <a:pt x="10000" y="4680"/>
                  </a:lnTo>
                  <a:lnTo>
                    <a:pt x="10000" y="5319"/>
                  </a:lnTo>
                  <a:lnTo>
                    <a:pt x="9361" y="5319"/>
                  </a:lnTo>
                  <a:lnTo>
                    <a:pt x="7304" y="5319"/>
                  </a:lnTo>
                  <a:lnTo>
                    <a:pt x="6666" y="5319"/>
                  </a:lnTo>
                  <a:lnTo>
                    <a:pt x="6666" y="6028"/>
                  </a:lnTo>
                  <a:lnTo>
                    <a:pt x="6028" y="6666"/>
                  </a:lnTo>
                  <a:lnTo>
                    <a:pt x="3970" y="7375"/>
                  </a:lnTo>
                  <a:lnTo>
                    <a:pt x="3970" y="6666"/>
                  </a:lnTo>
                  <a:lnTo>
                    <a:pt x="3333" y="8014"/>
                  </a:lnTo>
                  <a:lnTo>
                    <a:pt x="1347" y="9361"/>
                  </a:lnTo>
                  <a:lnTo>
                    <a:pt x="638" y="10000"/>
                  </a:lnTo>
                  <a:lnTo>
                    <a:pt x="0" y="9361"/>
                  </a:lnTo>
                  <a:lnTo>
                    <a:pt x="1347" y="8014"/>
                  </a:lnTo>
                  <a:lnTo>
                    <a:pt x="638" y="7375"/>
                  </a:lnTo>
                  <a:lnTo>
                    <a:pt x="0" y="1985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97"/>
            <p:cNvSpPr/>
            <p:nvPr/>
          </p:nvSpPr>
          <p:spPr>
            <a:xfrm>
              <a:off x="8622360" y="2749680"/>
              <a:ext cx="145440" cy="157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71"/>
                  </a:moveTo>
                  <a:lnTo>
                    <a:pt x="2500" y="7738"/>
                  </a:lnTo>
                  <a:lnTo>
                    <a:pt x="2500" y="8928"/>
                  </a:lnTo>
                  <a:lnTo>
                    <a:pt x="2500" y="10000"/>
                  </a:lnTo>
                  <a:lnTo>
                    <a:pt x="3815" y="7738"/>
                  </a:lnTo>
                  <a:lnTo>
                    <a:pt x="6184" y="6666"/>
                  </a:lnTo>
                  <a:lnTo>
                    <a:pt x="5000" y="6666"/>
                  </a:lnTo>
                  <a:lnTo>
                    <a:pt x="5000" y="5595"/>
                  </a:lnTo>
                  <a:lnTo>
                    <a:pt x="6184" y="4404"/>
                  </a:lnTo>
                  <a:lnTo>
                    <a:pt x="7500" y="4404"/>
                  </a:lnTo>
                  <a:lnTo>
                    <a:pt x="7500" y="5595"/>
                  </a:lnTo>
                  <a:lnTo>
                    <a:pt x="7500" y="6666"/>
                  </a:lnTo>
                  <a:lnTo>
                    <a:pt x="8684" y="6666"/>
                  </a:lnTo>
                  <a:lnTo>
                    <a:pt x="8684" y="5595"/>
                  </a:lnTo>
                  <a:lnTo>
                    <a:pt x="10000" y="5595"/>
                  </a:lnTo>
                  <a:lnTo>
                    <a:pt x="8684" y="4404"/>
                  </a:lnTo>
                  <a:lnTo>
                    <a:pt x="8684" y="3333"/>
                  </a:lnTo>
                  <a:lnTo>
                    <a:pt x="7500" y="3333"/>
                  </a:lnTo>
                  <a:lnTo>
                    <a:pt x="7500" y="2142"/>
                  </a:lnTo>
                  <a:lnTo>
                    <a:pt x="5000" y="2142"/>
                  </a:lnTo>
                  <a:lnTo>
                    <a:pt x="5000" y="1071"/>
                  </a:lnTo>
                  <a:lnTo>
                    <a:pt x="3815" y="1071"/>
                  </a:lnTo>
                  <a:lnTo>
                    <a:pt x="3815" y="0"/>
                  </a:lnTo>
                  <a:lnTo>
                    <a:pt x="0" y="1071"/>
                  </a:lnTo>
                  <a:close/>
                  <a:moveTo>
                    <a:pt x="0" y="107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98"/>
            <p:cNvSpPr/>
            <p:nvPr/>
          </p:nvSpPr>
          <p:spPr>
            <a:xfrm>
              <a:off x="8370360" y="2555280"/>
              <a:ext cx="540360" cy="2826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370"/>
                  </a:moveTo>
                  <a:lnTo>
                    <a:pt x="2014" y="3708"/>
                  </a:lnTo>
                  <a:lnTo>
                    <a:pt x="5334" y="1854"/>
                  </a:lnTo>
                  <a:lnTo>
                    <a:pt x="5689" y="1257"/>
                  </a:lnTo>
                  <a:lnTo>
                    <a:pt x="5689" y="1854"/>
                  </a:lnTo>
                  <a:lnTo>
                    <a:pt x="5689" y="1257"/>
                  </a:lnTo>
                  <a:lnTo>
                    <a:pt x="6006" y="596"/>
                  </a:lnTo>
                  <a:lnTo>
                    <a:pt x="6325" y="0"/>
                  </a:lnTo>
                  <a:lnTo>
                    <a:pt x="6325" y="596"/>
                  </a:lnTo>
                  <a:lnTo>
                    <a:pt x="6678" y="1257"/>
                  </a:lnTo>
                  <a:lnTo>
                    <a:pt x="6996" y="1854"/>
                  </a:lnTo>
                  <a:lnTo>
                    <a:pt x="6996" y="2516"/>
                  </a:lnTo>
                  <a:lnTo>
                    <a:pt x="6678" y="3112"/>
                  </a:lnTo>
                  <a:lnTo>
                    <a:pt x="6678" y="3708"/>
                  </a:lnTo>
                  <a:lnTo>
                    <a:pt x="6678" y="4370"/>
                  </a:lnTo>
                  <a:lnTo>
                    <a:pt x="6996" y="4370"/>
                  </a:lnTo>
                  <a:lnTo>
                    <a:pt x="7349" y="4966"/>
                  </a:lnTo>
                  <a:lnTo>
                    <a:pt x="7985" y="5629"/>
                  </a:lnTo>
                  <a:lnTo>
                    <a:pt x="8339" y="6225"/>
                  </a:lnTo>
                  <a:lnTo>
                    <a:pt x="8339" y="7483"/>
                  </a:lnTo>
                  <a:lnTo>
                    <a:pt x="9010" y="7483"/>
                  </a:lnTo>
                  <a:lnTo>
                    <a:pt x="9328" y="6887"/>
                  </a:lnTo>
                  <a:lnTo>
                    <a:pt x="9681" y="5629"/>
                  </a:lnTo>
                  <a:lnTo>
                    <a:pt x="9328" y="5629"/>
                  </a:lnTo>
                  <a:lnTo>
                    <a:pt x="9010" y="4966"/>
                  </a:lnTo>
                  <a:lnTo>
                    <a:pt x="9328" y="4966"/>
                  </a:lnTo>
                  <a:lnTo>
                    <a:pt x="9681" y="5629"/>
                  </a:lnTo>
                  <a:lnTo>
                    <a:pt x="10000" y="7483"/>
                  </a:lnTo>
                  <a:lnTo>
                    <a:pt x="10000" y="8079"/>
                  </a:lnTo>
                  <a:lnTo>
                    <a:pt x="9681" y="7483"/>
                  </a:lnTo>
                  <a:lnTo>
                    <a:pt x="9328" y="8079"/>
                  </a:lnTo>
                  <a:lnTo>
                    <a:pt x="9010" y="8079"/>
                  </a:lnTo>
                  <a:lnTo>
                    <a:pt x="8339" y="8741"/>
                  </a:lnTo>
                  <a:lnTo>
                    <a:pt x="8339" y="8079"/>
                  </a:lnTo>
                  <a:lnTo>
                    <a:pt x="7985" y="8079"/>
                  </a:lnTo>
                  <a:lnTo>
                    <a:pt x="7667" y="8741"/>
                  </a:lnTo>
                  <a:lnTo>
                    <a:pt x="7349" y="10000"/>
                  </a:lnTo>
                  <a:lnTo>
                    <a:pt x="6996" y="9337"/>
                  </a:lnTo>
                  <a:lnTo>
                    <a:pt x="6996" y="8741"/>
                  </a:lnTo>
                  <a:lnTo>
                    <a:pt x="6678" y="8741"/>
                  </a:lnTo>
                  <a:lnTo>
                    <a:pt x="6678" y="8079"/>
                  </a:lnTo>
                  <a:lnTo>
                    <a:pt x="6006" y="8079"/>
                  </a:lnTo>
                  <a:lnTo>
                    <a:pt x="6006" y="7483"/>
                  </a:lnTo>
                  <a:lnTo>
                    <a:pt x="5689" y="7483"/>
                  </a:lnTo>
                  <a:lnTo>
                    <a:pt x="5689" y="6887"/>
                  </a:lnTo>
                  <a:lnTo>
                    <a:pt x="4664" y="7483"/>
                  </a:lnTo>
                  <a:lnTo>
                    <a:pt x="2014" y="8079"/>
                  </a:lnTo>
                  <a:lnTo>
                    <a:pt x="2014" y="8741"/>
                  </a:lnTo>
                  <a:lnTo>
                    <a:pt x="2014" y="8079"/>
                  </a:lnTo>
                  <a:lnTo>
                    <a:pt x="353" y="9337"/>
                  </a:lnTo>
                  <a:lnTo>
                    <a:pt x="0" y="9337"/>
                  </a:lnTo>
                  <a:lnTo>
                    <a:pt x="0" y="4370"/>
                  </a:lnTo>
                  <a:close/>
                  <a:moveTo>
                    <a:pt x="0" y="437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99"/>
            <p:cNvSpPr/>
            <p:nvPr/>
          </p:nvSpPr>
          <p:spPr>
            <a:xfrm>
              <a:off x="8370360" y="2555280"/>
              <a:ext cx="540360" cy="2826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370"/>
                  </a:moveTo>
                  <a:lnTo>
                    <a:pt x="2014" y="3708"/>
                  </a:lnTo>
                  <a:lnTo>
                    <a:pt x="5334" y="1854"/>
                  </a:lnTo>
                  <a:lnTo>
                    <a:pt x="5689" y="1257"/>
                  </a:lnTo>
                  <a:lnTo>
                    <a:pt x="5689" y="1854"/>
                  </a:lnTo>
                  <a:lnTo>
                    <a:pt x="5689" y="1257"/>
                  </a:lnTo>
                  <a:lnTo>
                    <a:pt x="6006" y="596"/>
                  </a:lnTo>
                  <a:lnTo>
                    <a:pt x="6325" y="0"/>
                  </a:lnTo>
                  <a:lnTo>
                    <a:pt x="6325" y="596"/>
                  </a:lnTo>
                  <a:lnTo>
                    <a:pt x="6678" y="1257"/>
                  </a:lnTo>
                  <a:lnTo>
                    <a:pt x="6996" y="1854"/>
                  </a:lnTo>
                  <a:lnTo>
                    <a:pt x="6996" y="2516"/>
                  </a:lnTo>
                  <a:lnTo>
                    <a:pt x="6678" y="3112"/>
                  </a:lnTo>
                  <a:lnTo>
                    <a:pt x="6678" y="3708"/>
                  </a:lnTo>
                  <a:lnTo>
                    <a:pt x="6678" y="4370"/>
                  </a:lnTo>
                  <a:lnTo>
                    <a:pt x="6996" y="4370"/>
                  </a:lnTo>
                  <a:lnTo>
                    <a:pt x="7349" y="4966"/>
                  </a:lnTo>
                  <a:lnTo>
                    <a:pt x="7985" y="5629"/>
                  </a:lnTo>
                  <a:lnTo>
                    <a:pt x="8339" y="6225"/>
                  </a:lnTo>
                  <a:lnTo>
                    <a:pt x="8339" y="7483"/>
                  </a:lnTo>
                  <a:lnTo>
                    <a:pt x="9010" y="7483"/>
                  </a:lnTo>
                  <a:lnTo>
                    <a:pt x="9328" y="6887"/>
                  </a:lnTo>
                  <a:lnTo>
                    <a:pt x="9681" y="5629"/>
                  </a:lnTo>
                  <a:lnTo>
                    <a:pt x="9328" y="5629"/>
                  </a:lnTo>
                  <a:lnTo>
                    <a:pt x="9010" y="4966"/>
                  </a:lnTo>
                  <a:lnTo>
                    <a:pt x="9328" y="4966"/>
                  </a:lnTo>
                  <a:lnTo>
                    <a:pt x="9681" y="5629"/>
                  </a:lnTo>
                  <a:lnTo>
                    <a:pt x="10000" y="7483"/>
                  </a:lnTo>
                  <a:lnTo>
                    <a:pt x="10000" y="8079"/>
                  </a:lnTo>
                  <a:lnTo>
                    <a:pt x="9681" y="7483"/>
                  </a:lnTo>
                  <a:lnTo>
                    <a:pt x="9328" y="8079"/>
                  </a:lnTo>
                  <a:lnTo>
                    <a:pt x="9010" y="8079"/>
                  </a:lnTo>
                  <a:lnTo>
                    <a:pt x="8339" y="8741"/>
                  </a:lnTo>
                  <a:lnTo>
                    <a:pt x="8339" y="8079"/>
                  </a:lnTo>
                  <a:lnTo>
                    <a:pt x="7985" y="8079"/>
                  </a:lnTo>
                  <a:lnTo>
                    <a:pt x="7667" y="8741"/>
                  </a:lnTo>
                  <a:lnTo>
                    <a:pt x="7349" y="10000"/>
                  </a:lnTo>
                  <a:lnTo>
                    <a:pt x="6996" y="9337"/>
                  </a:lnTo>
                  <a:lnTo>
                    <a:pt x="6996" y="8741"/>
                  </a:lnTo>
                  <a:lnTo>
                    <a:pt x="6678" y="8741"/>
                  </a:lnTo>
                  <a:lnTo>
                    <a:pt x="6678" y="8079"/>
                  </a:lnTo>
                  <a:lnTo>
                    <a:pt x="6006" y="8079"/>
                  </a:lnTo>
                  <a:lnTo>
                    <a:pt x="6006" y="7483"/>
                  </a:lnTo>
                  <a:lnTo>
                    <a:pt x="5689" y="7483"/>
                  </a:lnTo>
                  <a:lnTo>
                    <a:pt x="5689" y="6887"/>
                  </a:lnTo>
                  <a:lnTo>
                    <a:pt x="4664" y="7483"/>
                  </a:lnTo>
                  <a:lnTo>
                    <a:pt x="2014" y="8079"/>
                  </a:lnTo>
                  <a:lnTo>
                    <a:pt x="2014" y="8741"/>
                  </a:lnTo>
                  <a:lnTo>
                    <a:pt x="2014" y="8079"/>
                  </a:lnTo>
                  <a:lnTo>
                    <a:pt x="353" y="9337"/>
                  </a:lnTo>
                  <a:lnTo>
                    <a:pt x="0" y="9337"/>
                  </a:lnTo>
                  <a:lnTo>
                    <a:pt x="0" y="437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0"/>
            <p:cNvSpPr/>
            <p:nvPr/>
          </p:nvSpPr>
          <p:spPr>
            <a:xfrm>
              <a:off x="8244360" y="2183760"/>
              <a:ext cx="288360" cy="4950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60"/>
                  </a:moveTo>
                  <a:lnTo>
                    <a:pt x="662" y="1780"/>
                  </a:lnTo>
                  <a:lnTo>
                    <a:pt x="1920" y="3219"/>
                  </a:lnTo>
                  <a:lnTo>
                    <a:pt x="1920" y="4280"/>
                  </a:lnTo>
                  <a:lnTo>
                    <a:pt x="1920" y="5000"/>
                  </a:lnTo>
                  <a:lnTo>
                    <a:pt x="2516" y="6059"/>
                  </a:lnTo>
                  <a:lnTo>
                    <a:pt x="1920" y="6780"/>
                  </a:lnTo>
                  <a:lnTo>
                    <a:pt x="2516" y="6780"/>
                  </a:lnTo>
                  <a:lnTo>
                    <a:pt x="3178" y="6780"/>
                  </a:lnTo>
                  <a:lnTo>
                    <a:pt x="3773" y="7159"/>
                  </a:lnTo>
                  <a:lnTo>
                    <a:pt x="3773" y="8219"/>
                  </a:lnTo>
                  <a:lnTo>
                    <a:pt x="3773" y="8560"/>
                  </a:lnTo>
                  <a:lnTo>
                    <a:pt x="3773" y="9280"/>
                  </a:lnTo>
                  <a:lnTo>
                    <a:pt x="4370" y="10000"/>
                  </a:lnTo>
                  <a:lnTo>
                    <a:pt x="8145" y="9621"/>
                  </a:lnTo>
                  <a:lnTo>
                    <a:pt x="8145" y="9280"/>
                  </a:lnTo>
                  <a:lnTo>
                    <a:pt x="8145" y="8939"/>
                  </a:lnTo>
                  <a:lnTo>
                    <a:pt x="8145" y="8560"/>
                  </a:lnTo>
                  <a:lnTo>
                    <a:pt x="8145" y="8219"/>
                  </a:lnTo>
                  <a:lnTo>
                    <a:pt x="7549" y="6439"/>
                  </a:lnTo>
                  <a:lnTo>
                    <a:pt x="7549" y="5719"/>
                  </a:lnTo>
                  <a:lnTo>
                    <a:pt x="8145" y="5000"/>
                  </a:lnTo>
                  <a:lnTo>
                    <a:pt x="8145" y="4280"/>
                  </a:lnTo>
                  <a:lnTo>
                    <a:pt x="8145" y="3939"/>
                  </a:lnTo>
                  <a:lnTo>
                    <a:pt x="8145" y="3559"/>
                  </a:lnTo>
                  <a:lnTo>
                    <a:pt x="8145" y="3219"/>
                  </a:lnTo>
                  <a:lnTo>
                    <a:pt x="9403" y="2500"/>
                  </a:lnTo>
                  <a:lnTo>
                    <a:pt x="10000" y="1780"/>
                  </a:lnTo>
                  <a:lnTo>
                    <a:pt x="9403" y="1060"/>
                  </a:lnTo>
                  <a:lnTo>
                    <a:pt x="9403" y="719"/>
                  </a:lnTo>
                  <a:lnTo>
                    <a:pt x="8741" y="0"/>
                  </a:lnTo>
                  <a:lnTo>
                    <a:pt x="0" y="1060"/>
                  </a:lnTo>
                  <a:close/>
                  <a:moveTo>
                    <a:pt x="0" y="106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01"/>
            <p:cNvSpPr/>
            <p:nvPr/>
          </p:nvSpPr>
          <p:spPr>
            <a:xfrm>
              <a:off x="8244360" y="2183760"/>
              <a:ext cx="288360" cy="4950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60"/>
                  </a:moveTo>
                  <a:lnTo>
                    <a:pt x="662" y="1780"/>
                  </a:lnTo>
                  <a:lnTo>
                    <a:pt x="1920" y="3219"/>
                  </a:lnTo>
                  <a:lnTo>
                    <a:pt x="1920" y="4280"/>
                  </a:lnTo>
                  <a:lnTo>
                    <a:pt x="1920" y="5000"/>
                  </a:lnTo>
                  <a:lnTo>
                    <a:pt x="2516" y="6059"/>
                  </a:lnTo>
                  <a:lnTo>
                    <a:pt x="1920" y="6780"/>
                  </a:lnTo>
                  <a:lnTo>
                    <a:pt x="2516" y="6780"/>
                  </a:lnTo>
                  <a:lnTo>
                    <a:pt x="3178" y="6780"/>
                  </a:lnTo>
                  <a:lnTo>
                    <a:pt x="3773" y="7159"/>
                  </a:lnTo>
                  <a:lnTo>
                    <a:pt x="3773" y="8219"/>
                  </a:lnTo>
                  <a:lnTo>
                    <a:pt x="3773" y="8560"/>
                  </a:lnTo>
                  <a:lnTo>
                    <a:pt x="3773" y="9280"/>
                  </a:lnTo>
                  <a:lnTo>
                    <a:pt x="4370" y="10000"/>
                  </a:lnTo>
                  <a:lnTo>
                    <a:pt x="8145" y="9621"/>
                  </a:lnTo>
                  <a:lnTo>
                    <a:pt x="8145" y="9280"/>
                  </a:lnTo>
                  <a:lnTo>
                    <a:pt x="8145" y="8939"/>
                  </a:lnTo>
                  <a:lnTo>
                    <a:pt x="8145" y="8560"/>
                  </a:lnTo>
                  <a:lnTo>
                    <a:pt x="8145" y="8219"/>
                  </a:lnTo>
                  <a:lnTo>
                    <a:pt x="7549" y="6439"/>
                  </a:lnTo>
                  <a:lnTo>
                    <a:pt x="7549" y="5719"/>
                  </a:lnTo>
                  <a:lnTo>
                    <a:pt x="8145" y="5000"/>
                  </a:lnTo>
                  <a:lnTo>
                    <a:pt x="8145" y="4280"/>
                  </a:lnTo>
                  <a:lnTo>
                    <a:pt x="8145" y="3939"/>
                  </a:lnTo>
                  <a:lnTo>
                    <a:pt x="8145" y="3559"/>
                  </a:lnTo>
                  <a:lnTo>
                    <a:pt x="8145" y="3219"/>
                  </a:lnTo>
                  <a:lnTo>
                    <a:pt x="9403" y="2500"/>
                  </a:lnTo>
                  <a:lnTo>
                    <a:pt x="10000" y="1780"/>
                  </a:lnTo>
                  <a:lnTo>
                    <a:pt x="9403" y="1060"/>
                  </a:lnTo>
                  <a:lnTo>
                    <a:pt x="9403" y="719"/>
                  </a:lnTo>
                  <a:lnTo>
                    <a:pt x="8741" y="0"/>
                  </a:lnTo>
                  <a:lnTo>
                    <a:pt x="0" y="106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02"/>
            <p:cNvSpPr/>
            <p:nvPr/>
          </p:nvSpPr>
          <p:spPr>
            <a:xfrm>
              <a:off x="8462160" y="2095560"/>
              <a:ext cx="269280" cy="563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90" y="8438"/>
                  </a:moveTo>
                  <a:lnTo>
                    <a:pt x="9290" y="8139"/>
                  </a:lnTo>
                  <a:lnTo>
                    <a:pt x="8652" y="8438"/>
                  </a:lnTo>
                  <a:lnTo>
                    <a:pt x="8014" y="8770"/>
                  </a:lnTo>
                  <a:lnTo>
                    <a:pt x="8014" y="9069"/>
                  </a:lnTo>
                  <a:lnTo>
                    <a:pt x="8014" y="8770"/>
                  </a:lnTo>
                  <a:lnTo>
                    <a:pt x="7304" y="9069"/>
                  </a:lnTo>
                  <a:lnTo>
                    <a:pt x="638" y="10000"/>
                  </a:lnTo>
                  <a:lnTo>
                    <a:pt x="638" y="9700"/>
                  </a:lnTo>
                  <a:lnTo>
                    <a:pt x="638" y="9401"/>
                  </a:lnTo>
                  <a:lnTo>
                    <a:pt x="638" y="9069"/>
                  </a:lnTo>
                  <a:lnTo>
                    <a:pt x="638" y="8770"/>
                  </a:lnTo>
                  <a:lnTo>
                    <a:pt x="0" y="7209"/>
                  </a:lnTo>
                  <a:lnTo>
                    <a:pt x="0" y="6578"/>
                  </a:lnTo>
                  <a:lnTo>
                    <a:pt x="638" y="5945"/>
                  </a:lnTo>
                  <a:lnTo>
                    <a:pt x="638" y="5315"/>
                  </a:lnTo>
                  <a:lnTo>
                    <a:pt x="638" y="5016"/>
                  </a:lnTo>
                  <a:lnTo>
                    <a:pt x="638" y="4684"/>
                  </a:lnTo>
                  <a:lnTo>
                    <a:pt x="638" y="4384"/>
                  </a:lnTo>
                  <a:lnTo>
                    <a:pt x="1985" y="3753"/>
                  </a:lnTo>
                  <a:lnTo>
                    <a:pt x="2624" y="3122"/>
                  </a:lnTo>
                  <a:lnTo>
                    <a:pt x="1985" y="2491"/>
                  </a:lnTo>
                  <a:lnTo>
                    <a:pt x="1985" y="2192"/>
                  </a:lnTo>
                  <a:lnTo>
                    <a:pt x="1276" y="1561"/>
                  </a:lnTo>
                  <a:lnTo>
                    <a:pt x="1985" y="930"/>
                  </a:lnTo>
                  <a:lnTo>
                    <a:pt x="1276" y="631"/>
                  </a:lnTo>
                  <a:lnTo>
                    <a:pt x="1985" y="631"/>
                  </a:lnTo>
                  <a:lnTo>
                    <a:pt x="2624" y="332"/>
                  </a:lnTo>
                  <a:lnTo>
                    <a:pt x="3333" y="332"/>
                  </a:lnTo>
                  <a:lnTo>
                    <a:pt x="3333" y="0"/>
                  </a:lnTo>
                  <a:lnTo>
                    <a:pt x="8014" y="6245"/>
                  </a:lnTo>
                  <a:lnTo>
                    <a:pt x="8014" y="6578"/>
                  </a:lnTo>
                  <a:lnTo>
                    <a:pt x="8652" y="6877"/>
                  </a:lnTo>
                  <a:lnTo>
                    <a:pt x="8652" y="7209"/>
                  </a:lnTo>
                  <a:lnTo>
                    <a:pt x="8652" y="7508"/>
                  </a:lnTo>
                  <a:lnTo>
                    <a:pt x="10000" y="7840"/>
                  </a:lnTo>
                  <a:lnTo>
                    <a:pt x="9290" y="7840"/>
                  </a:lnTo>
                  <a:lnTo>
                    <a:pt x="9290" y="8139"/>
                  </a:lnTo>
                  <a:lnTo>
                    <a:pt x="9290" y="8438"/>
                  </a:lnTo>
                  <a:close/>
                  <a:moveTo>
                    <a:pt x="9290" y="8438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03"/>
            <p:cNvSpPr/>
            <p:nvPr/>
          </p:nvSpPr>
          <p:spPr>
            <a:xfrm>
              <a:off x="8462160" y="2095560"/>
              <a:ext cx="269280" cy="563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90" y="8438"/>
                  </a:moveTo>
                  <a:lnTo>
                    <a:pt x="9290" y="8139"/>
                  </a:lnTo>
                  <a:lnTo>
                    <a:pt x="8652" y="8438"/>
                  </a:lnTo>
                  <a:lnTo>
                    <a:pt x="8014" y="8770"/>
                  </a:lnTo>
                  <a:lnTo>
                    <a:pt x="8014" y="9069"/>
                  </a:lnTo>
                  <a:lnTo>
                    <a:pt x="8014" y="8770"/>
                  </a:lnTo>
                  <a:lnTo>
                    <a:pt x="7304" y="9069"/>
                  </a:lnTo>
                  <a:lnTo>
                    <a:pt x="638" y="10000"/>
                  </a:lnTo>
                  <a:lnTo>
                    <a:pt x="638" y="9700"/>
                  </a:lnTo>
                  <a:lnTo>
                    <a:pt x="638" y="9401"/>
                  </a:lnTo>
                  <a:lnTo>
                    <a:pt x="638" y="9069"/>
                  </a:lnTo>
                  <a:lnTo>
                    <a:pt x="638" y="8770"/>
                  </a:lnTo>
                  <a:lnTo>
                    <a:pt x="0" y="7209"/>
                  </a:lnTo>
                  <a:lnTo>
                    <a:pt x="0" y="6578"/>
                  </a:lnTo>
                  <a:lnTo>
                    <a:pt x="638" y="5945"/>
                  </a:lnTo>
                  <a:lnTo>
                    <a:pt x="638" y="5315"/>
                  </a:lnTo>
                  <a:lnTo>
                    <a:pt x="638" y="5016"/>
                  </a:lnTo>
                  <a:lnTo>
                    <a:pt x="638" y="4684"/>
                  </a:lnTo>
                  <a:lnTo>
                    <a:pt x="638" y="4384"/>
                  </a:lnTo>
                  <a:lnTo>
                    <a:pt x="1985" y="3753"/>
                  </a:lnTo>
                  <a:lnTo>
                    <a:pt x="2624" y="3122"/>
                  </a:lnTo>
                  <a:lnTo>
                    <a:pt x="1985" y="2491"/>
                  </a:lnTo>
                  <a:lnTo>
                    <a:pt x="1985" y="2192"/>
                  </a:lnTo>
                  <a:lnTo>
                    <a:pt x="1276" y="1561"/>
                  </a:lnTo>
                  <a:lnTo>
                    <a:pt x="1985" y="930"/>
                  </a:lnTo>
                  <a:lnTo>
                    <a:pt x="1276" y="631"/>
                  </a:lnTo>
                  <a:lnTo>
                    <a:pt x="1985" y="631"/>
                  </a:lnTo>
                  <a:lnTo>
                    <a:pt x="2624" y="332"/>
                  </a:lnTo>
                  <a:lnTo>
                    <a:pt x="3333" y="332"/>
                  </a:lnTo>
                  <a:lnTo>
                    <a:pt x="3333" y="0"/>
                  </a:lnTo>
                  <a:lnTo>
                    <a:pt x="8014" y="6245"/>
                  </a:lnTo>
                  <a:lnTo>
                    <a:pt x="8014" y="6578"/>
                  </a:lnTo>
                  <a:lnTo>
                    <a:pt x="8652" y="6877"/>
                  </a:lnTo>
                  <a:lnTo>
                    <a:pt x="8652" y="7209"/>
                  </a:lnTo>
                  <a:lnTo>
                    <a:pt x="8652" y="7508"/>
                  </a:lnTo>
                  <a:lnTo>
                    <a:pt x="10000" y="7840"/>
                  </a:lnTo>
                  <a:lnTo>
                    <a:pt x="9290" y="7840"/>
                  </a:lnTo>
                  <a:lnTo>
                    <a:pt x="9290" y="8139"/>
                  </a:lnTo>
                  <a:lnTo>
                    <a:pt x="9290" y="8438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04"/>
            <p:cNvSpPr/>
            <p:nvPr/>
          </p:nvSpPr>
          <p:spPr>
            <a:xfrm>
              <a:off x="8551800" y="1619640"/>
              <a:ext cx="591840" cy="9183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183"/>
                  </a:moveTo>
                  <a:lnTo>
                    <a:pt x="2129" y="9020"/>
                  </a:lnTo>
                  <a:lnTo>
                    <a:pt x="2129" y="9224"/>
                  </a:lnTo>
                  <a:lnTo>
                    <a:pt x="2419" y="9408"/>
                  </a:lnTo>
                  <a:lnTo>
                    <a:pt x="2419" y="9612"/>
                  </a:lnTo>
                  <a:lnTo>
                    <a:pt x="2419" y="9795"/>
                  </a:lnTo>
                  <a:lnTo>
                    <a:pt x="3031" y="10000"/>
                  </a:lnTo>
                  <a:lnTo>
                    <a:pt x="3031" y="9795"/>
                  </a:lnTo>
                  <a:lnTo>
                    <a:pt x="3031" y="9408"/>
                  </a:lnTo>
                  <a:lnTo>
                    <a:pt x="3322" y="9224"/>
                  </a:lnTo>
                  <a:lnTo>
                    <a:pt x="3322" y="8653"/>
                  </a:lnTo>
                  <a:lnTo>
                    <a:pt x="3645" y="8448"/>
                  </a:lnTo>
                  <a:lnTo>
                    <a:pt x="3322" y="8448"/>
                  </a:lnTo>
                  <a:lnTo>
                    <a:pt x="3322" y="8265"/>
                  </a:lnTo>
                  <a:lnTo>
                    <a:pt x="4225" y="7877"/>
                  </a:lnTo>
                  <a:lnTo>
                    <a:pt x="4225" y="8061"/>
                  </a:lnTo>
                  <a:lnTo>
                    <a:pt x="4548" y="8061"/>
                  </a:lnTo>
                  <a:lnTo>
                    <a:pt x="4548" y="7877"/>
                  </a:lnTo>
                  <a:lnTo>
                    <a:pt x="4837" y="7877"/>
                  </a:lnTo>
                  <a:lnTo>
                    <a:pt x="5161" y="7693"/>
                  </a:lnTo>
                  <a:lnTo>
                    <a:pt x="5161" y="7489"/>
                  </a:lnTo>
                  <a:lnTo>
                    <a:pt x="5451" y="7306"/>
                  </a:lnTo>
                  <a:lnTo>
                    <a:pt x="5773" y="7102"/>
                  </a:lnTo>
                  <a:lnTo>
                    <a:pt x="5773" y="6714"/>
                  </a:lnTo>
                  <a:lnTo>
                    <a:pt x="6064" y="6530"/>
                  </a:lnTo>
                  <a:lnTo>
                    <a:pt x="6354" y="6530"/>
                  </a:lnTo>
                  <a:lnTo>
                    <a:pt x="6677" y="6530"/>
                  </a:lnTo>
                  <a:lnTo>
                    <a:pt x="6677" y="6345"/>
                  </a:lnTo>
                  <a:lnTo>
                    <a:pt x="6967" y="6142"/>
                  </a:lnTo>
                  <a:lnTo>
                    <a:pt x="7290" y="6142"/>
                  </a:lnTo>
                  <a:lnTo>
                    <a:pt x="7290" y="5755"/>
                  </a:lnTo>
                  <a:lnTo>
                    <a:pt x="7580" y="5755"/>
                  </a:lnTo>
                  <a:lnTo>
                    <a:pt x="7870" y="5959"/>
                  </a:lnTo>
                  <a:lnTo>
                    <a:pt x="8483" y="5755"/>
                  </a:lnTo>
                  <a:lnTo>
                    <a:pt x="8806" y="5570"/>
                  </a:lnTo>
                  <a:lnTo>
                    <a:pt x="9096" y="5183"/>
                  </a:lnTo>
                  <a:lnTo>
                    <a:pt x="9419" y="5000"/>
                  </a:lnTo>
                  <a:lnTo>
                    <a:pt x="9709" y="5000"/>
                  </a:lnTo>
                  <a:lnTo>
                    <a:pt x="10000" y="5000"/>
                  </a:lnTo>
                  <a:lnTo>
                    <a:pt x="10000" y="4795"/>
                  </a:lnTo>
                  <a:lnTo>
                    <a:pt x="10000" y="4612"/>
                  </a:lnTo>
                  <a:lnTo>
                    <a:pt x="9709" y="4612"/>
                  </a:lnTo>
                  <a:lnTo>
                    <a:pt x="9419" y="4408"/>
                  </a:lnTo>
                  <a:lnTo>
                    <a:pt x="9709" y="4408"/>
                  </a:lnTo>
                  <a:lnTo>
                    <a:pt x="9709" y="4223"/>
                  </a:lnTo>
                  <a:lnTo>
                    <a:pt x="9419" y="4040"/>
                  </a:lnTo>
                  <a:lnTo>
                    <a:pt x="9096" y="3836"/>
                  </a:lnTo>
                  <a:lnTo>
                    <a:pt x="8806" y="3836"/>
                  </a:lnTo>
                  <a:lnTo>
                    <a:pt x="8806" y="4040"/>
                  </a:lnTo>
                  <a:lnTo>
                    <a:pt x="8483" y="4040"/>
                  </a:lnTo>
                  <a:lnTo>
                    <a:pt x="8193" y="3448"/>
                  </a:lnTo>
                  <a:lnTo>
                    <a:pt x="8483" y="3265"/>
                  </a:lnTo>
                  <a:lnTo>
                    <a:pt x="8193" y="3265"/>
                  </a:lnTo>
                  <a:lnTo>
                    <a:pt x="8193" y="3081"/>
                  </a:lnTo>
                  <a:lnTo>
                    <a:pt x="7870" y="3081"/>
                  </a:lnTo>
                  <a:lnTo>
                    <a:pt x="7870" y="3265"/>
                  </a:lnTo>
                  <a:lnTo>
                    <a:pt x="7580" y="3081"/>
                  </a:lnTo>
                  <a:lnTo>
                    <a:pt x="7290" y="3081"/>
                  </a:lnTo>
                  <a:lnTo>
                    <a:pt x="6967" y="2877"/>
                  </a:lnTo>
                  <a:lnTo>
                    <a:pt x="6967" y="2693"/>
                  </a:lnTo>
                  <a:lnTo>
                    <a:pt x="5773" y="182"/>
                  </a:lnTo>
                  <a:lnTo>
                    <a:pt x="4837" y="0"/>
                  </a:lnTo>
                  <a:lnTo>
                    <a:pt x="4548" y="0"/>
                  </a:lnTo>
                  <a:lnTo>
                    <a:pt x="4225" y="0"/>
                  </a:lnTo>
                  <a:lnTo>
                    <a:pt x="4225" y="182"/>
                  </a:lnTo>
                  <a:lnTo>
                    <a:pt x="3645" y="182"/>
                  </a:lnTo>
                  <a:lnTo>
                    <a:pt x="3322" y="571"/>
                  </a:lnTo>
                  <a:lnTo>
                    <a:pt x="3031" y="571"/>
                  </a:lnTo>
                  <a:lnTo>
                    <a:pt x="2709" y="387"/>
                  </a:lnTo>
                  <a:lnTo>
                    <a:pt x="2709" y="182"/>
                  </a:lnTo>
                  <a:lnTo>
                    <a:pt x="2709" y="0"/>
                  </a:lnTo>
                  <a:lnTo>
                    <a:pt x="2419" y="0"/>
                  </a:lnTo>
                  <a:lnTo>
                    <a:pt x="2129" y="182"/>
                  </a:lnTo>
                  <a:lnTo>
                    <a:pt x="1193" y="1918"/>
                  </a:lnTo>
                  <a:lnTo>
                    <a:pt x="1193" y="2306"/>
                  </a:lnTo>
                  <a:lnTo>
                    <a:pt x="1516" y="2489"/>
                  </a:lnTo>
                  <a:lnTo>
                    <a:pt x="1193" y="2693"/>
                  </a:lnTo>
                  <a:lnTo>
                    <a:pt x="1193" y="2877"/>
                  </a:lnTo>
                  <a:lnTo>
                    <a:pt x="1193" y="3081"/>
                  </a:lnTo>
                  <a:lnTo>
                    <a:pt x="1193" y="3653"/>
                  </a:lnTo>
                  <a:lnTo>
                    <a:pt x="1193" y="4040"/>
                  </a:lnTo>
                  <a:lnTo>
                    <a:pt x="1193" y="4223"/>
                  </a:lnTo>
                  <a:lnTo>
                    <a:pt x="903" y="4408"/>
                  </a:lnTo>
                  <a:lnTo>
                    <a:pt x="903" y="4612"/>
                  </a:lnTo>
                  <a:lnTo>
                    <a:pt x="903" y="5000"/>
                  </a:lnTo>
                  <a:lnTo>
                    <a:pt x="580" y="5000"/>
                  </a:lnTo>
                  <a:lnTo>
                    <a:pt x="580" y="5183"/>
                  </a:lnTo>
                  <a:lnTo>
                    <a:pt x="289" y="5183"/>
                  </a:lnTo>
                  <a:lnTo>
                    <a:pt x="0" y="5183"/>
                  </a:lnTo>
                  <a:close/>
                  <a:moveTo>
                    <a:pt x="0" y="518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05"/>
            <p:cNvSpPr/>
            <p:nvPr/>
          </p:nvSpPr>
          <p:spPr>
            <a:xfrm>
              <a:off x="8551800" y="1619640"/>
              <a:ext cx="591840" cy="9183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183"/>
                  </a:moveTo>
                  <a:lnTo>
                    <a:pt x="2129" y="9020"/>
                  </a:lnTo>
                  <a:lnTo>
                    <a:pt x="2129" y="9224"/>
                  </a:lnTo>
                  <a:lnTo>
                    <a:pt x="2419" y="9408"/>
                  </a:lnTo>
                  <a:lnTo>
                    <a:pt x="2419" y="9612"/>
                  </a:lnTo>
                  <a:lnTo>
                    <a:pt x="2419" y="9795"/>
                  </a:lnTo>
                  <a:lnTo>
                    <a:pt x="3031" y="10000"/>
                  </a:lnTo>
                  <a:lnTo>
                    <a:pt x="3031" y="9795"/>
                  </a:lnTo>
                  <a:lnTo>
                    <a:pt x="3031" y="9408"/>
                  </a:lnTo>
                  <a:lnTo>
                    <a:pt x="3322" y="9224"/>
                  </a:lnTo>
                  <a:lnTo>
                    <a:pt x="3322" y="8653"/>
                  </a:lnTo>
                  <a:lnTo>
                    <a:pt x="3645" y="8448"/>
                  </a:lnTo>
                  <a:lnTo>
                    <a:pt x="3322" y="8448"/>
                  </a:lnTo>
                  <a:lnTo>
                    <a:pt x="3322" y="8265"/>
                  </a:lnTo>
                  <a:lnTo>
                    <a:pt x="4225" y="7877"/>
                  </a:lnTo>
                  <a:lnTo>
                    <a:pt x="4225" y="8061"/>
                  </a:lnTo>
                  <a:lnTo>
                    <a:pt x="4548" y="8061"/>
                  </a:lnTo>
                  <a:lnTo>
                    <a:pt x="4548" y="7877"/>
                  </a:lnTo>
                  <a:lnTo>
                    <a:pt x="4837" y="7877"/>
                  </a:lnTo>
                  <a:lnTo>
                    <a:pt x="5161" y="7693"/>
                  </a:lnTo>
                  <a:lnTo>
                    <a:pt x="5161" y="7489"/>
                  </a:lnTo>
                  <a:lnTo>
                    <a:pt x="5451" y="7306"/>
                  </a:lnTo>
                  <a:lnTo>
                    <a:pt x="5773" y="7102"/>
                  </a:lnTo>
                  <a:lnTo>
                    <a:pt x="5773" y="6714"/>
                  </a:lnTo>
                  <a:lnTo>
                    <a:pt x="6064" y="6530"/>
                  </a:lnTo>
                  <a:lnTo>
                    <a:pt x="6354" y="6530"/>
                  </a:lnTo>
                  <a:lnTo>
                    <a:pt x="6677" y="6530"/>
                  </a:lnTo>
                  <a:lnTo>
                    <a:pt x="6677" y="6345"/>
                  </a:lnTo>
                  <a:lnTo>
                    <a:pt x="6967" y="6142"/>
                  </a:lnTo>
                  <a:lnTo>
                    <a:pt x="7290" y="6142"/>
                  </a:lnTo>
                  <a:lnTo>
                    <a:pt x="7290" y="5755"/>
                  </a:lnTo>
                  <a:lnTo>
                    <a:pt x="7580" y="5755"/>
                  </a:lnTo>
                  <a:lnTo>
                    <a:pt x="7870" y="5959"/>
                  </a:lnTo>
                  <a:lnTo>
                    <a:pt x="8483" y="5755"/>
                  </a:lnTo>
                  <a:lnTo>
                    <a:pt x="8806" y="5570"/>
                  </a:lnTo>
                  <a:lnTo>
                    <a:pt x="9096" y="5183"/>
                  </a:lnTo>
                  <a:lnTo>
                    <a:pt x="9419" y="5000"/>
                  </a:lnTo>
                  <a:lnTo>
                    <a:pt x="9709" y="5000"/>
                  </a:lnTo>
                  <a:lnTo>
                    <a:pt x="10000" y="5000"/>
                  </a:lnTo>
                  <a:lnTo>
                    <a:pt x="10000" y="4795"/>
                  </a:lnTo>
                  <a:lnTo>
                    <a:pt x="10000" y="4612"/>
                  </a:lnTo>
                  <a:lnTo>
                    <a:pt x="9709" y="4612"/>
                  </a:lnTo>
                  <a:lnTo>
                    <a:pt x="9419" y="4408"/>
                  </a:lnTo>
                  <a:lnTo>
                    <a:pt x="9709" y="4408"/>
                  </a:lnTo>
                  <a:lnTo>
                    <a:pt x="9709" y="4223"/>
                  </a:lnTo>
                  <a:lnTo>
                    <a:pt x="9419" y="4040"/>
                  </a:lnTo>
                  <a:lnTo>
                    <a:pt x="9096" y="3836"/>
                  </a:lnTo>
                  <a:lnTo>
                    <a:pt x="8806" y="3836"/>
                  </a:lnTo>
                  <a:lnTo>
                    <a:pt x="8806" y="4040"/>
                  </a:lnTo>
                  <a:lnTo>
                    <a:pt x="8483" y="4040"/>
                  </a:lnTo>
                  <a:lnTo>
                    <a:pt x="8193" y="3448"/>
                  </a:lnTo>
                  <a:lnTo>
                    <a:pt x="8483" y="3265"/>
                  </a:lnTo>
                  <a:lnTo>
                    <a:pt x="8193" y="3265"/>
                  </a:lnTo>
                  <a:lnTo>
                    <a:pt x="8193" y="3081"/>
                  </a:lnTo>
                  <a:lnTo>
                    <a:pt x="7870" y="3081"/>
                  </a:lnTo>
                  <a:lnTo>
                    <a:pt x="7870" y="3265"/>
                  </a:lnTo>
                  <a:lnTo>
                    <a:pt x="7580" y="3081"/>
                  </a:lnTo>
                  <a:lnTo>
                    <a:pt x="7290" y="3081"/>
                  </a:lnTo>
                  <a:lnTo>
                    <a:pt x="6967" y="2877"/>
                  </a:lnTo>
                  <a:lnTo>
                    <a:pt x="6967" y="2693"/>
                  </a:lnTo>
                  <a:lnTo>
                    <a:pt x="5773" y="182"/>
                  </a:lnTo>
                  <a:lnTo>
                    <a:pt x="4837" y="0"/>
                  </a:lnTo>
                  <a:lnTo>
                    <a:pt x="4548" y="0"/>
                  </a:lnTo>
                  <a:lnTo>
                    <a:pt x="4225" y="0"/>
                  </a:lnTo>
                  <a:lnTo>
                    <a:pt x="4225" y="182"/>
                  </a:lnTo>
                  <a:lnTo>
                    <a:pt x="3645" y="182"/>
                  </a:lnTo>
                  <a:lnTo>
                    <a:pt x="3322" y="571"/>
                  </a:lnTo>
                  <a:lnTo>
                    <a:pt x="3031" y="571"/>
                  </a:lnTo>
                  <a:lnTo>
                    <a:pt x="2709" y="387"/>
                  </a:lnTo>
                  <a:lnTo>
                    <a:pt x="2709" y="182"/>
                  </a:lnTo>
                  <a:lnTo>
                    <a:pt x="2709" y="0"/>
                  </a:lnTo>
                  <a:lnTo>
                    <a:pt x="2419" y="0"/>
                  </a:lnTo>
                  <a:lnTo>
                    <a:pt x="2129" y="182"/>
                  </a:lnTo>
                  <a:lnTo>
                    <a:pt x="1193" y="1918"/>
                  </a:lnTo>
                  <a:lnTo>
                    <a:pt x="1193" y="2306"/>
                  </a:lnTo>
                  <a:lnTo>
                    <a:pt x="1516" y="2489"/>
                  </a:lnTo>
                  <a:lnTo>
                    <a:pt x="1193" y="2693"/>
                  </a:lnTo>
                  <a:lnTo>
                    <a:pt x="1193" y="2877"/>
                  </a:lnTo>
                  <a:lnTo>
                    <a:pt x="1193" y="3081"/>
                  </a:lnTo>
                  <a:lnTo>
                    <a:pt x="1193" y="3653"/>
                  </a:lnTo>
                  <a:lnTo>
                    <a:pt x="1193" y="4040"/>
                  </a:lnTo>
                  <a:lnTo>
                    <a:pt x="1193" y="4223"/>
                  </a:lnTo>
                  <a:lnTo>
                    <a:pt x="903" y="4408"/>
                  </a:lnTo>
                  <a:lnTo>
                    <a:pt x="903" y="4612"/>
                  </a:lnTo>
                  <a:lnTo>
                    <a:pt x="903" y="5000"/>
                  </a:lnTo>
                  <a:lnTo>
                    <a:pt x="580" y="5000"/>
                  </a:lnTo>
                  <a:lnTo>
                    <a:pt x="580" y="5183"/>
                  </a:lnTo>
                  <a:lnTo>
                    <a:pt x="289" y="5183"/>
                  </a:lnTo>
                  <a:lnTo>
                    <a:pt x="0" y="518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6"/>
            <p:cNvSpPr/>
            <p:nvPr/>
          </p:nvSpPr>
          <p:spPr>
            <a:xfrm>
              <a:off x="7039800" y="3490200"/>
              <a:ext cx="1223640" cy="6710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843" y="7374"/>
                  </a:moveTo>
                  <a:lnTo>
                    <a:pt x="6474" y="8407"/>
                  </a:lnTo>
                  <a:lnTo>
                    <a:pt x="3087" y="9469"/>
                  </a:lnTo>
                  <a:lnTo>
                    <a:pt x="2948" y="9469"/>
                  </a:lnTo>
                  <a:lnTo>
                    <a:pt x="2792" y="9469"/>
                  </a:lnTo>
                  <a:lnTo>
                    <a:pt x="2511" y="9469"/>
                  </a:lnTo>
                  <a:lnTo>
                    <a:pt x="2215" y="9469"/>
                  </a:lnTo>
                  <a:lnTo>
                    <a:pt x="0" y="10000"/>
                  </a:lnTo>
                  <a:lnTo>
                    <a:pt x="156" y="10000"/>
                  </a:lnTo>
                  <a:lnTo>
                    <a:pt x="592" y="9469"/>
                  </a:lnTo>
                  <a:lnTo>
                    <a:pt x="748" y="8938"/>
                  </a:lnTo>
                  <a:lnTo>
                    <a:pt x="889" y="8687"/>
                  </a:lnTo>
                  <a:lnTo>
                    <a:pt x="1029" y="8407"/>
                  </a:lnTo>
                  <a:lnTo>
                    <a:pt x="1185" y="8156"/>
                  </a:lnTo>
                  <a:lnTo>
                    <a:pt x="1762" y="7094"/>
                  </a:lnTo>
                  <a:lnTo>
                    <a:pt x="1762" y="6564"/>
                  </a:lnTo>
                  <a:lnTo>
                    <a:pt x="1918" y="6843"/>
                  </a:lnTo>
                  <a:lnTo>
                    <a:pt x="1762" y="7094"/>
                  </a:lnTo>
                  <a:lnTo>
                    <a:pt x="2059" y="7374"/>
                  </a:lnTo>
                  <a:lnTo>
                    <a:pt x="2355" y="7625"/>
                  </a:lnTo>
                  <a:lnTo>
                    <a:pt x="2511" y="7625"/>
                  </a:lnTo>
                  <a:lnTo>
                    <a:pt x="2652" y="7374"/>
                  </a:lnTo>
                  <a:lnTo>
                    <a:pt x="2792" y="7094"/>
                  </a:lnTo>
                  <a:lnTo>
                    <a:pt x="2792" y="7374"/>
                  </a:lnTo>
                  <a:lnTo>
                    <a:pt x="2948" y="7374"/>
                  </a:lnTo>
                  <a:lnTo>
                    <a:pt x="3087" y="7374"/>
                  </a:lnTo>
                  <a:lnTo>
                    <a:pt x="3384" y="7094"/>
                  </a:lnTo>
                  <a:lnTo>
                    <a:pt x="3384" y="6564"/>
                  </a:lnTo>
                  <a:lnTo>
                    <a:pt x="3541" y="6843"/>
                  </a:lnTo>
                  <a:lnTo>
                    <a:pt x="3822" y="6564"/>
                  </a:lnTo>
                  <a:lnTo>
                    <a:pt x="4117" y="6061"/>
                  </a:lnTo>
                  <a:lnTo>
                    <a:pt x="3978" y="5781"/>
                  </a:lnTo>
                  <a:lnTo>
                    <a:pt x="3978" y="5530"/>
                  </a:lnTo>
                  <a:lnTo>
                    <a:pt x="4273" y="4748"/>
                  </a:lnTo>
                  <a:lnTo>
                    <a:pt x="4555" y="2625"/>
                  </a:lnTo>
                  <a:lnTo>
                    <a:pt x="4851" y="2905"/>
                  </a:lnTo>
                  <a:lnTo>
                    <a:pt x="4851" y="3156"/>
                  </a:lnTo>
                  <a:lnTo>
                    <a:pt x="5006" y="3156"/>
                  </a:lnTo>
                  <a:lnTo>
                    <a:pt x="5148" y="2625"/>
                  </a:lnTo>
                  <a:lnTo>
                    <a:pt x="5304" y="2094"/>
                  </a:lnTo>
                  <a:lnTo>
                    <a:pt x="5444" y="1843"/>
                  </a:lnTo>
                  <a:lnTo>
                    <a:pt x="5584" y="1592"/>
                  </a:lnTo>
                  <a:lnTo>
                    <a:pt x="5741" y="1592"/>
                  </a:lnTo>
                  <a:lnTo>
                    <a:pt x="5881" y="1312"/>
                  </a:lnTo>
                  <a:lnTo>
                    <a:pt x="5881" y="782"/>
                  </a:lnTo>
                  <a:lnTo>
                    <a:pt x="6037" y="782"/>
                  </a:lnTo>
                  <a:lnTo>
                    <a:pt x="6037" y="530"/>
                  </a:lnTo>
                  <a:lnTo>
                    <a:pt x="6037" y="0"/>
                  </a:lnTo>
                  <a:lnTo>
                    <a:pt x="6614" y="530"/>
                  </a:lnTo>
                  <a:lnTo>
                    <a:pt x="6770" y="530"/>
                  </a:lnTo>
                  <a:lnTo>
                    <a:pt x="6770" y="0"/>
                  </a:lnTo>
                  <a:lnTo>
                    <a:pt x="6911" y="0"/>
                  </a:lnTo>
                  <a:lnTo>
                    <a:pt x="7067" y="0"/>
                  </a:lnTo>
                  <a:lnTo>
                    <a:pt x="7067" y="250"/>
                  </a:lnTo>
                  <a:lnTo>
                    <a:pt x="7207" y="530"/>
                  </a:lnTo>
                  <a:lnTo>
                    <a:pt x="7503" y="530"/>
                  </a:lnTo>
                  <a:lnTo>
                    <a:pt x="7503" y="782"/>
                  </a:lnTo>
                  <a:lnTo>
                    <a:pt x="7644" y="782"/>
                  </a:lnTo>
                  <a:lnTo>
                    <a:pt x="7800" y="1061"/>
                  </a:lnTo>
                  <a:lnTo>
                    <a:pt x="7800" y="1312"/>
                  </a:lnTo>
                  <a:lnTo>
                    <a:pt x="7644" y="1843"/>
                  </a:lnTo>
                  <a:lnTo>
                    <a:pt x="7503" y="2094"/>
                  </a:lnTo>
                  <a:lnTo>
                    <a:pt x="7503" y="2625"/>
                  </a:lnTo>
                  <a:lnTo>
                    <a:pt x="7800" y="2625"/>
                  </a:lnTo>
                  <a:lnTo>
                    <a:pt x="7940" y="2374"/>
                  </a:lnTo>
                  <a:lnTo>
                    <a:pt x="8081" y="2625"/>
                  </a:lnTo>
                  <a:lnTo>
                    <a:pt x="8237" y="2905"/>
                  </a:lnTo>
                  <a:lnTo>
                    <a:pt x="8377" y="2905"/>
                  </a:lnTo>
                  <a:lnTo>
                    <a:pt x="8533" y="2905"/>
                  </a:lnTo>
                  <a:lnTo>
                    <a:pt x="8829" y="3156"/>
                  </a:lnTo>
                  <a:lnTo>
                    <a:pt x="8970" y="3406"/>
                  </a:lnTo>
                  <a:lnTo>
                    <a:pt x="9110" y="3687"/>
                  </a:lnTo>
                  <a:lnTo>
                    <a:pt x="9110" y="4217"/>
                  </a:lnTo>
                  <a:lnTo>
                    <a:pt x="8970" y="4217"/>
                  </a:lnTo>
                  <a:lnTo>
                    <a:pt x="9110" y="4469"/>
                  </a:lnTo>
                  <a:lnTo>
                    <a:pt x="9266" y="4748"/>
                  </a:lnTo>
                  <a:lnTo>
                    <a:pt x="9110" y="5000"/>
                  </a:lnTo>
                  <a:lnTo>
                    <a:pt x="9110" y="5251"/>
                  </a:lnTo>
                  <a:lnTo>
                    <a:pt x="9110" y="5530"/>
                  </a:lnTo>
                  <a:lnTo>
                    <a:pt x="8970" y="5530"/>
                  </a:lnTo>
                  <a:lnTo>
                    <a:pt x="9110" y="5530"/>
                  </a:lnTo>
                  <a:lnTo>
                    <a:pt x="9266" y="5530"/>
                  </a:lnTo>
                  <a:lnTo>
                    <a:pt x="9266" y="5781"/>
                  </a:lnTo>
                  <a:lnTo>
                    <a:pt x="9110" y="6061"/>
                  </a:lnTo>
                  <a:lnTo>
                    <a:pt x="8970" y="5781"/>
                  </a:lnTo>
                  <a:lnTo>
                    <a:pt x="8970" y="6061"/>
                  </a:lnTo>
                  <a:lnTo>
                    <a:pt x="9110" y="6312"/>
                  </a:lnTo>
                  <a:lnTo>
                    <a:pt x="9110" y="6564"/>
                  </a:lnTo>
                  <a:lnTo>
                    <a:pt x="9266" y="6312"/>
                  </a:lnTo>
                  <a:lnTo>
                    <a:pt x="9407" y="6061"/>
                  </a:lnTo>
                  <a:lnTo>
                    <a:pt x="9703" y="6061"/>
                  </a:lnTo>
                  <a:lnTo>
                    <a:pt x="10000" y="6843"/>
                  </a:lnTo>
                  <a:lnTo>
                    <a:pt x="9843" y="7094"/>
                  </a:lnTo>
                  <a:lnTo>
                    <a:pt x="9703" y="7094"/>
                  </a:lnTo>
                  <a:lnTo>
                    <a:pt x="9843" y="7374"/>
                  </a:lnTo>
                  <a:close/>
                  <a:moveTo>
                    <a:pt x="9843" y="737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07"/>
            <p:cNvSpPr/>
            <p:nvPr/>
          </p:nvSpPr>
          <p:spPr>
            <a:xfrm>
              <a:off x="7039800" y="3490200"/>
              <a:ext cx="1223640" cy="6710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843" y="7374"/>
                  </a:moveTo>
                  <a:lnTo>
                    <a:pt x="6474" y="8407"/>
                  </a:lnTo>
                  <a:lnTo>
                    <a:pt x="3087" y="9469"/>
                  </a:lnTo>
                  <a:lnTo>
                    <a:pt x="2948" y="9469"/>
                  </a:lnTo>
                  <a:lnTo>
                    <a:pt x="2792" y="9469"/>
                  </a:lnTo>
                  <a:lnTo>
                    <a:pt x="2511" y="9469"/>
                  </a:lnTo>
                  <a:lnTo>
                    <a:pt x="2215" y="9469"/>
                  </a:lnTo>
                  <a:lnTo>
                    <a:pt x="0" y="10000"/>
                  </a:lnTo>
                  <a:lnTo>
                    <a:pt x="156" y="10000"/>
                  </a:lnTo>
                  <a:lnTo>
                    <a:pt x="592" y="9469"/>
                  </a:lnTo>
                  <a:lnTo>
                    <a:pt x="748" y="8938"/>
                  </a:lnTo>
                  <a:lnTo>
                    <a:pt x="889" y="8687"/>
                  </a:lnTo>
                  <a:lnTo>
                    <a:pt x="1029" y="8407"/>
                  </a:lnTo>
                  <a:lnTo>
                    <a:pt x="1185" y="8156"/>
                  </a:lnTo>
                  <a:lnTo>
                    <a:pt x="1762" y="7094"/>
                  </a:lnTo>
                  <a:lnTo>
                    <a:pt x="1762" y="6564"/>
                  </a:lnTo>
                  <a:lnTo>
                    <a:pt x="1918" y="6843"/>
                  </a:lnTo>
                  <a:lnTo>
                    <a:pt x="1762" y="7094"/>
                  </a:lnTo>
                  <a:lnTo>
                    <a:pt x="2059" y="7374"/>
                  </a:lnTo>
                  <a:lnTo>
                    <a:pt x="2355" y="7625"/>
                  </a:lnTo>
                  <a:lnTo>
                    <a:pt x="2511" y="7625"/>
                  </a:lnTo>
                  <a:lnTo>
                    <a:pt x="2652" y="7374"/>
                  </a:lnTo>
                  <a:lnTo>
                    <a:pt x="2792" y="7094"/>
                  </a:lnTo>
                  <a:lnTo>
                    <a:pt x="2792" y="7374"/>
                  </a:lnTo>
                  <a:lnTo>
                    <a:pt x="2948" y="7374"/>
                  </a:lnTo>
                  <a:lnTo>
                    <a:pt x="3087" y="7374"/>
                  </a:lnTo>
                  <a:lnTo>
                    <a:pt x="3384" y="7094"/>
                  </a:lnTo>
                  <a:lnTo>
                    <a:pt x="3384" y="6564"/>
                  </a:lnTo>
                  <a:lnTo>
                    <a:pt x="3541" y="6843"/>
                  </a:lnTo>
                  <a:lnTo>
                    <a:pt x="3822" y="6564"/>
                  </a:lnTo>
                  <a:lnTo>
                    <a:pt x="4117" y="6061"/>
                  </a:lnTo>
                  <a:lnTo>
                    <a:pt x="3978" y="5781"/>
                  </a:lnTo>
                  <a:lnTo>
                    <a:pt x="3978" y="5530"/>
                  </a:lnTo>
                  <a:lnTo>
                    <a:pt x="4273" y="4748"/>
                  </a:lnTo>
                  <a:lnTo>
                    <a:pt x="4555" y="2625"/>
                  </a:lnTo>
                  <a:lnTo>
                    <a:pt x="4851" y="2905"/>
                  </a:lnTo>
                  <a:lnTo>
                    <a:pt x="4851" y="3156"/>
                  </a:lnTo>
                  <a:lnTo>
                    <a:pt x="5006" y="3156"/>
                  </a:lnTo>
                  <a:lnTo>
                    <a:pt x="5148" y="2625"/>
                  </a:lnTo>
                  <a:lnTo>
                    <a:pt x="5304" y="2094"/>
                  </a:lnTo>
                  <a:lnTo>
                    <a:pt x="5444" y="1843"/>
                  </a:lnTo>
                  <a:lnTo>
                    <a:pt x="5584" y="1592"/>
                  </a:lnTo>
                  <a:lnTo>
                    <a:pt x="5741" y="1592"/>
                  </a:lnTo>
                  <a:lnTo>
                    <a:pt x="5881" y="1312"/>
                  </a:lnTo>
                  <a:lnTo>
                    <a:pt x="5881" y="782"/>
                  </a:lnTo>
                  <a:lnTo>
                    <a:pt x="6037" y="782"/>
                  </a:lnTo>
                  <a:lnTo>
                    <a:pt x="6037" y="530"/>
                  </a:lnTo>
                  <a:lnTo>
                    <a:pt x="6037" y="0"/>
                  </a:lnTo>
                  <a:lnTo>
                    <a:pt x="6614" y="530"/>
                  </a:lnTo>
                  <a:lnTo>
                    <a:pt x="6770" y="530"/>
                  </a:lnTo>
                  <a:lnTo>
                    <a:pt x="6770" y="0"/>
                  </a:lnTo>
                  <a:lnTo>
                    <a:pt x="6911" y="0"/>
                  </a:lnTo>
                  <a:lnTo>
                    <a:pt x="7067" y="0"/>
                  </a:lnTo>
                  <a:lnTo>
                    <a:pt x="7067" y="250"/>
                  </a:lnTo>
                  <a:lnTo>
                    <a:pt x="7207" y="530"/>
                  </a:lnTo>
                  <a:lnTo>
                    <a:pt x="7503" y="530"/>
                  </a:lnTo>
                  <a:lnTo>
                    <a:pt x="7503" y="782"/>
                  </a:lnTo>
                  <a:lnTo>
                    <a:pt x="7644" y="782"/>
                  </a:lnTo>
                  <a:lnTo>
                    <a:pt x="7800" y="1061"/>
                  </a:lnTo>
                  <a:lnTo>
                    <a:pt x="7800" y="1312"/>
                  </a:lnTo>
                  <a:lnTo>
                    <a:pt x="7644" y="1843"/>
                  </a:lnTo>
                  <a:lnTo>
                    <a:pt x="7503" y="2094"/>
                  </a:lnTo>
                  <a:lnTo>
                    <a:pt x="7503" y="2625"/>
                  </a:lnTo>
                  <a:lnTo>
                    <a:pt x="7800" y="2625"/>
                  </a:lnTo>
                  <a:lnTo>
                    <a:pt x="7940" y="2374"/>
                  </a:lnTo>
                  <a:lnTo>
                    <a:pt x="8081" y="2625"/>
                  </a:lnTo>
                  <a:lnTo>
                    <a:pt x="8237" y="2905"/>
                  </a:lnTo>
                  <a:lnTo>
                    <a:pt x="8377" y="2905"/>
                  </a:lnTo>
                  <a:lnTo>
                    <a:pt x="8533" y="2905"/>
                  </a:lnTo>
                  <a:lnTo>
                    <a:pt x="8829" y="3156"/>
                  </a:lnTo>
                  <a:lnTo>
                    <a:pt x="8970" y="3406"/>
                  </a:lnTo>
                  <a:lnTo>
                    <a:pt x="9110" y="3687"/>
                  </a:lnTo>
                  <a:lnTo>
                    <a:pt x="9110" y="4217"/>
                  </a:lnTo>
                  <a:lnTo>
                    <a:pt x="8970" y="4217"/>
                  </a:lnTo>
                  <a:lnTo>
                    <a:pt x="9110" y="4469"/>
                  </a:lnTo>
                  <a:lnTo>
                    <a:pt x="9266" y="4748"/>
                  </a:lnTo>
                  <a:lnTo>
                    <a:pt x="9110" y="5000"/>
                  </a:lnTo>
                  <a:lnTo>
                    <a:pt x="9110" y="5251"/>
                  </a:lnTo>
                  <a:lnTo>
                    <a:pt x="9110" y="5530"/>
                  </a:lnTo>
                  <a:lnTo>
                    <a:pt x="8970" y="5530"/>
                  </a:lnTo>
                  <a:lnTo>
                    <a:pt x="9110" y="5530"/>
                  </a:lnTo>
                  <a:lnTo>
                    <a:pt x="9266" y="5530"/>
                  </a:lnTo>
                  <a:lnTo>
                    <a:pt x="9266" y="5781"/>
                  </a:lnTo>
                  <a:lnTo>
                    <a:pt x="9110" y="6061"/>
                  </a:lnTo>
                  <a:lnTo>
                    <a:pt x="8970" y="5781"/>
                  </a:lnTo>
                  <a:lnTo>
                    <a:pt x="8970" y="6061"/>
                  </a:lnTo>
                  <a:lnTo>
                    <a:pt x="9110" y="6312"/>
                  </a:lnTo>
                  <a:lnTo>
                    <a:pt x="9110" y="6564"/>
                  </a:lnTo>
                  <a:lnTo>
                    <a:pt x="9266" y="6312"/>
                  </a:lnTo>
                  <a:lnTo>
                    <a:pt x="9407" y="6061"/>
                  </a:lnTo>
                  <a:lnTo>
                    <a:pt x="9703" y="6061"/>
                  </a:lnTo>
                  <a:lnTo>
                    <a:pt x="10000" y="6843"/>
                  </a:lnTo>
                  <a:lnTo>
                    <a:pt x="9843" y="7094"/>
                  </a:lnTo>
                  <a:lnTo>
                    <a:pt x="9703" y="7094"/>
                  </a:lnTo>
                  <a:lnTo>
                    <a:pt x="9843" y="737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08"/>
            <p:cNvSpPr/>
            <p:nvPr/>
          </p:nvSpPr>
          <p:spPr>
            <a:xfrm>
              <a:off x="8227440" y="3666600"/>
              <a:ext cx="72000" cy="194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61"/>
                  </a:moveTo>
                  <a:lnTo>
                    <a:pt x="0" y="2692"/>
                  </a:lnTo>
                  <a:lnTo>
                    <a:pt x="0" y="3653"/>
                  </a:lnTo>
                  <a:lnTo>
                    <a:pt x="0" y="5480"/>
                  </a:lnTo>
                  <a:lnTo>
                    <a:pt x="0" y="7307"/>
                  </a:lnTo>
                  <a:lnTo>
                    <a:pt x="0" y="9038"/>
                  </a:lnTo>
                  <a:lnTo>
                    <a:pt x="0" y="10000"/>
                  </a:lnTo>
                  <a:lnTo>
                    <a:pt x="0" y="8173"/>
                  </a:lnTo>
                  <a:lnTo>
                    <a:pt x="2368" y="7307"/>
                  </a:lnTo>
                  <a:lnTo>
                    <a:pt x="5000" y="4519"/>
                  </a:lnTo>
                  <a:lnTo>
                    <a:pt x="5000" y="3653"/>
                  </a:lnTo>
                  <a:lnTo>
                    <a:pt x="7368" y="2692"/>
                  </a:lnTo>
                  <a:lnTo>
                    <a:pt x="7368" y="961"/>
                  </a:lnTo>
                  <a:lnTo>
                    <a:pt x="10000" y="0"/>
                  </a:lnTo>
                  <a:lnTo>
                    <a:pt x="2368" y="0"/>
                  </a:lnTo>
                  <a:lnTo>
                    <a:pt x="0" y="961"/>
                  </a:lnTo>
                  <a:close/>
                  <a:moveTo>
                    <a:pt x="0" y="96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09"/>
            <p:cNvSpPr/>
            <p:nvPr/>
          </p:nvSpPr>
          <p:spPr>
            <a:xfrm>
              <a:off x="8227440" y="3666600"/>
              <a:ext cx="72000" cy="194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61"/>
                  </a:moveTo>
                  <a:lnTo>
                    <a:pt x="0" y="2692"/>
                  </a:lnTo>
                  <a:lnTo>
                    <a:pt x="0" y="3653"/>
                  </a:lnTo>
                  <a:lnTo>
                    <a:pt x="0" y="5480"/>
                  </a:lnTo>
                  <a:lnTo>
                    <a:pt x="0" y="7307"/>
                  </a:lnTo>
                  <a:lnTo>
                    <a:pt x="0" y="9038"/>
                  </a:lnTo>
                  <a:lnTo>
                    <a:pt x="0" y="10000"/>
                  </a:lnTo>
                  <a:lnTo>
                    <a:pt x="0" y="8173"/>
                  </a:lnTo>
                  <a:lnTo>
                    <a:pt x="2368" y="7307"/>
                  </a:lnTo>
                  <a:lnTo>
                    <a:pt x="5000" y="4519"/>
                  </a:lnTo>
                  <a:lnTo>
                    <a:pt x="5000" y="3653"/>
                  </a:lnTo>
                  <a:lnTo>
                    <a:pt x="7368" y="2692"/>
                  </a:lnTo>
                  <a:lnTo>
                    <a:pt x="7368" y="961"/>
                  </a:lnTo>
                  <a:lnTo>
                    <a:pt x="10000" y="0"/>
                  </a:lnTo>
                  <a:lnTo>
                    <a:pt x="2368" y="0"/>
                  </a:lnTo>
                  <a:lnTo>
                    <a:pt x="0" y="961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10"/>
            <p:cNvSpPr/>
            <p:nvPr/>
          </p:nvSpPr>
          <p:spPr>
            <a:xfrm>
              <a:off x="3912120" y="4177800"/>
              <a:ext cx="1384200" cy="70668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9737" y="503"/>
                  </a:moveTo>
                  <a:lnTo>
                    <a:pt x="1157" y="0"/>
                  </a:lnTo>
                  <a:lnTo>
                    <a:pt x="124" y="0"/>
                  </a:lnTo>
                  <a:lnTo>
                    <a:pt x="0" y="1511"/>
                  </a:lnTo>
                  <a:lnTo>
                    <a:pt x="3378" y="1750"/>
                  </a:lnTo>
                  <a:lnTo>
                    <a:pt x="3378" y="7241"/>
                  </a:lnTo>
                  <a:lnTo>
                    <a:pt x="3503" y="7241"/>
                  </a:lnTo>
                  <a:lnTo>
                    <a:pt x="3765" y="7745"/>
                  </a:lnTo>
                  <a:lnTo>
                    <a:pt x="3889" y="8010"/>
                  </a:lnTo>
                  <a:lnTo>
                    <a:pt x="4027" y="7745"/>
                  </a:lnTo>
                  <a:lnTo>
                    <a:pt x="4151" y="7745"/>
                  </a:lnTo>
                  <a:lnTo>
                    <a:pt x="4275" y="7745"/>
                  </a:lnTo>
                  <a:lnTo>
                    <a:pt x="4275" y="8010"/>
                  </a:lnTo>
                  <a:lnTo>
                    <a:pt x="4275" y="8249"/>
                  </a:lnTo>
                  <a:lnTo>
                    <a:pt x="4412" y="8249"/>
                  </a:lnTo>
                  <a:lnTo>
                    <a:pt x="4800" y="8488"/>
                  </a:lnTo>
                  <a:lnTo>
                    <a:pt x="4937" y="8488"/>
                  </a:lnTo>
                  <a:lnTo>
                    <a:pt x="5062" y="8488"/>
                  </a:lnTo>
                  <a:lnTo>
                    <a:pt x="5186" y="8753"/>
                  </a:lnTo>
                  <a:lnTo>
                    <a:pt x="5323" y="8753"/>
                  </a:lnTo>
                  <a:lnTo>
                    <a:pt x="5323" y="8488"/>
                  </a:lnTo>
                  <a:lnTo>
                    <a:pt x="5709" y="8753"/>
                  </a:lnTo>
                  <a:lnTo>
                    <a:pt x="5709" y="8992"/>
                  </a:lnTo>
                  <a:lnTo>
                    <a:pt x="5709" y="9257"/>
                  </a:lnTo>
                  <a:lnTo>
                    <a:pt x="6095" y="9496"/>
                  </a:lnTo>
                  <a:lnTo>
                    <a:pt x="6095" y="8992"/>
                  </a:lnTo>
                  <a:lnTo>
                    <a:pt x="6234" y="8992"/>
                  </a:lnTo>
                  <a:lnTo>
                    <a:pt x="6496" y="9496"/>
                  </a:lnTo>
                  <a:lnTo>
                    <a:pt x="6620" y="9257"/>
                  </a:lnTo>
                  <a:lnTo>
                    <a:pt x="6744" y="9257"/>
                  </a:lnTo>
                  <a:lnTo>
                    <a:pt x="6744" y="9496"/>
                  </a:lnTo>
                  <a:lnTo>
                    <a:pt x="6744" y="9761"/>
                  </a:lnTo>
                  <a:lnTo>
                    <a:pt x="6744" y="10000"/>
                  </a:lnTo>
                  <a:lnTo>
                    <a:pt x="6882" y="9761"/>
                  </a:lnTo>
                  <a:lnTo>
                    <a:pt x="6744" y="9496"/>
                  </a:lnTo>
                  <a:lnTo>
                    <a:pt x="6882" y="9257"/>
                  </a:lnTo>
                  <a:lnTo>
                    <a:pt x="7144" y="8992"/>
                  </a:lnTo>
                  <a:lnTo>
                    <a:pt x="7144" y="9257"/>
                  </a:lnTo>
                  <a:lnTo>
                    <a:pt x="7144" y="9496"/>
                  </a:lnTo>
                  <a:lnTo>
                    <a:pt x="7268" y="9496"/>
                  </a:lnTo>
                  <a:lnTo>
                    <a:pt x="7268" y="9257"/>
                  </a:lnTo>
                  <a:lnTo>
                    <a:pt x="7406" y="9257"/>
                  </a:lnTo>
                  <a:lnTo>
                    <a:pt x="7531" y="9496"/>
                  </a:lnTo>
                  <a:lnTo>
                    <a:pt x="7655" y="9496"/>
                  </a:lnTo>
                  <a:lnTo>
                    <a:pt x="7655" y="10000"/>
                  </a:lnTo>
                  <a:lnTo>
                    <a:pt x="7917" y="9496"/>
                  </a:lnTo>
                  <a:lnTo>
                    <a:pt x="8055" y="9496"/>
                  </a:lnTo>
                  <a:lnTo>
                    <a:pt x="8303" y="9496"/>
                  </a:lnTo>
                  <a:lnTo>
                    <a:pt x="8565" y="9257"/>
                  </a:lnTo>
                  <a:lnTo>
                    <a:pt x="8703" y="9257"/>
                  </a:lnTo>
                  <a:lnTo>
                    <a:pt x="8965" y="9257"/>
                  </a:lnTo>
                  <a:lnTo>
                    <a:pt x="9089" y="9257"/>
                  </a:lnTo>
                  <a:lnTo>
                    <a:pt x="9089" y="8992"/>
                  </a:lnTo>
                  <a:lnTo>
                    <a:pt x="9737" y="9761"/>
                  </a:lnTo>
                  <a:lnTo>
                    <a:pt x="9862" y="10000"/>
                  </a:lnTo>
                  <a:lnTo>
                    <a:pt x="10000" y="10000"/>
                  </a:lnTo>
                  <a:lnTo>
                    <a:pt x="10000" y="5012"/>
                  </a:lnTo>
                  <a:lnTo>
                    <a:pt x="9737" y="1750"/>
                  </a:lnTo>
                  <a:lnTo>
                    <a:pt x="9737" y="503"/>
                  </a:lnTo>
                  <a:close/>
                  <a:moveTo>
                    <a:pt x="9737" y="50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11"/>
            <p:cNvSpPr/>
            <p:nvPr/>
          </p:nvSpPr>
          <p:spPr>
            <a:xfrm>
              <a:off x="3912120" y="4177800"/>
              <a:ext cx="1384200" cy="70668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9737" y="503"/>
                  </a:moveTo>
                  <a:lnTo>
                    <a:pt x="1157" y="0"/>
                  </a:lnTo>
                  <a:lnTo>
                    <a:pt x="124" y="0"/>
                  </a:lnTo>
                  <a:lnTo>
                    <a:pt x="0" y="1511"/>
                  </a:lnTo>
                  <a:lnTo>
                    <a:pt x="3378" y="1750"/>
                  </a:lnTo>
                  <a:lnTo>
                    <a:pt x="3378" y="7241"/>
                  </a:lnTo>
                  <a:lnTo>
                    <a:pt x="3503" y="7241"/>
                  </a:lnTo>
                  <a:lnTo>
                    <a:pt x="3765" y="7745"/>
                  </a:lnTo>
                  <a:lnTo>
                    <a:pt x="3889" y="8010"/>
                  </a:lnTo>
                  <a:lnTo>
                    <a:pt x="4027" y="7745"/>
                  </a:lnTo>
                  <a:lnTo>
                    <a:pt x="4151" y="7745"/>
                  </a:lnTo>
                  <a:lnTo>
                    <a:pt x="4275" y="7745"/>
                  </a:lnTo>
                  <a:lnTo>
                    <a:pt x="4275" y="8010"/>
                  </a:lnTo>
                  <a:lnTo>
                    <a:pt x="4275" y="8249"/>
                  </a:lnTo>
                  <a:lnTo>
                    <a:pt x="4412" y="8249"/>
                  </a:lnTo>
                  <a:lnTo>
                    <a:pt x="4800" y="8488"/>
                  </a:lnTo>
                  <a:lnTo>
                    <a:pt x="4937" y="8488"/>
                  </a:lnTo>
                  <a:lnTo>
                    <a:pt x="5062" y="8488"/>
                  </a:lnTo>
                  <a:lnTo>
                    <a:pt x="5186" y="8753"/>
                  </a:lnTo>
                  <a:lnTo>
                    <a:pt x="5323" y="8753"/>
                  </a:lnTo>
                  <a:lnTo>
                    <a:pt x="5323" y="8488"/>
                  </a:lnTo>
                  <a:lnTo>
                    <a:pt x="5709" y="8753"/>
                  </a:lnTo>
                  <a:lnTo>
                    <a:pt x="5709" y="8992"/>
                  </a:lnTo>
                  <a:lnTo>
                    <a:pt x="5709" y="9257"/>
                  </a:lnTo>
                  <a:lnTo>
                    <a:pt x="6095" y="9496"/>
                  </a:lnTo>
                  <a:lnTo>
                    <a:pt x="6095" y="8992"/>
                  </a:lnTo>
                  <a:lnTo>
                    <a:pt x="6234" y="8992"/>
                  </a:lnTo>
                  <a:lnTo>
                    <a:pt x="6496" y="9496"/>
                  </a:lnTo>
                  <a:lnTo>
                    <a:pt x="6620" y="9257"/>
                  </a:lnTo>
                  <a:lnTo>
                    <a:pt x="6744" y="9257"/>
                  </a:lnTo>
                  <a:lnTo>
                    <a:pt x="6744" y="9496"/>
                  </a:lnTo>
                  <a:lnTo>
                    <a:pt x="6744" y="9761"/>
                  </a:lnTo>
                  <a:lnTo>
                    <a:pt x="6744" y="10000"/>
                  </a:lnTo>
                  <a:lnTo>
                    <a:pt x="6882" y="9761"/>
                  </a:lnTo>
                  <a:lnTo>
                    <a:pt x="6744" y="9496"/>
                  </a:lnTo>
                  <a:lnTo>
                    <a:pt x="6882" y="9257"/>
                  </a:lnTo>
                  <a:lnTo>
                    <a:pt x="7144" y="8992"/>
                  </a:lnTo>
                  <a:lnTo>
                    <a:pt x="7144" y="9257"/>
                  </a:lnTo>
                  <a:lnTo>
                    <a:pt x="7144" y="9496"/>
                  </a:lnTo>
                  <a:lnTo>
                    <a:pt x="7268" y="9496"/>
                  </a:lnTo>
                  <a:lnTo>
                    <a:pt x="7268" y="9257"/>
                  </a:lnTo>
                  <a:lnTo>
                    <a:pt x="7406" y="9257"/>
                  </a:lnTo>
                  <a:lnTo>
                    <a:pt x="7531" y="9496"/>
                  </a:lnTo>
                  <a:lnTo>
                    <a:pt x="7655" y="9496"/>
                  </a:lnTo>
                  <a:lnTo>
                    <a:pt x="7655" y="10000"/>
                  </a:lnTo>
                  <a:lnTo>
                    <a:pt x="7917" y="9496"/>
                  </a:lnTo>
                  <a:lnTo>
                    <a:pt x="8055" y="9496"/>
                  </a:lnTo>
                  <a:lnTo>
                    <a:pt x="8303" y="9496"/>
                  </a:lnTo>
                  <a:lnTo>
                    <a:pt x="8565" y="9257"/>
                  </a:lnTo>
                  <a:lnTo>
                    <a:pt x="8703" y="9257"/>
                  </a:lnTo>
                  <a:lnTo>
                    <a:pt x="8965" y="9257"/>
                  </a:lnTo>
                  <a:lnTo>
                    <a:pt x="9089" y="9257"/>
                  </a:lnTo>
                  <a:lnTo>
                    <a:pt x="9089" y="8992"/>
                  </a:lnTo>
                  <a:lnTo>
                    <a:pt x="9737" y="9761"/>
                  </a:lnTo>
                  <a:lnTo>
                    <a:pt x="9862" y="10000"/>
                  </a:lnTo>
                  <a:lnTo>
                    <a:pt x="10000" y="10000"/>
                  </a:lnTo>
                  <a:lnTo>
                    <a:pt x="10000" y="5012"/>
                  </a:lnTo>
                  <a:lnTo>
                    <a:pt x="9737" y="1750"/>
                  </a:lnTo>
                  <a:lnTo>
                    <a:pt x="9737" y="50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12"/>
            <p:cNvSpPr/>
            <p:nvPr/>
          </p:nvSpPr>
          <p:spPr>
            <a:xfrm>
              <a:off x="3912120" y="1779120"/>
              <a:ext cx="1042200" cy="65232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454"/>
                  </a:moveTo>
                  <a:lnTo>
                    <a:pt x="347" y="0"/>
                  </a:lnTo>
                  <a:lnTo>
                    <a:pt x="3095" y="517"/>
                  </a:lnTo>
                  <a:lnTo>
                    <a:pt x="4816" y="804"/>
                  </a:lnTo>
                  <a:lnTo>
                    <a:pt x="9139" y="804"/>
                  </a:lnTo>
                  <a:lnTo>
                    <a:pt x="9304" y="1063"/>
                  </a:lnTo>
                  <a:lnTo>
                    <a:pt x="9487" y="1896"/>
                  </a:lnTo>
                  <a:lnTo>
                    <a:pt x="9304" y="1896"/>
                  </a:lnTo>
                  <a:lnTo>
                    <a:pt x="9304" y="2413"/>
                  </a:lnTo>
                  <a:lnTo>
                    <a:pt x="9304" y="3247"/>
                  </a:lnTo>
                  <a:lnTo>
                    <a:pt x="9487" y="4309"/>
                  </a:lnTo>
                  <a:lnTo>
                    <a:pt x="9487" y="4597"/>
                  </a:lnTo>
                  <a:lnTo>
                    <a:pt x="9652" y="5659"/>
                  </a:lnTo>
                  <a:lnTo>
                    <a:pt x="9652" y="7011"/>
                  </a:lnTo>
                  <a:lnTo>
                    <a:pt x="9835" y="7298"/>
                  </a:lnTo>
                  <a:lnTo>
                    <a:pt x="9835" y="7844"/>
                  </a:lnTo>
                  <a:lnTo>
                    <a:pt x="9835" y="8103"/>
                  </a:lnTo>
                  <a:lnTo>
                    <a:pt x="10000" y="9195"/>
                  </a:lnTo>
                  <a:lnTo>
                    <a:pt x="10000" y="9454"/>
                  </a:lnTo>
                  <a:lnTo>
                    <a:pt x="10000" y="10000"/>
                  </a:lnTo>
                  <a:lnTo>
                    <a:pt x="0" y="9454"/>
                  </a:lnTo>
                  <a:close/>
                  <a:moveTo>
                    <a:pt x="0" y="945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13"/>
            <p:cNvSpPr/>
            <p:nvPr/>
          </p:nvSpPr>
          <p:spPr>
            <a:xfrm>
              <a:off x="3912120" y="1779120"/>
              <a:ext cx="1042200" cy="65232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454"/>
                  </a:moveTo>
                  <a:lnTo>
                    <a:pt x="347" y="0"/>
                  </a:lnTo>
                  <a:lnTo>
                    <a:pt x="3095" y="517"/>
                  </a:lnTo>
                  <a:lnTo>
                    <a:pt x="4816" y="804"/>
                  </a:lnTo>
                  <a:lnTo>
                    <a:pt x="9139" y="804"/>
                  </a:lnTo>
                  <a:lnTo>
                    <a:pt x="9304" y="1063"/>
                  </a:lnTo>
                  <a:lnTo>
                    <a:pt x="9487" y="1896"/>
                  </a:lnTo>
                  <a:lnTo>
                    <a:pt x="9304" y="1896"/>
                  </a:lnTo>
                  <a:lnTo>
                    <a:pt x="9304" y="2413"/>
                  </a:lnTo>
                  <a:lnTo>
                    <a:pt x="9304" y="3247"/>
                  </a:lnTo>
                  <a:lnTo>
                    <a:pt x="9487" y="4309"/>
                  </a:lnTo>
                  <a:lnTo>
                    <a:pt x="9487" y="4597"/>
                  </a:lnTo>
                  <a:lnTo>
                    <a:pt x="9652" y="5659"/>
                  </a:lnTo>
                  <a:lnTo>
                    <a:pt x="9652" y="7011"/>
                  </a:lnTo>
                  <a:lnTo>
                    <a:pt x="9835" y="7298"/>
                  </a:lnTo>
                  <a:lnTo>
                    <a:pt x="9835" y="7844"/>
                  </a:lnTo>
                  <a:lnTo>
                    <a:pt x="9835" y="8103"/>
                  </a:lnTo>
                  <a:lnTo>
                    <a:pt x="10000" y="9195"/>
                  </a:lnTo>
                  <a:lnTo>
                    <a:pt x="10000" y="9454"/>
                  </a:lnTo>
                  <a:lnTo>
                    <a:pt x="10000" y="10000"/>
                  </a:lnTo>
                  <a:lnTo>
                    <a:pt x="0" y="945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4"/>
            <p:cNvSpPr/>
            <p:nvPr/>
          </p:nvSpPr>
          <p:spPr>
            <a:xfrm>
              <a:off x="1141560" y="1336680"/>
              <a:ext cx="1078920" cy="77760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31" y="9542"/>
                  </a:moveTo>
                  <a:lnTo>
                    <a:pt x="8831" y="9542"/>
                  </a:lnTo>
                  <a:lnTo>
                    <a:pt x="8831" y="10000"/>
                  </a:lnTo>
                  <a:lnTo>
                    <a:pt x="6336" y="9084"/>
                  </a:lnTo>
                  <a:lnTo>
                    <a:pt x="6000" y="9301"/>
                  </a:lnTo>
                  <a:lnTo>
                    <a:pt x="5840" y="9301"/>
                  </a:lnTo>
                  <a:lnTo>
                    <a:pt x="5840" y="9084"/>
                  </a:lnTo>
                  <a:lnTo>
                    <a:pt x="5681" y="9084"/>
                  </a:lnTo>
                  <a:lnTo>
                    <a:pt x="5504" y="9084"/>
                  </a:lnTo>
                  <a:lnTo>
                    <a:pt x="5345" y="9084"/>
                  </a:lnTo>
                  <a:lnTo>
                    <a:pt x="5167" y="9084"/>
                  </a:lnTo>
                  <a:lnTo>
                    <a:pt x="4831" y="9084"/>
                  </a:lnTo>
                  <a:lnTo>
                    <a:pt x="4672" y="9301"/>
                  </a:lnTo>
                  <a:lnTo>
                    <a:pt x="4176" y="9301"/>
                  </a:lnTo>
                  <a:lnTo>
                    <a:pt x="4176" y="9084"/>
                  </a:lnTo>
                  <a:lnTo>
                    <a:pt x="4000" y="9084"/>
                  </a:lnTo>
                  <a:lnTo>
                    <a:pt x="3503" y="9084"/>
                  </a:lnTo>
                  <a:lnTo>
                    <a:pt x="3345" y="8843"/>
                  </a:lnTo>
                  <a:lnTo>
                    <a:pt x="2831" y="8843"/>
                  </a:lnTo>
                  <a:lnTo>
                    <a:pt x="2513" y="8843"/>
                  </a:lnTo>
                  <a:lnTo>
                    <a:pt x="2336" y="8843"/>
                  </a:lnTo>
                  <a:lnTo>
                    <a:pt x="1663" y="8843"/>
                  </a:lnTo>
                  <a:lnTo>
                    <a:pt x="1345" y="8409"/>
                  </a:lnTo>
                  <a:lnTo>
                    <a:pt x="1345" y="8168"/>
                  </a:lnTo>
                  <a:lnTo>
                    <a:pt x="1345" y="7493"/>
                  </a:lnTo>
                  <a:lnTo>
                    <a:pt x="1345" y="7036"/>
                  </a:lnTo>
                  <a:lnTo>
                    <a:pt x="1007" y="6819"/>
                  </a:lnTo>
                  <a:lnTo>
                    <a:pt x="831" y="6819"/>
                  </a:lnTo>
                  <a:lnTo>
                    <a:pt x="831" y="6578"/>
                  </a:lnTo>
                  <a:lnTo>
                    <a:pt x="672" y="6361"/>
                  </a:lnTo>
                  <a:lnTo>
                    <a:pt x="513" y="6361"/>
                  </a:lnTo>
                  <a:lnTo>
                    <a:pt x="175" y="6120"/>
                  </a:lnTo>
                  <a:lnTo>
                    <a:pt x="0" y="6120"/>
                  </a:lnTo>
                  <a:lnTo>
                    <a:pt x="0" y="5903"/>
                  </a:lnTo>
                  <a:lnTo>
                    <a:pt x="175" y="5686"/>
                  </a:lnTo>
                  <a:lnTo>
                    <a:pt x="175" y="5445"/>
                  </a:lnTo>
                  <a:lnTo>
                    <a:pt x="336" y="5445"/>
                  </a:lnTo>
                  <a:lnTo>
                    <a:pt x="336" y="5686"/>
                  </a:lnTo>
                  <a:lnTo>
                    <a:pt x="513" y="5445"/>
                  </a:lnTo>
                  <a:lnTo>
                    <a:pt x="513" y="5228"/>
                  </a:lnTo>
                  <a:lnTo>
                    <a:pt x="513" y="4987"/>
                  </a:lnTo>
                  <a:lnTo>
                    <a:pt x="336" y="4987"/>
                  </a:lnTo>
                  <a:lnTo>
                    <a:pt x="336" y="4770"/>
                  </a:lnTo>
                  <a:lnTo>
                    <a:pt x="513" y="4770"/>
                  </a:lnTo>
                  <a:lnTo>
                    <a:pt x="513" y="4554"/>
                  </a:lnTo>
                  <a:lnTo>
                    <a:pt x="672" y="4554"/>
                  </a:lnTo>
                  <a:lnTo>
                    <a:pt x="513" y="4312"/>
                  </a:lnTo>
                  <a:lnTo>
                    <a:pt x="513" y="4095"/>
                  </a:lnTo>
                  <a:lnTo>
                    <a:pt x="513" y="3855"/>
                  </a:lnTo>
                  <a:lnTo>
                    <a:pt x="513" y="3637"/>
                  </a:lnTo>
                  <a:lnTo>
                    <a:pt x="513" y="3397"/>
                  </a:lnTo>
                  <a:lnTo>
                    <a:pt x="513" y="3180"/>
                  </a:lnTo>
                  <a:lnTo>
                    <a:pt x="513" y="2721"/>
                  </a:lnTo>
                  <a:lnTo>
                    <a:pt x="513" y="2265"/>
                  </a:lnTo>
                  <a:lnTo>
                    <a:pt x="336" y="1589"/>
                  </a:lnTo>
                  <a:lnTo>
                    <a:pt x="336" y="1373"/>
                  </a:lnTo>
                  <a:lnTo>
                    <a:pt x="336" y="914"/>
                  </a:lnTo>
                  <a:lnTo>
                    <a:pt x="513" y="674"/>
                  </a:lnTo>
                  <a:lnTo>
                    <a:pt x="1345" y="1373"/>
                  </a:lnTo>
                  <a:lnTo>
                    <a:pt x="1839" y="1831"/>
                  </a:lnTo>
                  <a:lnTo>
                    <a:pt x="2336" y="2048"/>
                  </a:lnTo>
                  <a:lnTo>
                    <a:pt x="2336" y="2265"/>
                  </a:lnTo>
                  <a:lnTo>
                    <a:pt x="2671" y="2265"/>
                  </a:lnTo>
                  <a:lnTo>
                    <a:pt x="2831" y="2265"/>
                  </a:lnTo>
                  <a:lnTo>
                    <a:pt x="2831" y="3180"/>
                  </a:lnTo>
                  <a:lnTo>
                    <a:pt x="2671" y="3180"/>
                  </a:lnTo>
                  <a:lnTo>
                    <a:pt x="2513" y="3637"/>
                  </a:lnTo>
                  <a:lnTo>
                    <a:pt x="2513" y="3855"/>
                  </a:lnTo>
                  <a:lnTo>
                    <a:pt x="2513" y="4095"/>
                  </a:lnTo>
                  <a:lnTo>
                    <a:pt x="2513" y="4312"/>
                  </a:lnTo>
                  <a:lnTo>
                    <a:pt x="2671" y="4312"/>
                  </a:lnTo>
                  <a:lnTo>
                    <a:pt x="2831" y="4095"/>
                  </a:lnTo>
                  <a:lnTo>
                    <a:pt x="2831" y="3637"/>
                  </a:lnTo>
                  <a:lnTo>
                    <a:pt x="3008" y="3180"/>
                  </a:lnTo>
                  <a:lnTo>
                    <a:pt x="3345" y="2962"/>
                  </a:lnTo>
                  <a:lnTo>
                    <a:pt x="3167" y="2265"/>
                  </a:lnTo>
                  <a:lnTo>
                    <a:pt x="3008" y="1589"/>
                  </a:lnTo>
                  <a:lnTo>
                    <a:pt x="3008" y="1373"/>
                  </a:lnTo>
                  <a:lnTo>
                    <a:pt x="3167" y="1373"/>
                  </a:lnTo>
                  <a:lnTo>
                    <a:pt x="3345" y="1132"/>
                  </a:lnTo>
                  <a:lnTo>
                    <a:pt x="3345" y="674"/>
                  </a:lnTo>
                  <a:lnTo>
                    <a:pt x="3008" y="674"/>
                  </a:lnTo>
                  <a:lnTo>
                    <a:pt x="3008" y="0"/>
                  </a:lnTo>
                  <a:lnTo>
                    <a:pt x="5008" y="914"/>
                  </a:lnTo>
                  <a:lnTo>
                    <a:pt x="6831" y="1373"/>
                  </a:lnTo>
                  <a:lnTo>
                    <a:pt x="10000" y="2506"/>
                  </a:lnTo>
                  <a:lnTo>
                    <a:pt x="8831" y="8843"/>
                  </a:lnTo>
                  <a:lnTo>
                    <a:pt x="8831" y="9084"/>
                  </a:lnTo>
                  <a:lnTo>
                    <a:pt x="8831" y="9542"/>
                  </a:lnTo>
                  <a:close/>
                  <a:moveTo>
                    <a:pt x="8831" y="954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5"/>
            <p:cNvSpPr/>
            <p:nvPr/>
          </p:nvSpPr>
          <p:spPr>
            <a:xfrm>
              <a:off x="1141560" y="1336680"/>
              <a:ext cx="1078920" cy="77760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31" y="9542"/>
                  </a:moveTo>
                  <a:lnTo>
                    <a:pt x="8831" y="9542"/>
                  </a:lnTo>
                  <a:lnTo>
                    <a:pt x="8831" y="10000"/>
                  </a:lnTo>
                  <a:lnTo>
                    <a:pt x="6336" y="9084"/>
                  </a:lnTo>
                  <a:lnTo>
                    <a:pt x="6000" y="9301"/>
                  </a:lnTo>
                  <a:lnTo>
                    <a:pt x="5840" y="9301"/>
                  </a:lnTo>
                  <a:lnTo>
                    <a:pt x="5840" y="9084"/>
                  </a:lnTo>
                  <a:lnTo>
                    <a:pt x="5681" y="9084"/>
                  </a:lnTo>
                  <a:lnTo>
                    <a:pt x="5504" y="9084"/>
                  </a:lnTo>
                  <a:lnTo>
                    <a:pt x="5345" y="9084"/>
                  </a:lnTo>
                  <a:lnTo>
                    <a:pt x="5167" y="9084"/>
                  </a:lnTo>
                  <a:lnTo>
                    <a:pt x="4831" y="9084"/>
                  </a:lnTo>
                  <a:lnTo>
                    <a:pt x="4672" y="9301"/>
                  </a:lnTo>
                  <a:lnTo>
                    <a:pt x="4176" y="9301"/>
                  </a:lnTo>
                  <a:lnTo>
                    <a:pt x="4176" y="9084"/>
                  </a:lnTo>
                  <a:lnTo>
                    <a:pt x="4000" y="9084"/>
                  </a:lnTo>
                  <a:lnTo>
                    <a:pt x="3503" y="9084"/>
                  </a:lnTo>
                  <a:lnTo>
                    <a:pt x="3345" y="8843"/>
                  </a:lnTo>
                  <a:lnTo>
                    <a:pt x="2831" y="8843"/>
                  </a:lnTo>
                  <a:lnTo>
                    <a:pt x="2513" y="8843"/>
                  </a:lnTo>
                  <a:lnTo>
                    <a:pt x="2336" y="8843"/>
                  </a:lnTo>
                  <a:lnTo>
                    <a:pt x="1663" y="8843"/>
                  </a:lnTo>
                  <a:lnTo>
                    <a:pt x="1345" y="8409"/>
                  </a:lnTo>
                  <a:lnTo>
                    <a:pt x="1345" y="8168"/>
                  </a:lnTo>
                  <a:lnTo>
                    <a:pt x="1345" y="7493"/>
                  </a:lnTo>
                  <a:lnTo>
                    <a:pt x="1345" y="7036"/>
                  </a:lnTo>
                  <a:lnTo>
                    <a:pt x="1007" y="6819"/>
                  </a:lnTo>
                  <a:lnTo>
                    <a:pt x="831" y="6819"/>
                  </a:lnTo>
                  <a:lnTo>
                    <a:pt x="831" y="6578"/>
                  </a:lnTo>
                  <a:lnTo>
                    <a:pt x="672" y="6361"/>
                  </a:lnTo>
                  <a:lnTo>
                    <a:pt x="513" y="6361"/>
                  </a:lnTo>
                  <a:lnTo>
                    <a:pt x="175" y="6120"/>
                  </a:lnTo>
                  <a:lnTo>
                    <a:pt x="0" y="6120"/>
                  </a:lnTo>
                  <a:lnTo>
                    <a:pt x="0" y="5903"/>
                  </a:lnTo>
                  <a:lnTo>
                    <a:pt x="175" y="5686"/>
                  </a:lnTo>
                  <a:lnTo>
                    <a:pt x="175" y="5445"/>
                  </a:lnTo>
                  <a:lnTo>
                    <a:pt x="336" y="5445"/>
                  </a:lnTo>
                  <a:lnTo>
                    <a:pt x="336" y="5686"/>
                  </a:lnTo>
                  <a:lnTo>
                    <a:pt x="513" y="5445"/>
                  </a:lnTo>
                  <a:lnTo>
                    <a:pt x="513" y="5228"/>
                  </a:lnTo>
                  <a:lnTo>
                    <a:pt x="513" y="4987"/>
                  </a:lnTo>
                  <a:lnTo>
                    <a:pt x="336" y="4987"/>
                  </a:lnTo>
                  <a:lnTo>
                    <a:pt x="336" y="4770"/>
                  </a:lnTo>
                  <a:lnTo>
                    <a:pt x="513" y="4770"/>
                  </a:lnTo>
                  <a:lnTo>
                    <a:pt x="513" y="4554"/>
                  </a:lnTo>
                  <a:lnTo>
                    <a:pt x="672" y="4554"/>
                  </a:lnTo>
                  <a:lnTo>
                    <a:pt x="513" y="4312"/>
                  </a:lnTo>
                  <a:lnTo>
                    <a:pt x="513" y="4095"/>
                  </a:lnTo>
                  <a:lnTo>
                    <a:pt x="513" y="3855"/>
                  </a:lnTo>
                  <a:lnTo>
                    <a:pt x="513" y="3637"/>
                  </a:lnTo>
                  <a:lnTo>
                    <a:pt x="513" y="3397"/>
                  </a:lnTo>
                  <a:lnTo>
                    <a:pt x="513" y="3180"/>
                  </a:lnTo>
                  <a:lnTo>
                    <a:pt x="513" y="2721"/>
                  </a:lnTo>
                  <a:lnTo>
                    <a:pt x="513" y="2265"/>
                  </a:lnTo>
                  <a:lnTo>
                    <a:pt x="336" y="1589"/>
                  </a:lnTo>
                  <a:lnTo>
                    <a:pt x="336" y="1373"/>
                  </a:lnTo>
                  <a:lnTo>
                    <a:pt x="336" y="914"/>
                  </a:lnTo>
                  <a:lnTo>
                    <a:pt x="513" y="674"/>
                  </a:lnTo>
                  <a:lnTo>
                    <a:pt x="1345" y="1373"/>
                  </a:lnTo>
                  <a:lnTo>
                    <a:pt x="1839" y="1831"/>
                  </a:lnTo>
                  <a:lnTo>
                    <a:pt x="2336" y="2048"/>
                  </a:lnTo>
                  <a:lnTo>
                    <a:pt x="2336" y="2265"/>
                  </a:lnTo>
                  <a:lnTo>
                    <a:pt x="2671" y="2265"/>
                  </a:lnTo>
                  <a:lnTo>
                    <a:pt x="2831" y="2265"/>
                  </a:lnTo>
                  <a:lnTo>
                    <a:pt x="2831" y="3180"/>
                  </a:lnTo>
                  <a:lnTo>
                    <a:pt x="2671" y="3180"/>
                  </a:lnTo>
                  <a:lnTo>
                    <a:pt x="2513" y="3637"/>
                  </a:lnTo>
                  <a:lnTo>
                    <a:pt x="2513" y="3855"/>
                  </a:lnTo>
                  <a:lnTo>
                    <a:pt x="2513" y="4095"/>
                  </a:lnTo>
                  <a:lnTo>
                    <a:pt x="2513" y="4312"/>
                  </a:lnTo>
                  <a:lnTo>
                    <a:pt x="2671" y="4312"/>
                  </a:lnTo>
                  <a:lnTo>
                    <a:pt x="2831" y="4095"/>
                  </a:lnTo>
                  <a:lnTo>
                    <a:pt x="2831" y="3637"/>
                  </a:lnTo>
                  <a:lnTo>
                    <a:pt x="3008" y="3180"/>
                  </a:lnTo>
                  <a:lnTo>
                    <a:pt x="3345" y="2962"/>
                  </a:lnTo>
                  <a:lnTo>
                    <a:pt x="3167" y="2265"/>
                  </a:lnTo>
                  <a:lnTo>
                    <a:pt x="3008" y="1589"/>
                  </a:lnTo>
                  <a:lnTo>
                    <a:pt x="3008" y="1373"/>
                  </a:lnTo>
                  <a:lnTo>
                    <a:pt x="3167" y="1373"/>
                  </a:lnTo>
                  <a:lnTo>
                    <a:pt x="3345" y="1132"/>
                  </a:lnTo>
                  <a:lnTo>
                    <a:pt x="3345" y="674"/>
                  </a:lnTo>
                  <a:lnTo>
                    <a:pt x="3008" y="674"/>
                  </a:lnTo>
                  <a:lnTo>
                    <a:pt x="3008" y="0"/>
                  </a:lnTo>
                  <a:lnTo>
                    <a:pt x="5008" y="914"/>
                  </a:lnTo>
                  <a:lnTo>
                    <a:pt x="6831" y="1373"/>
                  </a:lnTo>
                  <a:lnTo>
                    <a:pt x="10000" y="2506"/>
                  </a:lnTo>
                  <a:lnTo>
                    <a:pt x="8831" y="8843"/>
                  </a:lnTo>
                  <a:lnTo>
                    <a:pt x="8831" y="9084"/>
                  </a:lnTo>
                  <a:lnTo>
                    <a:pt x="8831" y="954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6"/>
            <p:cNvSpPr/>
            <p:nvPr/>
          </p:nvSpPr>
          <p:spPr>
            <a:xfrm>
              <a:off x="4828320" y="5943600"/>
              <a:ext cx="109080" cy="104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78" y="5000"/>
                  </a:moveTo>
                  <a:lnTo>
                    <a:pt x="10000" y="0"/>
                  </a:lnTo>
                  <a:lnTo>
                    <a:pt x="1578" y="10000"/>
                  </a:lnTo>
                  <a:lnTo>
                    <a:pt x="0" y="8392"/>
                  </a:lnTo>
                  <a:lnTo>
                    <a:pt x="1578" y="5000"/>
                  </a:lnTo>
                  <a:close/>
                  <a:moveTo>
                    <a:pt x="1578" y="5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17"/>
            <p:cNvSpPr/>
            <p:nvPr/>
          </p:nvSpPr>
          <p:spPr>
            <a:xfrm>
              <a:off x="4828320" y="5943600"/>
              <a:ext cx="109080" cy="104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78" y="5000"/>
                  </a:moveTo>
                  <a:lnTo>
                    <a:pt x="10000" y="0"/>
                  </a:lnTo>
                  <a:lnTo>
                    <a:pt x="1578" y="10000"/>
                  </a:lnTo>
                  <a:lnTo>
                    <a:pt x="0" y="8392"/>
                  </a:lnTo>
                  <a:lnTo>
                    <a:pt x="1578" y="5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18"/>
            <p:cNvSpPr/>
            <p:nvPr/>
          </p:nvSpPr>
          <p:spPr>
            <a:xfrm>
              <a:off x="7454160" y="2236320"/>
              <a:ext cx="971640" cy="813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626" y="10000"/>
                  </a:moveTo>
                  <a:lnTo>
                    <a:pt x="9626" y="9769"/>
                  </a:lnTo>
                  <a:lnTo>
                    <a:pt x="9803" y="9769"/>
                  </a:lnTo>
                  <a:lnTo>
                    <a:pt x="9626" y="9562"/>
                  </a:lnTo>
                  <a:lnTo>
                    <a:pt x="10000" y="9124"/>
                  </a:lnTo>
                  <a:lnTo>
                    <a:pt x="9803" y="8917"/>
                  </a:lnTo>
                  <a:lnTo>
                    <a:pt x="9626" y="7165"/>
                  </a:lnTo>
                  <a:lnTo>
                    <a:pt x="9430" y="7165"/>
                  </a:lnTo>
                  <a:lnTo>
                    <a:pt x="9430" y="5437"/>
                  </a:lnTo>
                  <a:lnTo>
                    <a:pt x="9253" y="5000"/>
                  </a:lnTo>
                  <a:lnTo>
                    <a:pt x="9253" y="4562"/>
                  </a:lnTo>
                  <a:lnTo>
                    <a:pt x="9253" y="4354"/>
                  </a:lnTo>
                  <a:lnTo>
                    <a:pt x="9253" y="3709"/>
                  </a:lnTo>
                  <a:lnTo>
                    <a:pt x="9076" y="3478"/>
                  </a:lnTo>
                  <a:lnTo>
                    <a:pt x="8880" y="3478"/>
                  </a:lnTo>
                  <a:lnTo>
                    <a:pt x="8703" y="3478"/>
                  </a:lnTo>
                  <a:lnTo>
                    <a:pt x="8880" y="3041"/>
                  </a:lnTo>
                  <a:lnTo>
                    <a:pt x="8703" y="2396"/>
                  </a:lnTo>
                  <a:lnTo>
                    <a:pt x="8703" y="1957"/>
                  </a:lnTo>
                  <a:lnTo>
                    <a:pt x="8703" y="1313"/>
                  </a:lnTo>
                  <a:lnTo>
                    <a:pt x="8330" y="437"/>
                  </a:lnTo>
                  <a:lnTo>
                    <a:pt x="8133" y="0"/>
                  </a:lnTo>
                  <a:lnTo>
                    <a:pt x="6286" y="668"/>
                  </a:lnTo>
                  <a:lnTo>
                    <a:pt x="6109" y="437"/>
                  </a:lnTo>
                  <a:lnTo>
                    <a:pt x="5912" y="668"/>
                  </a:lnTo>
                  <a:lnTo>
                    <a:pt x="5559" y="1313"/>
                  </a:lnTo>
                  <a:lnTo>
                    <a:pt x="4990" y="1957"/>
                  </a:lnTo>
                  <a:lnTo>
                    <a:pt x="4990" y="2188"/>
                  </a:lnTo>
                  <a:lnTo>
                    <a:pt x="4990" y="2603"/>
                  </a:lnTo>
                  <a:lnTo>
                    <a:pt x="4812" y="2834"/>
                  </a:lnTo>
                  <a:lnTo>
                    <a:pt x="4440" y="3270"/>
                  </a:lnTo>
                  <a:lnTo>
                    <a:pt x="4262" y="3478"/>
                  </a:lnTo>
                  <a:lnTo>
                    <a:pt x="4440" y="3709"/>
                  </a:lnTo>
                  <a:lnTo>
                    <a:pt x="4636" y="3709"/>
                  </a:lnTo>
                  <a:lnTo>
                    <a:pt x="4636" y="3917"/>
                  </a:lnTo>
                  <a:lnTo>
                    <a:pt x="4636" y="4123"/>
                  </a:lnTo>
                  <a:lnTo>
                    <a:pt x="4636" y="4354"/>
                  </a:lnTo>
                  <a:lnTo>
                    <a:pt x="4636" y="4792"/>
                  </a:lnTo>
                  <a:lnTo>
                    <a:pt x="4440" y="5000"/>
                  </a:lnTo>
                  <a:lnTo>
                    <a:pt x="3889" y="5437"/>
                  </a:lnTo>
                  <a:lnTo>
                    <a:pt x="3516" y="5645"/>
                  </a:lnTo>
                  <a:lnTo>
                    <a:pt x="2770" y="5875"/>
                  </a:lnTo>
                  <a:lnTo>
                    <a:pt x="2593" y="5875"/>
                  </a:lnTo>
                  <a:lnTo>
                    <a:pt x="2220" y="5645"/>
                  </a:lnTo>
                  <a:lnTo>
                    <a:pt x="1846" y="5875"/>
                  </a:lnTo>
                  <a:lnTo>
                    <a:pt x="1473" y="5875"/>
                  </a:lnTo>
                  <a:lnTo>
                    <a:pt x="923" y="5875"/>
                  </a:lnTo>
                  <a:lnTo>
                    <a:pt x="746" y="6081"/>
                  </a:lnTo>
                  <a:lnTo>
                    <a:pt x="550" y="6520"/>
                  </a:lnTo>
                  <a:lnTo>
                    <a:pt x="550" y="6728"/>
                  </a:lnTo>
                  <a:lnTo>
                    <a:pt x="1119" y="7165"/>
                  </a:lnTo>
                  <a:lnTo>
                    <a:pt x="1119" y="7396"/>
                  </a:lnTo>
                  <a:lnTo>
                    <a:pt x="1119" y="7603"/>
                  </a:lnTo>
                  <a:lnTo>
                    <a:pt x="923" y="7603"/>
                  </a:lnTo>
                  <a:lnTo>
                    <a:pt x="746" y="8041"/>
                  </a:lnTo>
                  <a:lnTo>
                    <a:pt x="196" y="8686"/>
                  </a:lnTo>
                  <a:lnTo>
                    <a:pt x="0" y="8917"/>
                  </a:lnTo>
                  <a:lnTo>
                    <a:pt x="0" y="9562"/>
                  </a:lnTo>
                  <a:lnTo>
                    <a:pt x="6660" y="8041"/>
                  </a:lnTo>
                  <a:lnTo>
                    <a:pt x="6856" y="8041"/>
                  </a:lnTo>
                  <a:lnTo>
                    <a:pt x="6856" y="8248"/>
                  </a:lnTo>
                  <a:lnTo>
                    <a:pt x="7033" y="8248"/>
                  </a:lnTo>
                  <a:lnTo>
                    <a:pt x="7210" y="8248"/>
                  </a:lnTo>
                  <a:lnTo>
                    <a:pt x="7210" y="8917"/>
                  </a:lnTo>
                  <a:lnTo>
                    <a:pt x="7406" y="9124"/>
                  </a:lnTo>
                  <a:lnTo>
                    <a:pt x="7956" y="9124"/>
                  </a:lnTo>
                  <a:lnTo>
                    <a:pt x="7956" y="9331"/>
                  </a:lnTo>
                  <a:lnTo>
                    <a:pt x="9253" y="9769"/>
                  </a:lnTo>
                  <a:lnTo>
                    <a:pt x="9430" y="10000"/>
                  </a:lnTo>
                  <a:lnTo>
                    <a:pt x="9626" y="10000"/>
                  </a:lnTo>
                  <a:close/>
                  <a:moveTo>
                    <a:pt x="9626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19"/>
            <p:cNvSpPr/>
            <p:nvPr/>
          </p:nvSpPr>
          <p:spPr>
            <a:xfrm>
              <a:off x="7454160" y="2236320"/>
              <a:ext cx="971640" cy="813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626" y="10000"/>
                  </a:moveTo>
                  <a:lnTo>
                    <a:pt x="9626" y="9769"/>
                  </a:lnTo>
                  <a:lnTo>
                    <a:pt x="9803" y="9769"/>
                  </a:lnTo>
                  <a:lnTo>
                    <a:pt x="9626" y="9562"/>
                  </a:lnTo>
                  <a:lnTo>
                    <a:pt x="10000" y="9124"/>
                  </a:lnTo>
                  <a:lnTo>
                    <a:pt x="9803" y="8917"/>
                  </a:lnTo>
                  <a:lnTo>
                    <a:pt x="9626" y="7165"/>
                  </a:lnTo>
                  <a:lnTo>
                    <a:pt x="9430" y="7165"/>
                  </a:lnTo>
                  <a:lnTo>
                    <a:pt x="9430" y="5437"/>
                  </a:lnTo>
                  <a:lnTo>
                    <a:pt x="9253" y="5000"/>
                  </a:lnTo>
                  <a:lnTo>
                    <a:pt x="9253" y="4562"/>
                  </a:lnTo>
                  <a:lnTo>
                    <a:pt x="9253" y="4354"/>
                  </a:lnTo>
                  <a:lnTo>
                    <a:pt x="9253" y="3709"/>
                  </a:lnTo>
                  <a:lnTo>
                    <a:pt x="9076" y="3478"/>
                  </a:lnTo>
                  <a:lnTo>
                    <a:pt x="8880" y="3478"/>
                  </a:lnTo>
                  <a:lnTo>
                    <a:pt x="8703" y="3478"/>
                  </a:lnTo>
                  <a:lnTo>
                    <a:pt x="8880" y="3041"/>
                  </a:lnTo>
                  <a:lnTo>
                    <a:pt x="8703" y="2396"/>
                  </a:lnTo>
                  <a:lnTo>
                    <a:pt x="8703" y="1957"/>
                  </a:lnTo>
                  <a:lnTo>
                    <a:pt x="8703" y="1313"/>
                  </a:lnTo>
                  <a:lnTo>
                    <a:pt x="8330" y="437"/>
                  </a:lnTo>
                  <a:lnTo>
                    <a:pt x="8133" y="0"/>
                  </a:lnTo>
                  <a:lnTo>
                    <a:pt x="6286" y="668"/>
                  </a:lnTo>
                  <a:lnTo>
                    <a:pt x="6109" y="437"/>
                  </a:lnTo>
                  <a:lnTo>
                    <a:pt x="5912" y="668"/>
                  </a:lnTo>
                  <a:lnTo>
                    <a:pt x="5559" y="1313"/>
                  </a:lnTo>
                  <a:lnTo>
                    <a:pt x="4990" y="1957"/>
                  </a:lnTo>
                  <a:lnTo>
                    <a:pt x="4990" y="2188"/>
                  </a:lnTo>
                  <a:lnTo>
                    <a:pt x="4990" y="2603"/>
                  </a:lnTo>
                  <a:lnTo>
                    <a:pt x="4812" y="2834"/>
                  </a:lnTo>
                  <a:lnTo>
                    <a:pt x="4440" y="3270"/>
                  </a:lnTo>
                  <a:lnTo>
                    <a:pt x="4262" y="3478"/>
                  </a:lnTo>
                  <a:lnTo>
                    <a:pt x="4440" y="3709"/>
                  </a:lnTo>
                  <a:lnTo>
                    <a:pt x="4636" y="3709"/>
                  </a:lnTo>
                  <a:lnTo>
                    <a:pt x="4636" y="3917"/>
                  </a:lnTo>
                  <a:lnTo>
                    <a:pt x="4636" y="4123"/>
                  </a:lnTo>
                  <a:lnTo>
                    <a:pt x="4636" y="4354"/>
                  </a:lnTo>
                  <a:lnTo>
                    <a:pt x="4636" y="4792"/>
                  </a:lnTo>
                  <a:lnTo>
                    <a:pt x="4440" y="5000"/>
                  </a:lnTo>
                  <a:lnTo>
                    <a:pt x="3889" y="5437"/>
                  </a:lnTo>
                  <a:lnTo>
                    <a:pt x="3516" y="5645"/>
                  </a:lnTo>
                  <a:lnTo>
                    <a:pt x="2770" y="5875"/>
                  </a:lnTo>
                  <a:lnTo>
                    <a:pt x="2593" y="5875"/>
                  </a:lnTo>
                  <a:lnTo>
                    <a:pt x="2220" y="5645"/>
                  </a:lnTo>
                  <a:lnTo>
                    <a:pt x="1846" y="5875"/>
                  </a:lnTo>
                  <a:lnTo>
                    <a:pt x="1473" y="5875"/>
                  </a:lnTo>
                  <a:lnTo>
                    <a:pt x="923" y="5875"/>
                  </a:lnTo>
                  <a:lnTo>
                    <a:pt x="746" y="6081"/>
                  </a:lnTo>
                  <a:lnTo>
                    <a:pt x="550" y="6520"/>
                  </a:lnTo>
                  <a:lnTo>
                    <a:pt x="550" y="6728"/>
                  </a:lnTo>
                  <a:lnTo>
                    <a:pt x="1119" y="7165"/>
                  </a:lnTo>
                  <a:lnTo>
                    <a:pt x="1119" y="7396"/>
                  </a:lnTo>
                  <a:lnTo>
                    <a:pt x="1119" y="7603"/>
                  </a:lnTo>
                  <a:lnTo>
                    <a:pt x="923" y="7603"/>
                  </a:lnTo>
                  <a:lnTo>
                    <a:pt x="746" y="8041"/>
                  </a:lnTo>
                  <a:lnTo>
                    <a:pt x="196" y="8686"/>
                  </a:lnTo>
                  <a:lnTo>
                    <a:pt x="0" y="8917"/>
                  </a:lnTo>
                  <a:lnTo>
                    <a:pt x="0" y="9562"/>
                  </a:lnTo>
                  <a:lnTo>
                    <a:pt x="6660" y="8041"/>
                  </a:lnTo>
                  <a:lnTo>
                    <a:pt x="6856" y="8041"/>
                  </a:lnTo>
                  <a:lnTo>
                    <a:pt x="6856" y="8248"/>
                  </a:lnTo>
                  <a:lnTo>
                    <a:pt x="7033" y="8248"/>
                  </a:lnTo>
                  <a:lnTo>
                    <a:pt x="7210" y="8248"/>
                  </a:lnTo>
                  <a:lnTo>
                    <a:pt x="7210" y="8917"/>
                  </a:lnTo>
                  <a:lnTo>
                    <a:pt x="7406" y="9124"/>
                  </a:lnTo>
                  <a:lnTo>
                    <a:pt x="7956" y="9124"/>
                  </a:lnTo>
                  <a:lnTo>
                    <a:pt x="7956" y="9331"/>
                  </a:lnTo>
                  <a:lnTo>
                    <a:pt x="9253" y="9769"/>
                  </a:lnTo>
                  <a:lnTo>
                    <a:pt x="9430" y="10000"/>
                  </a:lnTo>
                  <a:lnTo>
                    <a:pt x="9626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20"/>
            <p:cNvSpPr/>
            <p:nvPr/>
          </p:nvSpPr>
          <p:spPr>
            <a:xfrm>
              <a:off x="8370360" y="2942640"/>
              <a:ext cx="288360" cy="17604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662" y="7978"/>
                  </a:moveTo>
                  <a:lnTo>
                    <a:pt x="0" y="10000"/>
                  </a:lnTo>
                  <a:lnTo>
                    <a:pt x="1257" y="10000"/>
                  </a:lnTo>
                  <a:lnTo>
                    <a:pt x="1920" y="10000"/>
                  </a:lnTo>
                  <a:lnTo>
                    <a:pt x="2516" y="9042"/>
                  </a:lnTo>
                  <a:lnTo>
                    <a:pt x="3178" y="9042"/>
                  </a:lnTo>
                  <a:lnTo>
                    <a:pt x="3773" y="9042"/>
                  </a:lnTo>
                  <a:lnTo>
                    <a:pt x="4370" y="7978"/>
                  </a:lnTo>
                  <a:lnTo>
                    <a:pt x="6887" y="5000"/>
                  </a:lnTo>
                  <a:lnTo>
                    <a:pt x="7483" y="4042"/>
                  </a:lnTo>
                  <a:lnTo>
                    <a:pt x="8145" y="2978"/>
                  </a:lnTo>
                  <a:lnTo>
                    <a:pt x="8741" y="2978"/>
                  </a:lnTo>
                  <a:lnTo>
                    <a:pt x="8741" y="2021"/>
                  </a:lnTo>
                  <a:lnTo>
                    <a:pt x="9403" y="2021"/>
                  </a:lnTo>
                  <a:lnTo>
                    <a:pt x="10000" y="1063"/>
                  </a:lnTo>
                  <a:lnTo>
                    <a:pt x="10000" y="0"/>
                  </a:lnTo>
                  <a:lnTo>
                    <a:pt x="9403" y="1063"/>
                  </a:lnTo>
                  <a:lnTo>
                    <a:pt x="8741" y="2021"/>
                  </a:lnTo>
                  <a:lnTo>
                    <a:pt x="8145" y="2021"/>
                  </a:lnTo>
                  <a:lnTo>
                    <a:pt x="7483" y="2978"/>
                  </a:lnTo>
                  <a:lnTo>
                    <a:pt x="6887" y="2978"/>
                  </a:lnTo>
                  <a:lnTo>
                    <a:pt x="6887" y="2021"/>
                  </a:lnTo>
                  <a:lnTo>
                    <a:pt x="7483" y="2021"/>
                  </a:lnTo>
                  <a:lnTo>
                    <a:pt x="8145" y="0"/>
                  </a:lnTo>
                  <a:lnTo>
                    <a:pt x="7483" y="1063"/>
                  </a:lnTo>
                  <a:lnTo>
                    <a:pt x="6887" y="2021"/>
                  </a:lnTo>
                  <a:lnTo>
                    <a:pt x="6291" y="2021"/>
                  </a:lnTo>
                  <a:lnTo>
                    <a:pt x="5033" y="2978"/>
                  </a:lnTo>
                  <a:lnTo>
                    <a:pt x="3773" y="5000"/>
                  </a:lnTo>
                  <a:lnTo>
                    <a:pt x="1920" y="6062"/>
                  </a:lnTo>
                  <a:lnTo>
                    <a:pt x="662" y="7978"/>
                  </a:lnTo>
                  <a:close/>
                  <a:moveTo>
                    <a:pt x="662" y="7978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1"/>
            <p:cNvSpPr/>
            <p:nvPr/>
          </p:nvSpPr>
          <p:spPr>
            <a:xfrm>
              <a:off x="8370360" y="2942640"/>
              <a:ext cx="288360" cy="17604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662" y="7978"/>
                  </a:moveTo>
                  <a:lnTo>
                    <a:pt x="0" y="10000"/>
                  </a:lnTo>
                  <a:lnTo>
                    <a:pt x="1257" y="10000"/>
                  </a:lnTo>
                  <a:lnTo>
                    <a:pt x="1920" y="10000"/>
                  </a:lnTo>
                  <a:lnTo>
                    <a:pt x="2516" y="9042"/>
                  </a:lnTo>
                  <a:lnTo>
                    <a:pt x="3178" y="9042"/>
                  </a:lnTo>
                  <a:lnTo>
                    <a:pt x="3773" y="9042"/>
                  </a:lnTo>
                  <a:lnTo>
                    <a:pt x="4370" y="7978"/>
                  </a:lnTo>
                  <a:lnTo>
                    <a:pt x="6887" y="5000"/>
                  </a:lnTo>
                  <a:lnTo>
                    <a:pt x="7483" y="4042"/>
                  </a:lnTo>
                  <a:lnTo>
                    <a:pt x="8145" y="2978"/>
                  </a:lnTo>
                  <a:lnTo>
                    <a:pt x="8741" y="2978"/>
                  </a:lnTo>
                  <a:lnTo>
                    <a:pt x="8741" y="2021"/>
                  </a:lnTo>
                  <a:lnTo>
                    <a:pt x="9403" y="2021"/>
                  </a:lnTo>
                  <a:lnTo>
                    <a:pt x="10000" y="1063"/>
                  </a:lnTo>
                  <a:lnTo>
                    <a:pt x="10000" y="0"/>
                  </a:lnTo>
                  <a:lnTo>
                    <a:pt x="9403" y="1063"/>
                  </a:lnTo>
                  <a:lnTo>
                    <a:pt x="8741" y="2021"/>
                  </a:lnTo>
                  <a:lnTo>
                    <a:pt x="8145" y="2021"/>
                  </a:lnTo>
                  <a:lnTo>
                    <a:pt x="7483" y="2978"/>
                  </a:lnTo>
                  <a:lnTo>
                    <a:pt x="6887" y="2978"/>
                  </a:lnTo>
                  <a:lnTo>
                    <a:pt x="6887" y="2021"/>
                  </a:lnTo>
                  <a:lnTo>
                    <a:pt x="7483" y="2021"/>
                  </a:lnTo>
                  <a:lnTo>
                    <a:pt x="8145" y="0"/>
                  </a:lnTo>
                  <a:lnTo>
                    <a:pt x="7483" y="1063"/>
                  </a:lnTo>
                  <a:lnTo>
                    <a:pt x="6887" y="2021"/>
                  </a:lnTo>
                  <a:lnTo>
                    <a:pt x="6291" y="2021"/>
                  </a:lnTo>
                  <a:lnTo>
                    <a:pt x="5033" y="2978"/>
                  </a:lnTo>
                  <a:lnTo>
                    <a:pt x="3773" y="5000"/>
                  </a:lnTo>
                  <a:lnTo>
                    <a:pt x="1920" y="6062"/>
                  </a:lnTo>
                  <a:lnTo>
                    <a:pt x="662" y="7978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Freeform 123"/>
          <p:cNvSpPr/>
          <p:nvPr/>
        </p:nvSpPr>
        <p:spPr>
          <a:xfrm>
            <a:off x="100332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5262" y="0"/>
                </a:lnTo>
                <a:lnTo>
                  <a:pt x="10000" y="10000"/>
                </a:ln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solidFill>
            <a:srgbClr val="8cce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124"/>
          <p:cNvSpPr/>
          <p:nvPr/>
        </p:nvSpPr>
        <p:spPr>
          <a:xfrm flipH="1">
            <a:off x="936720" y="1434960"/>
            <a:ext cx="396720" cy="17258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125"/>
          <p:cNvSpPr/>
          <p:nvPr/>
        </p:nvSpPr>
        <p:spPr>
          <a:xfrm>
            <a:off x="3292560" y="2806560"/>
            <a:ext cx="86832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26"/>
          <p:cNvSpPr/>
          <p:nvPr/>
        </p:nvSpPr>
        <p:spPr>
          <a:xfrm>
            <a:off x="1444680" y="1139760"/>
            <a:ext cx="8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Line 127"/>
          <p:cNvSpPr/>
          <p:nvPr/>
        </p:nvSpPr>
        <p:spPr>
          <a:xfrm flipH="1" flipV="1">
            <a:off x="1294920" y="1434960"/>
            <a:ext cx="652680" cy="9036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28"/>
          <p:cNvSpPr/>
          <p:nvPr/>
        </p:nvSpPr>
        <p:spPr>
          <a:xfrm>
            <a:off x="455760" y="441468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an Di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29"/>
          <p:cNvSpPr/>
          <p:nvPr/>
        </p:nvSpPr>
        <p:spPr>
          <a:xfrm>
            <a:off x="4998960" y="2425680"/>
            <a:ext cx="102708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130"/>
          <p:cNvSpPr/>
          <p:nvPr/>
        </p:nvSpPr>
        <p:spPr>
          <a:xfrm>
            <a:off x="6269760" y="2893320"/>
            <a:ext cx="862200" cy="363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32"/>
          <p:cNvSpPr/>
          <p:nvPr/>
        </p:nvSpPr>
        <p:spPr>
          <a:xfrm>
            <a:off x="6095880" y="4340160"/>
            <a:ext cx="86544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la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133"/>
          <p:cNvSpPr/>
          <p:nvPr/>
        </p:nvSpPr>
        <p:spPr>
          <a:xfrm>
            <a:off x="3490920" y="3381480"/>
            <a:ext cx="1633680" cy="759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134"/>
          <p:cNvSpPr/>
          <p:nvPr/>
        </p:nvSpPr>
        <p:spPr>
          <a:xfrm flipV="1">
            <a:off x="5165640" y="2992320"/>
            <a:ext cx="1068480" cy="4334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35"/>
          <p:cNvSpPr/>
          <p:nvPr/>
        </p:nvSpPr>
        <p:spPr>
          <a:xfrm>
            <a:off x="3451320" y="409896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6"/>
          <p:cNvSpPr/>
          <p:nvPr/>
        </p:nvSpPr>
        <p:spPr>
          <a:xfrm rot="5400000">
            <a:off x="8360640" y="317304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Line 137"/>
          <p:cNvSpPr/>
          <p:nvPr/>
        </p:nvSpPr>
        <p:spPr>
          <a:xfrm flipV="1">
            <a:off x="8062920" y="2785680"/>
            <a:ext cx="314280" cy="6224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138"/>
          <p:cNvSpPr/>
          <p:nvPr/>
        </p:nvSpPr>
        <p:spPr>
          <a:xfrm>
            <a:off x="4495680" y="5356080"/>
            <a:ext cx="184320" cy="179640"/>
          </a:xfrm>
          <a:custGeom>
            <a:avLst/>
            <a:gdLst>
              <a:gd name="textAreaLeft" fmla="*/ 0 w 184320"/>
              <a:gd name="textAreaRight" fmla="*/ 184680 w 18432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00" h="10000">
                <a:moveTo>
                  <a:pt x="5000" y="0"/>
                </a:moveTo>
                <a:cubicBezTo>
                  <a:pt x="2238" y="0"/>
                  <a:pt x="0" y="2238"/>
                  <a:pt x="0" y="5000"/>
                </a:cubicBezTo>
                <a:cubicBezTo>
                  <a:pt x="0" y="7761"/>
                  <a:pt x="2238" y="10000"/>
                  <a:pt x="5000" y="10000"/>
                </a:cubicBezTo>
                <a:cubicBezTo>
                  <a:pt x="7761" y="10000"/>
                  <a:pt x="10000" y="7761"/>
                  <a:pt x="10000" y="5000"/>
                </a:cubicBezTo>
                <a:cubicBezTo>
                  <a:pt x="10000" y="2238"/>
                  <a:pt x="7761" y="0"/>
                  <a:pt x="5000" y="0"/>
                </a:cubicBezTo>
                <a:close/>
                <a:moveTo>
                  <a:pt x="5000" y="0"/>
                </a:move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139"/>
          <p:cNvSpPr/>
          <p:nvPr/>
        </p:nvSpPr>
        <p:spPr>
          <a:xfrm flipH="1">
            <a:off x="977400" y="1503360"/>
            <a:ext cx="397080" cy="172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140"/>
          <p:cNvSpPr/>
          <p:nvPr/>
        </p:nvSpPr>
        <p:spPr>
          <a:xfrm flipH="1">
            <a:off x="880560" y="1465200"/>
            <a:ext cx="398520" cy="17226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141"/>
          <p:cNvSpPr/>
          <p:nvPr/>
        </p:nvSpPr>
        <p:spPr>
          <a:xfrm flipH="1" flipV="1">
            <a:off x="1333080" y="1423800"/>
            <a:ext cx="622440" cy="849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142"/>
          <p:cNvSpPr/>
          <p:nvPr/>
        </p:nvSpPr>
        <p:spPr>
          <a:xfrm flipH="1" flipV="1">
            <a:off x="1305000" y="1523880"/>
            <a:ext cx="568080" cy="82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143"/>
          <p:cNvSpPr/>
          <p:nvPr/>
        </p:nvSpPr>
        <p:spPr>
          <a:xfrm>
            <a:off x="3467160" y="3456000"/>
            <a:ext cx="16333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144"/>
          <p:cNvSpPr/>
          <p:nvPr/>
        </p:nvSpPr>
        <p:spPr>
          <a:xfrm>
            <a:off x="3500280" y="3406680"/>
            <a:ext cx="1635120" cy="76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145"/>
          <p:cNvSpPr/>
          <p:nvPr/>
        </p:nvSpPr>
        <p:spPr>
          <a:xfrm flipV="1">
            <a:off x="5197320" y="3032280"/>
            <a:ext cx="1068480" cy="43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146"/>
          <p:cNvSpPr/>
          <p:nvPr/>
        </p:nvSpPr>
        <p:spPr>
          <a:xfrm flipV="1">
            <a:off x="5180040" y="2953800"/>
            <a:ext cx="1069920" cy="435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147"/>
          <p:cNvSpPr/>
          <p:nvPr/>
        </p:nvSpPr>
        <p:spPr>
          <a:xfrm>
            <a:off x="6261120" y="2982960"/>
            <a:ext cx="860400" cy="3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148"/>
          <p:cNvSpPr/>
          <p:nvPr/>
        </p:nvSpPr>
        <p:spPr>
          <a:xfrm>
            <a:off x="6296040" y="2929680"/>
            <a:ext cx="860400" cy="349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149"/>
          <p:cNvSpPr/>
          <p:nvPr/>
        </p:nvSpPr>
        <p:spPr>
          <a:xfrm flipV="1">
            <a:off x="8082000" y="2499840"/>
            <a:ext cx="538200" cy="949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150"/>
          <p:cNvSpPr/>
          <p:nvPr/>
        </p:nvSpPr>
        <p:spPr>
          <a:xfrm flipV="1">
            <a:off x="8021520" y="2484000"/>
            <a:ext cx="54468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Group 153"/>
          <p:cNvGrpSpPr/>
          <p:nvPr/>
        </p:nvGrpSpPr>
        <p:grpSpPr>
          <a:xfrm>
            <a:off x="7225920" y="2564640"/>
            <a:ext cx="1209960" cy="505800"/>
            <a:chOff x="7225920" y="2564640"/>
            <a:chExt cx="1209960" cy="505800"/>
          </a:xfrm>
        </p:grpSpPr>
        <p:sp>
          <p:nvSpPr>
            <p:cNvPr id="344" name="Line 154"/>
            <p:cNvSpPr/>
            <p:nvPr/>
          </p:nvSpPr>
          <p:spPr>
            <a:xfrm flipV="1">
              <a:off x="7225920" y="2564640"/>
              <a:ext cx="1123560" cy="4287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Line 155"/>
            <p:cNvSpPr/>
            <p:nvPr/>
          </p:nvSpPr>
          <p:spPr>
            <a:xfrm flipV="1">
              <a:off x="7270560" y="2605320"/>
              <a:ext cx="1122480" cy="428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Line 156"/>
            <p:cNvSpPr/>
            <p:nvPr/>
          </p:nvSpPr>
          <p:spPr>
            <a:xfrm flipV="1">
              <a:off x="7314480" y="2642760"/>
              <a:ext cx="1121400" cy="42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Text Box 157"/>
          <p:cNvSpPr/>
          <p:nvPr/>
        </p:nvSpPr>
        <p:spPr>
          <a:xfrm>
            <a:off x="1908000" y="2001960"/>
            <a:ext cx="8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58"/>
          <p:cNvSpPr/>
          <p:nvPr/>
        </p:nvSpPr>
        <p:spPr>
          <a:xfrm>
            <a:off x="8329680" y="350532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ash. D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159"/>
          <p:cNvGrpSpPr/>
          <p:nvPr/>
        </p:nvGrpSpPr>
        <p:grpSpPr>
          <a:xfrm>
            <a:off x="3124080" y="4127400"/>
            <a:ext cx="291600" cy="216720"/>
            <a:chOff x="3124080" y="4127400"/>
            <a:chExt cx="291600" cy="216720"/>
          </a:xfrm>
        </p:grpSpPr>
        <p:sp>
          <p:nvSpPr>
            <p:cNvPr id="350" name="Oval 160"/>
            <p:cNvSpPr/>
            <p:nvPr/>
          </p:nvSpPr>
          <p:spPr>
            <a:xfrm>
              <a:off x="3124080" y="4138920"/>
              <a:ext cx="291600" cy="2052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161"/>
            <p:cNvSpPr/>
            <p:nvPr/>
          </p:nvSpPr>
          <p:spPr>
            <a:xfrm>
              <a:off x="3124080" y="4241880"/>
              <a:ext cx="27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Line 162"/>
            <p:cNvSpPr/>
            <p:nvPr/>
          </p:nvSpPr>
          <p:spPr>
            <a:xfrm flipH="1">
              <a:off x="3266280" y="4127400"/>
              <a:ext cx="3600" cy="20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163"/>
          <p:cNvGrpSpPr/>
          <p:nvPr/>
        </p:nvGrpSpPr>
        <p:grpSpPr>
          <a:xfrm>
            <a:off x="4529160" y="3374280"/>
            <a:ext cx="607680" cy="2147040"/>
            <a:chOff x="4529160" y="3374280"/>
            <a:chExt cx="607680" cy="2147040"/>
          </a:xfrm>
        </p:grpSpPr>
        <p:sp>
          <p:nvSpPr>
            <p:cNvPr id="354" name="Freeform 164"/>
            <p:cNvSpPr/>
            <p:nvPr/>
          </p:nvSpPr>
          <p:spPr>
            <a:xfrm rot="507600">
              <a:off x="4750200" y="3378240"/>
              <a:ext cx="207000" cy="20534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053440"/>
                <a:gd name="textAreaBottom" fmla="*/ 2053800 h 2053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65"/>
            <p:cNvSpPr/>
            <p:nvPr/>
          </p:nvSpPr>
          <p:spPr>
            <a:xfrm rot="507600">
              <a:off x="4678920" y="3454920"/>
              <a:ext cx="207000" cy="20534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053440"/>
                <a:gd name="textAreaBottom" fmla="*/ 2053800 h 2053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66"/>
            <p:cNvSpPr/>
            <p:nvPr/>
          </p:nvSpPr>
          <p:spPr>
            <a:xfrm rot="507600">
              <a:off x="4779360" y="3463920"/>
              <a:ext cx="207360" cy="205308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053080"/>
                <a:gd name="textAreaBottom" fmla="*/ 2053440 h 2053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167"/>
          <p:cNvGrpSpPr/>
          <p:nvPr/>
        </p:nvGrpSpPr>
        <p:grpSpPr>
          <a:xfrm>
            <a:off x="4615200" y="4255920"/>
            <a:ext cx="2707200" cy="1438920"/>
            <a:chOff x="4615200" y="4255920"/>
            <a:chExt cx="2707200" cy="1438920"/>
          </a:xfrm>
        </p:grpSpPr>
        <p:sp>
          <p:nvSpPr>
            <p:cNvPr id="358" name="Freeform 168"/>
            <p:cNvSpPr/>
            <p:nvPr/>
          </p:nvSpPr>
          <p:spPr>
            <a:xfrm rot="3900000">
              <a:off x="5928840" y="3563280"/>
              <a:ext cx="209160" cy="2746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6080"/>
                <a:gd name="textAreaBottom" fmla="*/ 2746440 h 2746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69"/>
            <p:cNvSpPr/>
            <p:nvPr/>
          </p:nvSpPr>
          <p:spPr>
            <a:xfrm rot="3900000">
              <a:off x="5798880" y="3557880"/>
              <a:ext cx="209160" cy="2746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6080"/>
                <a:gd name="textAreaBottom" fmla="*/ 2746440 h 2746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70"/>
            <p:cNvSpPr/>
            <p:nvPr/>
          </p:nvSpPr>
          <p:spPr>
            <a:xfrm rot="3900000">
              <a:off x="5849280" y="3646800"/>
              <a:ext cx="209160" cy="2745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171"/>
          <p:cNvGrpSpPr/>
          <p:nvPr/>
        </p:nvGrpSpPr>
        <p:grpSpPr>
          <a:xfrm>
            <a:off x="6017400" y="2840760"/>
            <a:ext cx="1359000" cy="1611360"/>
            <a:chOff x="6017400" y="2840760"/>
            <a:chExt cx="1359000" cy="1611360"/>
          </a:xfrm>
        </p:grpSpPr>
        <p:sp>
          <p:nvSpPr>
            <p:cNvPr id="362" name="Freeform 172"/>
            <p:cNvSpPr/>
            <p:nvPr/>
          </p:nvSpPr>
          <p:spPr>
            <a:xfrm rot="19275600">
              <a:off x="6546240" y="2718000"/>
              <a:ext cx="226080" cy="1757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73"/>
            <p:cNvSpPr/>
            <p:nvPr/>
          </p:nvSpPr>
          <p:spPr>
            <a:xfrm rot="19275600">
              <a:off x="6542280" y="2816640"/>
              <a:ext cx="226080" cy="1757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74"/>
            <p:cNvSpPr/>
            <p:nvPr/>
          </p:nvSpPr>
          <p:spPr>
            <a:xfrm rot="19275600">
              <a:off x="6624720" y="2743200"/>
              <a:ext cx="226440" cy="175752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757520"/>
                <a:gd name="textAreaBottom" fmla="*/ 1757880 h 175752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Group 175"/>
          <p:cNvGrpSpPr/>
          <p:nvPr/>
        </p:nvGrpSpPr>
        <p:grpSpPr>
          <a:xfrm>
            <a:off x="952560" y="3146400"/>
            <a:ext cx="695520" cy="1383840"/>
            <a:chOff x="952560" y="3146400"/>
            <a:chExt cx="695520" cy="1383840"/>
          </a:xfrm>
        </p:grpSpPr>
        <p:sp>
          <p:nvSpPr>
            <p:cNvPr id="366" name="Line 176"/>
            <p:cNvSpPr/>
            <p:nvPr/>
          </p:nvSpPr>
          <p:spPr>
            <a:xfrm>
              <a:off x="952560" y="3190320"/>
              <a:ext cx="596880" cy="13399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177"/>
            <p:cNvSpPr/>
            <p:nvPr/>
          </p:nvSpPr>
          <p:spPr>
            <a:xfrm>
              <a:off x="1001520" y="3168360"/>
              <a:ext cx="597240" cy="1340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178"/>
            <p:cNvSpPr/>
            <p:nvPr/>
          </p:nvSpPr>
          <p:spPr>
            <a:xfrm>
              <a:off x="1050840" y="3146400"/>
              <a:ext cx="597240" cy="1339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179"/>
          <p:cNvGrpSpPr/>
          <p:nvPr/>
        </p:nvGrpSpPr>
        <p:grpSpPr>
          <a:xfrm>
            <a:off x="1538640" y="4457160"/>
            <a:ext cx="1648440" cy="516960"/>
            <a:chOff x="1538640" y="4457160"/>
            <a:chExt cx="1648440" cy="516960"/>
          </a:xfrm>
        </p:grpSpPr>
        <p:sp>
          <p:nvSpPr>
            <p:cNvPr id="370" name="Line 180"/>
            <p:cNvSpPr/>
            <p:nvPr/>
          </p:nvSpPr>
          <p:spPr>
            <a:xfrm>
              <a:off x="1538640" y="4538520"/>
              <a:ext cx="1626480" cy="435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181"/>
            <p:cNvSpPr/>
            <p:nvPr/>
          </p:nvSpPr>
          <p:spPr>
            <a:xfrm>
              <a:off x="1549800" y="4497840"/>
              <a:ext cx="1626120" cy="435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182"/>
            <p:cNvSpPr/>
            <p:nvPr/>
          </p:nvSpPr>
          <p:spPr>
            <a:xfrm>
              <a:off x="1560600" y="4457160"/>
              <a:ext cx="1626480" cy="435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Group 189"/>
          <p:cNvGrpSpPr/>
          <p:nvPr/>
        </p:nvGrpSpPr>
        <p:grpSpPr>
          <a:xfrm>
            <a:off x="3084840" y="4851720"/>
            <a:ext cx="1402920" cy="583200"/>
            <a:chOff x="3084840" y="4851720"/>
            <a:chExt cx="1402920" cy="583200"/>
          </a:xfrm>
        </p:grpSpPr>
        <p:sp>
          <p:nvSpPr>
            <p:cNvPr id="374" name="Line 190"/>
            <p:cNvSpPr/>
            <p:nvPr/>
          </p:nvSpPr>
          <p:spPr>
            <a:xfrm>
              <a:off x="3084840" y="4935240"/>
              <a:ext cx="1372680" cy="4996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191"/>
            <p:cNvSpPr/>
            <p:nvPr/>
          </p:nvSpPr>
          <p:spPr>
            <a:xfrm>
              <a:off x="3099960" y="4893480"/>
              <a:ext cx="1372680" cy="4996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192"/>
            <p:cNvSpPr/>
            <p:nvPr/>
          </p:nvSpPr>
          <p:spPr>
            <a:xfrm>
              <a:off x="3115440" y="4851720"/>
              <a:ext cx="1372320" cy="49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211"/>
          <p:cNvGrpSpPr/>
          <p:nvPr/>
        </p:nvGrpSpPr>
        <p:grpSpPr>
          <a:xfrm>
            <a:off x="1907640" y="2360880"/>
            <a:ext cx="1439280" cy="1006920"/>
            <a:chOff x="1907640" y="2360880"/>
            <a:chExt cx="1439280" cy="1006920"/>
          </a:xfrm>
        </p:grpSpPr>
        <p:sp>
          <p:nvSpPr>
            <p:cNvPr id="378" name="Line 212"/>
            <p:cNvSpPr/>
            <p:nvPr/>
          </p:nvSpPr>
          <p:spPr>
            <a:xfrm>
              <a:off x="1907640" y="2435760"/>
              <a:ext cx="1388880" cy="932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213"/>
            <p:cNvSpPr/>
            <p:nvPr/>
          </p:nvSpPr>
          <p:spPr>
            <a:xfrm>
              <a:off x="1932480" y="2398320"/>
              <a:ext cx="1389240" cy="932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214"/>
            <p:cNvSpPr/>
            <p:nvPr/>
          </p:nvSpPr>
          <p:spPr>
            <a:xfrm>
              <a:off x="1957680" y="2360880"/>
              <a:ext cx="1389240" cy="932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Group 215"/>
          <p:cNvGrpSpPr/>
          <p:nvPr/>
        </p:nvGrpSpPr>
        <p:grpSpPr>
          <a:xfrm>
            <a:off x="7065360" y="2963160"/>
            <a:ext cx="987120" cy="523440"/>
            <a:chOff x="7065360" y="2963160"/>
            <a:chExt cx="987120" cy="523440"/>
          </a:xfrm>
        </p:grpSpPr>
        <p:sp>
          <p:nvSpPr>
            <p:cNvPr id="382" name="Line 216"/>
            <p:cNvSpPr/>
            <p:nvPr/>
          </p:nvSpPr>
          <p:spPr>
            <a:xfrm>
              <a:off x="7065360" y="3054240"/>
              <a:ext cx="945360" cy="43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217"/>
            <p:cNvSpPr/>
            <p:nvPr/>
          </p:nvSpPr>
          <p:spPr>
            <a:xfrm>
              <a:off x="7086240" y="3008880"/>
              <a:ext cx="945360" cy="432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218"/>
            <p:cNvSpPr/>
            <p:nvPr/>
          </p:nvSpPr>
          <p:spPr>
            <a:xfrm>
              <a:off x="7107120" y="2963160"/>
              <a:ext cx="945360" cy="432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Group 301"/>
          <p:cNvGrpSpPr/>
          <p:nvPr/>
        </p:nvGrpSpPr>
        <p:grpSpPr>
          <a:xfrm>
            <a:off x="7220520" y="3323880"/>
            <a:ext cx="865800" cy="1289880"/>
            <a:chOff x="7220520" y="3323880"/>
            <a:chExt cx="865800" cy="1289880"/>
          </a:xfrm>
        </p:grpSpPr>
        <p:sp>
          <p:nvSpPr>
            <p:cNvPr id="386" name="Freeform 302"/>
            <p:cNvSpPr/>
            <p:nvPr/>
          </p:nvSpPr>
          <p:spPr>
            <a:xfrm rot="1654800">
              <a:off x="7581240" y="329940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03"/>
            <p:cNvSpPr/>
            <p:nvPr/>
          </p:nvSpPr>
          <p:spPr>
            <a:xfrm rot="1654800">
              <a:off x="7503480" y="331956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04"/>
            <p:cNvSpPr/>
            <p:nvPr/>
          </p:nvSpPr>
          <p:spPr>
            <a:xfrm rot="1654800">
              <a:off x="7594920" y="336312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Text Box 305"/>
          <p:cNvSpPr/>
          <p:nvPr/>
        </p:nvSpPr>
        <p:spPr>
          <a:xfrm>
            <a:off x="4435920" y="28814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ansas 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306"/>
          <p:cNvSpPr/>
          <p:nvPr/>
        </p:nvSpPr>
        <p:spPr>
          <a:xfrm>
            <a:off x="4248000" y="554184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307"/>
          <p:cNvSpPr/>
          <p:nvPr/>
        </p:nvSpPr>
        <p:spPr>
          <a:xfrm>
            <a:off x="6763680" y="24732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eve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Group 308"/>
          <p:cNvGrpSpPr/>
          <p:nvPr/>
        </p:nvGrpSpPr>
        <p:grpSpPr>
          <a:xfrm>
            <a:off x="3182040" y="3344760"/>
            <a:ext cx="352440" cy="923040"/>
            <a:chOff x="3182040" y="3344760"/>
            <a:chExt cx="352440" cy="923040"/>
          </a:xfrm>
        </p:grpSpPr>
        <p:sp>
          <p:nvSpPr>
            <p:cNvPr id="393" name="Freeform 309"/>
            <p:cNvSpPr/>
            <p:nvPr/>
          </p:nvSpPr>
          <p:spPr>
            <a:xfrm rot="21436200">
              <a:off x="3260880" y="3349080"/>
              <a:ext cx="209160" cy="874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10"/>
            <p:cNvSpPr/>
            <p:nvPr/>
          </p:nvSpPr>
          <p:spPr>
            <a:xfrm rot="21436200">
              <a:off x="3202560" y="3388680"/>
              <a:ext cx="209160" cy="874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311"/>
            <p:cNvSpPr/>
            <p:nvPr/>
          </p:nvSpPr>
          <p:spPr>
            <a:xfrm rot="21436200">
              <a:off x="3304080" y="3381120"/>
              <a:ext cx="209520" cy="874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874080"/>
                <a:gd name="textAreaBottom" fmla="*/ 874440 h 874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Group 330"/>
          <p:cNvGrpSpPr/>
          <p:nvPr/>
        </p:nvGrpSpPr>
        <p:grpSpPr>
          <a:xfrm>
            <a:off x="6895800" y="4280040"/>
            <a:ext cx="503640" cy="340920"/>
            <a:chOff x="6895800" y="4280040"/>
            <a:chExt cx="503640" cy="340920"/>
          </a:xfrm>
        </p:grpSpPr>
        <p:sp>
          <p:nvSpPr>
            <p:cNvPr id="397" name="Freeform 331"/>
            <p:cNvSpPr/>
            <p:nvPr/>
          </p:nvSpPr>
          <p:spPr>
            <a:xfrm rot="10800000">
              <a:off x="6895800" y="44503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332"/>
            <p:cNvSpPr/>
            <p:nvPr/>
          </p:nvSpPr>
          <p:spPr>
            <a:xfrm>
              <a:off x="6899400" y="42800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9" name="Group 333"/>
            <p:cNvGrpSpPr/>
            <p:nvPr/>
          </p:nvGrpSpPr>
          <p:grpSpPr>
            <a:xfrm>
              <a:off x="6896880" y="4280760"/>
              <a:ext cx="500760" cy="340200"/>
              <a:chOff x="6896880" y="4280760"/>
              <a:chExt cx="500760" cy="340200"/>
            </a:xfrm>
          </p:grpSpPr>
          <p:sp>
            <p:nvSpPr>
              <p:cNvPr id="400" name="Oval 334"/>
              <p:cNvSpPr/>
              <p:nvPr/>
            </p:nvSpPr>
            <p:spPr>
              <a:xfrm>
                <a:off x="6896880" y="42807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Line 335"/>
              <p:cNvSpPr/>
              <p:nvPr/>
            </p:nvSpPr>
            <p:spPr>
              <a:xfrm>
                <a:off x="6896880" y="44514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02" name="Oval 338"/>
          <p:cNvSpPr/>
          <p:nvPr/>
        </p:nvSpPr>
        <p:spPr>
          <a:xfrm rot="618600">
            <a:off x="890640" y="2878200"/>
            <a:ext cx="662040" cy="59508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39"/>
          <p:cNvSpPr/>
          <p:nvPr/>
        </p:nvSpPr>
        <p:spPr>
          <a:xfrm>
            <a:off x="5857920" y="2822400"/>
            <a:ext cx="657360" cy="511200"/>
          </a:xfrm>
          <a:custGeom>
            <a:avLst/>
            <a:gdLst>
              <a:gd name="textAreaLeft" fmla="*/ 0 w 657360"/>
              <a:gd name="textAreaRight" fmla="*/ 657360 w 6573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77" h="294">
                <a:moveTo>
                  <a:pt x="260" y="212"/>
                </a:moveTo>
                <a:cubicBezTo>
                  <a:pt x="232" y="255"/>
                  <a:pt x="208" y="282"/>
                  <a:pt x="171" y="288"/>
                </a:cubicBezTo>
                <a:cubicBezTo>
                  <a:pt x="134" y="294"/>
                  <a:pt x="58" y="291"/>
                  <a:pt x="38" y="250"/>
                </a:cubicBezTo>
                <a:cubicBezTo>
                  <a:pt x="18" y="209"/>
                  <a:pt x="0" y="78"/>
                  <a:pt x="51" y="41"/>
                </a:cubicBezTo>
                <a:cubicBezTo>
                  <a:pt x="102" y="4"/>
                  <a:pt x="307" y="0"/>
                  <a:pt x="342" y="28"/>
                </a:cubicBezTo>
                <a:cubicBezTo>
                  <a:pt x="377" y="56"/>
                  <a:pt x="291" y="175"/>
                  <a:pt x="260" y="212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40"/>
          <p:cNvSpPr/>
          <p:nvPr/>
        </p:nvSpPr>
        <p:spPr>
          <a:xfrm>
            <a:off x="8313840" y="2835360"/>
            <a:ext cx="399960" cy="372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30" h="214">
                <a:moveTo>
                  <a:pt x="129" y="205"/>
                </a:moveTo>
                <a:cubicBezTo>
                  <a:pt x="96" y="214"/>
                  <a:pt x="0" y="108"/>
                  <a:pt x="14" y="77"/>
                </a:cubicBezTo>
                <a:cubicBezTo>
                  <a:pt x="28" y="46"/>
                  <a:pt x="192" y="0"/>
                  <a:pt x="211" y="21"/>
                </a:cubicBezTo>
                <a:cubicBezTo>
                  <a:pt x="230" y="42"/>
                  <a:pt x="180" y="168"/>
                  <a:pt x="129" y="205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41"/>
          <p:cNvSpPr/>
          <p:nvPr/>
        </p:nvSpPr>
        <p:spPr>
          <a:xfrm>
            <a:off x="7753320" y="3592440"/>
            <a:ext cx="401760" cy="372960"/>
          </a:xfrm>
          <a:custGeom>
            <a:avLst/>
            <a:gdLst>
              <a:gd name="textAreaLeft" fmla="*/ 0 w 401760"/>
              <a:gd name="textAreaRight" fmla="*/ 402120 w 4017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30" h="214">
                <a:moveTo>
                  <a:pt x="129" y="205"/>
                </a:moveTo>
                <a:cubicBezTo>
                  <a:pt x="96" y="214"/>
                  <a:pt x="0" y="108"/>
                  <a:pt x="14" y="77"/>
                </a:cubicBezTo>
                <a:cubicBezTo>
                  <a:pt x="28" y="46"/>
                  <a:pt x="192" y="0"/>
                  <a:pt x="211" y="21"/>
                </a:cubicBezTo>
                <a:cubicBezTo>
                  <a:pt x="230" y="42"/>
                  <a:pt x="180" y="168"/>
                  <a:pt x="129" y="205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Group 343"/>
          <p:cNvGrpSpPr/>
          <p:nvPr/>
        </p:nvGrpSpPr>
        <p:grpSpPr>
          <a:xfrm>
            <a:off x="1056960" y="1254240"/>
            <a:ext cx="503640" cy="339120"/>
            <a:chOff x="1056960" y="1254240"/>
            <a:chExt cx="503640" cy="339120"/>
          </a:xfrm>
        </p:grpSpPr>
        <p:sp>
          <p:nvSpPr>
            <p:cNvPr id="407" name="Freeform 344"/>
            <p:cNvSpPr/>
            <p:nvPr/>
          </p:nvSpPr>
          <p:spPr>
            <a:xfrm rot="10800000">
              <a:off x="1056960" y="14234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45"/>
            <p:cNvSpPr/>
            <p:nvPr/>
          </p:nvSpPr>
          <p:spPr>
            <a:xfrm>
              <a:off x="1060560" y="12542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9" name="Group 346"/>
            <p:cNvGrpSpPr/>
            <p:nvPr/>
          </p:nvGrpSpPr>
          <p:grpSpPr>
            <a:xfrm>
              <a:off x="1058040" y="1254960"/>
              <a:ext cx="500760" cy="338400"/>
              <a:chOff x="1058040" y="1254960"/>
              <a:chExt cx="500760" cy="338400"/>
            </a:xfrm>
          </p:grpSpPr>
          <p:sp>
            <p:nvSpPr>
              <p:cNvPr id="410" name="Oval 347"/>
              <p:cNvSpPr/>
              <p:nvPr/>
            </p:nvSpPr>
            <p:spPr>
              <a:xfrm>
                <a:off x="1058040" y="1254960"/>
                <a:ext cx="500760" cy="338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Line 348"/>
              <p:cNvSpPr/>
              <p:nvPr/>
            </p:nvSpPr>
            <p:spPr>
              <a:xfrm>
                <a:off x="1058040" y="142452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2" name="Group 362"/>
          <p:cNvGrpSpPr/>
          <p:nvPr/>
        </p:nvGrpSpPr>
        <p:grpSpPr>
          <a:xfrm>
            <a:off x="6011640" y="2660760"/>
            <a:ext cx="503280" cy="340920"/>
            <a:chOff x="6011640" y="2660760"/>
            <a:chExt cx="503280" cy="340920"/>
          </a:xfrm>
        </p:grpSpPr>
        <p:sp>
          <p:nvSpPr>
            <p:cNvPr id="413" name="Freeform 363"/>
            <p:cNvSpPr/>
            <p:nvPr/>
          </p:nvSpPr>
          <p:spPr>
            <a:xfrm rot="10800000">
              <a:off x="6011640" y="283140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64"/>
            <p:cNvSpPr/>
            <p:nvPr/>
          </p:nvSpPr>
          <p:spPr>
            <a:xfrm>
              <a:off x="6014880" y="266076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5" name="Group 365"/>
            <p:cNvGrpSpPr/>
            <p:nvPr/>
          </p:nvGrpSpPr>
          <p:grpSpPr>
            <a:xfrm>
              <a:off x="6013080" y="2661840"/>
              <a:ext cx="500040" cy="339840"/>
              <a:chOff x="6013080" y="2661840"/>
              <a:chExt cx="500040" cy="339840"/>
            </a:xfrm>
          </p:grpSpPr>
          <p:sp>
            <p:nvSpPr>
              <p:cNvPr id="416" name="Oval 366"/>
              <p:cNvSpPr/>
              <p:nvPr/>
            </p:nvSpPr>
            <p:spPr>
              <a:xfrm>
                <a:off x="6013080" y="266184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367"/>
              <p:cNvSpPr/>
              <p:nvPr/>
            </p:nvSpPr>
            <p:spPr>
              <a:xfrm>
                <a:off x="6013080" y="28321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8" name="Group 392"/>
          <p:cNvGrpSpPr/>
          <p:nvPr/>
        </p:nvGrpSpPr>
        <p:grpSpPr>
          <a:xfrm>
            <a:off x="7824960" y="3394080"/>
            <a:ext cx="501480" cy="339480"/>
            <a:chOff x="7824960" y="3394080"/>
            <a:chExt cx="501480" cy="339480"/>
          </a:xfrm>
        </p:grpSpPr>
        <p:sp>
          <p:nvSpPr>
            <p:cNvPr id="419" name="Freeform 393"/>
            <p:cNvSpPr/>
            <p:nvPr/>
          </p:nvSpPr>
          <p:spPr>
            <a:xfrm rot="10800000">
              <a:off x="7824960" y="3563640"/>
              <a:ext cx="498240" cy="16812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94"/>
            <p:cNvSpPr/>
            <p:nvPr/>
          </p:nvSpPr>
          <p:spPr>
            <a:xfrm>
              <a:off x="7828200" y="3394080"/>
              <a:ext cx="498240" cy="16812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1" name="Group 395"/>
            <p:cNvGrpSpPr/>
            <p:nvPr/>
          </p:nvGrpSpPr>
          <p:grpSpPr>
            <a:xfrm>
              <a:off x="7825680" y="3394800"/>
              <a:ext cx="498960" cy="338760"/>
              <a:chOff x="7825680" y="3394800"/>
              <a:chExt cx="498960" cy="338760"/>
            </a:xfrm>
          </p:grpSpPr>
          <p:sp>
            <p:nvSpPr>
              <p:cNvPr id="422" name="Oval 396"/>
              <p:cNvSpPr/>
              <p:nvPr/>
            </p:nvSpPr>
            <p:spPr>
              <a:xfrm>
                <a:off x="7825680" y="3394800"/>
                <a:ext cx="498960" cy="338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397"/>
              <p:cNvSpPr/>
              <p:nvPr/>
            </p:nvSpPr>
            <p:spPr>
              <a:xfrm>
                <a:off x="7825680" y="3564720"/>
                <a:ext cx="496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4" name="Group 406"/>
          <p:cNvGrpSpPr/>
          <p:nvPr/>
        </p:nvGrpSpPr>
        <p:grpSpPr>
          <a:xfrm>
            <a:off x="4890600" y="3363840"/>
            <a:ext cx="503640" cy="340920"/>
            <a:chOff x="4890600" y="3363840"/>
            <a:chExt cx="503640" cy="340920"/>
          </a:xfrm>
        </p:grpSpPr>
        <p:sp>
          <p:nvSpPr>
            <p:cNvPr id="425" name="Freeform 407"/>
            <p:cNvSpPr/>
            <p:nvPr/>
          </p:nvSpPr>
          <p:spPr>
            <a:xfrm rot="10800000">
              <a:off x="4890600" y="35341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408"/>
            <p:cNvSpPr/>
            <p:nvPr/>
          </p:nvSpPr>
          <p:spPr>
            <a:xfrm>
              <a:off x="4894200" y="33638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Group 409"/>
            <p:cNvGrpSpPr/>
            <p:nvPr/>
          </p:nvGrpSpPr>
          <p:grpSpPr>
            <a:xfrm>
              <a:off x="4891680" y="3364560"/>
              <a:ext cx="500760" cy="340200"/>
              <a:chOff x="4891680" y="3364560"/>
              <a:chExt cx="500760" cy="340200"/>
            </a:xfrm>
          </p:grpSpPr>
          <p:sp>
            <p:nvSpPr>
              <p:cNvPr id="428" name="Oval 410"/>
              <p:cNvSpPr/>
              <p:nvPr/>
            </p:nvSpPr>
            <p:spPr>
              <a:xfrm>
                <a:off x="4891680" y="33645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411"/>
              <p:cNvSpPr/>
              <p:nvPr/>
            </p:nvSpPr>
            <p:spPr>
              <a:xfrm>
                <a:off x="4891680" y="35352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0" name="Group 412"/>
          <p:cNvGrpSpPr/>
          <p:nvPr/>
        </p:nvGrpSpPr>
        <p:grpSpPr>
          <a:xfrm>
            <a:off x="4343040" y="5216400"/>
            <a:ext cx="503640" cy="340920"/>
            <a:chOff x="4343040" y="5216400"/>
            <a:chExt cx="503640" cy="340920"/>
          </a:xfrm>
        </p:grpSpPr>
        <p:sp>
          <p:nvSpPr>
            <p:cNvPr id="431" name="Freeform 413"/>
            <p:cNvSpPr/>
            <p:nvPr/>
          </p:nvSpPr>
          <p:spPr>
            <a:xfrm rot="10800000">
              <a:off x="4343040" y="53866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414"/>
            <p:cNvSpPr/>
            <p:nvPr/>
          </p:nvSpPr>
          <p:spPr>
            <a:xfrm>
              <a:off x="4346640" y="52164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3" name="Group 415"/>
            <p:cNvGrpSpPr/>
            <p:nvPr/>
          </p:nvGrpSpPr>
          <p:grpSpPr>
            <a:xfrm>
              <a:off x="4344120" y="5217120"/>
              <a:ext cx="500760" cy="340200"/>
              <a:chOff x="4344120" y="5217120"/>
              <a:chExt cx="500760" cy="340200"/>
            </a:xfrm>
          </p:grpSpPr>
          <p:sp>
            <p:nvSpPr>
              <p:cNvPr id="434" name="Oval 416"/>
              <p:cNvSpPr/>
              <p:nvPr/>
            </p:nvSpPr>
            <p:spPr>
              <a:xfrm>
                <a:off x="4344120" y="52171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417"/>
              <p:cNvSpPr/>
              <p:nvPr/>
            </p:nvSpPr>
            <p:spPr>
              <a:xfrm>
                <a:off x="4344120" y="53877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6" name="Group 418"/>
          <p:cNvGrpSpPr/>
          <p:nvPr/>
        </p:nvGrpSpPr>
        <p:grpSpPr>
          <a:xfrm>
            <a:off x="6598800" y="3774960"/>
            <a:ext cx="503640" cy="340920"/>
            <a:chOff x="6598800" y="3774960"/>
            <a:chExt cx="503640" cy="340920"/>
          </a:xfrm>
        </p:grpSpPr>
        <p:sp>
          <p:nvSpPr>
            <p:cNvPr id="437" name="Freeform 419"/>
            <p:cNvSpPr/>
            <p:nvPr/>
          </p:nvSpPr>
          <p:spPr>
            <a:xfrm rot="10800000">
              <a:off x="6598800" y="39452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20"/>
            <p:cNvSpPr/>
            <p:nvPr/>
          </p:nvSpPr>
          <p:spPr>
            <a:xfrm>
              <a:off x="6602400" y="377496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9" name="Group 421"/>
            <p:cNvGrpSpPr/>
            <p:nvPr/>
          </p:nvGrpSpPr>
          <p:grpSpPr>
            <a:xfrm>
              <a:off x="6599880" y="3775680"/>
              <a:ext cx="500760" cy="340200"/>
              <a:chOff x="6599880" y="3775680"/>
              <a:chExt cx="500760" cy="340200"/>
            </a:xfrm>
          </p:grpSpPr>
          <p:sp>
            <p:nvSpPr>
              <p:cNvPr id="440" name="Oval 422"/>
              <p:cNvSpPr/>
              <p:nvPr/>
            </p:nvSpPr>
            <p:spPr>
              <a:xfrm>
                <a:off x="6599880" y="377568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423"/>
              <p:cNvSpPr/>
              <p:nvPr/>
            </p:nvSpPr>
            <p:spPr>
              <a:xfrm>
                <a:off x="6599880" y="394632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2" name="Group 510"/>
          <p:cNvGrpSpPr/>
          <p:nvPr/>
        </p:nvGrpSpPr>
        <p:grpSpPr>
          <a:xfrm>
            <a:off x="8234280" y="2365200"/>
            <a:ext cx="515880" cy="351000"/>
            <a:chOff x="8234280" y="2365200"/>
            <a:chExt cx="515880" cy="351000"/>
          </a:xfrm>
        </p:grpSpPr>
        <p:sp>
          <p:nvSpPr>
            <p:cNvPr id="443" name="Freeform 509"/>
            <p:cNvSpPr/>
            <p:nvPr/>
          </p:nvSpPr>
          <p:spPr>
            <a:xfrm rot="10800000">
              <a:off x="8249760" y="2535120"/>
              <a:ext cx="500040" cy="1684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26"/>
            <p:cNvSpPr/>
            <p:nvPr/>
          </p:nvSpPr>
          <p:spPr>
            <a:xfrm>
              <a:off x="8234280" y="2365200"/>
              <a:ext cx="500040" cy="1684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5" name="Group 427"/>
            <p:cNvGrpSpPr/>
            <p:nvPr/>
          </p:nvGrpSpPr>
          <p:grpSpPr>
            <a:xfrm>
              <a:off x="8250120" y="2376360"/>
              <a:ext cx="500040" cy="339840"/>
              <a:chOff x="8250120" y="2376360"/>
              <a:chExt cx="500040" cy="339840"/>
            </a:xfrm>
          </p:grpSpPr>
          <p:sp>
            <p:nvSpPr>
              <p:cNvPr id="446" name="Oval 428"/>
              <p:cNvSpPr/>
              <p:nvPr/>
            </p:nvSpPr>
            <p:spPr>
              <a:xfrm>
                <a:off x="8250120" y="237636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Line 429"/>
              <p:cNvSpPr/>
              <p:nvPr/>
            </p:nvSpPr>
            <p:spPr>
              <a:xfrm>
                <a:off x="8250120" y="254664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8" name="Group 430"/>
          <p:cNvGrpSpPr/>
          <p:nvPr/>
        </p:nvGrpSpPr>
        <p:grpSpPr>
          <a:xfrm>
            <a:off x="6943320" y="2838600"/>
            <a:ext cx="503640" cy="340920"/>
            <a:chOff x="6943320" y="2838600"/>
            <a:chExt cx="503640" cy="340920"/>
          </a:xfrm>
        </p:grpSpPr>
        <p:sp>
          <p:nvSpPr>
            <p:cNvPr id="449" name="Freeform 431"/>
            <p:cNvSpPr/>
            <p:nvPr/>
          </p:nvSpPr>
          <p:spPr>
            <a:xfrm rot="10800000">
              <a:off x="6943320" y="30088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32"/>
            <p:cNvSpPr/>
            <p:nvPr/>
          </p:nvSpPr>
          <p:spPr>
            <a:xfrm>
              <a:off x="6946920" y="28386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Group 433"/>
            <p:cNvGrpSpPr/>
            <p:nvPr/>
          </p:nvGrpSpPr>
          <p:grpSpPr>
            <a:xfrm>
              <a:off x="6944400" y="2839320"/>
              <a:ext cx="500760" cy="340200"/>
              <a:chOff x="6944400" y="2839320"/>
              <a:chExt cx="500760" cy="340200"/>
            </a:xfrm>
          </p:grpSpPr>
          <p:sp>
            <p:nvSpPr>
              <p:cNvPr id="452" name="Oval 434"/>
              <p:cNvSpPr/>
              <p:nvPr/>
            </p:nvSpPr>
            <p:spPr>
              <a:xfrm>
                <a:off x="6944400" y="28393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Line 435"/>
              <p:cNvSpPr/>
              <p:nvPr/>
            </p:nvSpPr>
            <p:spPr>
              <a:xfrm>
                <a:off x="6944400" y="30099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4" name="Line 449"/>
          <p:cNvSpPr/>
          <p:nvPr/>
        </p:nvSpPr>
        <p:spPr>
          <a:xfrm>
            <a:off x="1027080" y="3156120"/>
            <a:ext cx="2340000" cy="2044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448"/>
          <p:cNvSpPr/>
          <p:nvPr/>
        </p:nvSpPr>
        <p:spPr>
          <a:xfrm>
            <a:off x="993600" y="3205080"/>
            <a:ext cx="2387880" cy="22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400"/>
          <p:cNvGrpSpPr/>
          <p:nvPr/>
        </p:nvGrpSpPr>
        <p:grpSpPr>
          <a:xfrm>
            <a:off x="3149280" y="3218040"/>
            <a:ext cx="503640" cy="340920"/>
            <a:chOff x="3149280" y="3218040"/>
            <a:chExt cx="503640" cy="340920"/>
          </a:xfrm>
        </p:grpSpPr>
        <p:sp>
          <p:nvSpPr>
            <p:cNvPr id="457" name="Freeform 401"/>
            <p:cNvSpPr/>
            <p:nvPr/>
          </p:nvSpPr>
          <p:spPr>
            <a:xfrm rot="10800000">
              <a:off x="3149280" y="33883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02"/>
            <p:cNvSpPr/>
            <p:nvPr/>
          </p:nvSpPr>
          <p:spPr>
            <a:xfrm>
              <a:off x="3152880" y="32180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9" name="Group 403"/>
            <p:cNvGrpSpPr/>
            <p:nvPr/>
          </p:nvGrpSpPr>
          <p:grpSpPr>
            <a:xfrm>
              <a:off x="3150360" y="3218760"/>
              <a:ext cx="500760" cy="340200"/>
              <a:chOff x="3150360" y="3218760"/>
              <a:chExt cx="500760" cy="340200"/>
            </a:xfrm>
          </p:grpSpPr>
          <p:sp>
            <p:nvSpPr>
              <p:cNvPr id="460" name="Oval 404"/>
              <p:cNvSpPr/>
              <p:nvPr/>
            </p:nvSpPr>
            <p:spPr>
              <a:xfrm>
                <a:off x="3150360" y="32187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Line 405"/>
              <p:cNvSpPr/>
              <p:nvPr/>
            </p:nvSpPr>
            <p:spPr>
              <a:xfrm>
                <a:off x="3150360" y="33894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2" name="Group 436"/>
          <p:cNvGrpSpPr/>
          <p:nvPr/>
        </p:nvGrpSpPr>
        <p:grpSpPr>
          <a:xfrm>
            <a:off x="816120" y="3002040"/>
            <a:ext cx="502920" cy="340920"/>
            <a:chOff x="816120" y="3002040"/>
            <a:chExt cx="502920" cy="340920"/>
          </a:xfrm>
        </p:grpSpPr>
        <p:sp>
          <p:nvSpPr>
            <p:cNvPr id="463" name="Freeform 437"/>
            <p:cNvSpPr/>
            <p:nvPr/>
          </p:nvSpPr>
          <p:spPr>
            <a:xfrm rot="10800000">
              <a:off x="816120" y="3172320"/>
              <a:ext cx="499680" cy="1688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38"/>
            <p:cNvSpPr/>
            <p:nvPr/>
          </p:nvSpPr>
          <p:spPr>
            <a:xfrm>
              <a:off x="819360" y="3002040"/>
              <a:ext cx="499680" cy="1688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5" name="Group 439"/>
            <p:cNvGrpSpPr/>
            <p:nvPr/>
          </p:nvGrpSpPr>
          <p:grpSpPr>
            <a:xfrm>
              <a:off x="816840" y="3002760"/>
              <a:ext cx="500400" cy="340200"/>
              <a:chOff x="816840" y="3002760"/>
              <a:chExt cx="500400" cy="340200"/>
            </a:xfrm>
          </p:grpSpPr>
          <p:sp>
            <p:nvSpPr>
              <p:cNvPr id="466" name="Oval 440"/>
              <p:cNvSpPr/>
              <p:nvPr/>
            </p:nvSpPr>
            <p:spPr>
              <a:xfrm>
                <a:off x="816840" y="3002760"/>
                <a:ext cx="50040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Line 441"/>
              <p:cNvSpPr/>
              <p:nvPr/>
            </p:nvSpPr>
            <p:spPr>
              <a:xfrm>
                <a:off x="816840" y="3173400"/>
                <a:ext cx="49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8" name="Group 450"/>
          <p:cNvGrpSpPr/>
          <p:nvPr/>
        </p:nvGrpSpPr>
        <p:grpSpPr>
          <a:xfrm>
            <a:off x="3076200" y="4158000"/>
            <a:ext cx="304920" cy="684720"/>
            <a:chOff x="3076200" y="4158000"/>
            <a:chExt cx="304920" cy="684720"/>
          </a:xfrm>
        </p:grpSpPr>
        <p:sp>
          <p:nvSpPr>
            <p:cNvPr id="469" name="Freeform 451"/>
            <p:cNvSpPr/>
            <p:nvPr/>
          </p:nvSpPr>
          <p:spPr>
            <a:xfrm rot="21436200">
              <a:off x="3143160" y="416160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52"/>
            <p:cNvSpPr/>
            <p:nvPr/>
          </p:nvSpPr>
          <p:spPr>
            <a:xfrm rot="21436200">
              <a:off x="3091320" y="419112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53"/>
            <p:cNvSpPr/>
            <p:nvPr/>
          </p:nvSpPr>
          <p:spPr>
            <a:xfrm rot="21436200">
              <a:off x="3180960" y="418500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Group 318"/>
          <p:cNvGrpSpPr/>
          <p:nvPr/>
        </p:nvGrpSpPr>
        <p:grpSpPr>
          <a:xfrm>
            <a:off x="3006360" y="4102200"/>
            <a:ext cx="503640" cy="340920"/>
            <a:chOff x="3006360" y="4102200"/>
            <a:chExt cx="503640" cy="340920"/>
          </a:xfrm>
        </p:grpSpPr>
        <p:sp>
          <p:nvSpPr>
            <p:cNvPr id="473" name="Freeform 319"/>
            <p:cNvSpPr/>
            <p:nvPr/>
          </p:nvSpPr>
          <p:spPr>
            <a:xfrm rot="10800000">
              <a:off x="3006360" y="42724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20"/>
            <p:cNvSpPr/>
            <p:nvPr/>
          </p:nvSpPr>
          <p:spPr>
            <a:xfrm>
              <a:off x="3009960" y="41022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Group 321"/>
            <p:cNvGrpSpPr/>
            <p:nvPr/>
          </p:nvGrpSpPr>
          <p:grpSpPr>
            <a:xfrm>
              <a:off x="3007440" y="4102920"/>
              <a:ext cx="500760" cy="340200"/>
              <a:chOff x="3007440" y="4102920"/>
              <a:chExt cx="500760" cy="340200"/>
            </a:xfrm>
          </p:grpSpPr>
          <p:sp>
            <p:nvSpPr>
              <p:cNvPr id="476" name="Oval 322"/>
              <p:cNvSpPr/>
              <p:nvPr/>
            </p:nvSpPr>
            <p:spPr>
              <a:xfrm>
                <a:off x="3007440" y="41029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Line 323"/>
              <p:cNvSpPr/>
              <p:nvPr/>
            </p:nvSpPr>
            <p:spPr>
              <a:xfrm>
                <a:off x="3007440" y="42735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8" name="Group 454"/>
          <p:cNvGrpSpPr/>
          <p:nvPr/>
        </p:nvGrpSpPr>
        <p:grpSpPr>
          <a:xfrm>
            <a:off x="2901600" y="4700520"/>
            <a:ext cx="503640" cy="340920"/>
            <a:chOff x="2901600" y="4700520"/>
            <a:chExt cx="503640" cy="340920"/>
          </a:xfrm>
        </p:grpSpPr>
        <p:sp>
          <p:nvSpPr>
            <p:cNvPr id="479" name="Freeform 455"/>
            <p:cNvSpPr/>
            <p:nvPr/>
          </p:nvSpPr>
          <p:spPr>
            <a:xfrm rot="10800000">
              <a:off x="2901600" y="48708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56"/>
            <p:cNvSpPr/>
            <p:nvPr/>
          </p:nvSpPr>
          <p:spPr>
            <a:xfrm>
              <a:off x="2905200" y="47005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Group 457"/>
            <p:cNvGrpSpPr/>
            <p:nvPr/>
          </p:nvGrpSpPr>
          <p:grpSpPr>
            <a:xfrm>
              <a:off x="2902680" y="4701240"/>
              <a:ext cx="500760" cy="340200"/>
              <a:chOff x="2902680" y="4701240"/>
              <a:chExt cx="500760" cy="340200"/>
            </a:xfrm>
          </p:grpSpPr>
          <p:sp>
            <p:nvSpPr>
              <p:cNvPr id="482" name="Oval 458"/>
              <p:cNvSpPr/>
              <p:nvPr/>
            </p:nvSpPr>
            <p:spPr>
              <a:xfrm>
                <a:off x="2902680" y="470124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Line 459"/>
              <p:cNvSpPr/>
              <p:nvPr/>
            </p:nvSpPr>
            <p:spPr>
              <a:xfrm>
                <a:off x="2902680" y="487188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84" name="Text Box 469"/>
          <p:cNvSpPr/>
          <p:nvPr/>
        </p:nvSpPr>
        <p:spPr>
          <a:xfrm>
            <a:off x="8259840" y="215568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s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Group 490"/>
          <p:cNvGrpSpPr/>
          <p:nvPr/>
        </p:nvGrpSpPr>
        <p:grpSpPr>
          <a:xfrm>
            <a:off x="1079640" y="3892680"/>
            <a:ext cx="505800" cy="339480"/>
            <a:chOff x="1079640" y="3892680"/>
            <a:chExt cx="505800" cy="339480"/>
          </a:xfrm>
        </p:grpSpPr>
        <p:sp>
          <p:nvSpPr>
            <p:cNvPr id="486" name="Freeform 489"/>
            <p:cNvSpPr/>
            <p:nvPr/>
          </p:nvSpPr>
          <p:spPr>
            <a:xfrm>
              <a:off x="1085760" y="389700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84"/>
            <p:cNvSpPr/>
            <p:nvPr/>
          </p:nvSpPr>
          <p:spPr>
            <a:xfrm rot="10800000">
              <a:off x="1079640" y="406224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Group 486"/>
            <p:cNvGrpSpPr/>
            <p:nvPr/>
          </p:nvGrpSpPr>
          <p:grpSpPr>
            <a:xfrm>
              <a:off x="1081080" y="3892680"/>
              <a:ext cx="499680" cy="339480"/>
              <a:chOff x="1081080" y="3892680"/>
              <a:chExt cx="499680" cy="339480"/>
            </a:xfrm>
          </p:grpSpPr>
          <p:sp>
            <p:nvSpPr>
              <p:cNvPr id="489" name="Oval 487"/>
              <p:cNvSpPr/>
              <p:nvPr/>
            </p:nvSpPr>
            <p:spPr>
              <a:xfrm>
                <a:off x="1081080" y="3892680"/>
                <a:ext cx="499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Line 488"/>
              <p:cNvSpPr/>
              <p:nvPr/>
            </p:nvSpPr>
            <p:spPr>
              <a:xfrm>
                <a:off x="1081080" y="406296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Group 511"/>
          <p:cNvGrpSpPr/>
          <p:nvPr/>
        </p:nvGrpSpPr>
        <p:grpSpPr>
          <a:xfrm>
            <a:off x="1695600" y="2192400"/>
            <a:ext cx="515880" cy="350280"/>
            <a:chOff x="1695600" y="2192400"/>
            <a:chExt cx="515880" cy="350280"/>
          </a:xfrm>
        </p:grpSpPr>
        <p:sp>
          <p:nvSpPr>
            <p:cNvPr id="492" name="Freeform 512"/>
            <p:cNvSpPr/>
            <p:nvPr/>
          </p:nvSpPr>
          <p:spPr>
            <a:xfrm rot="10800000">
              <a:off x="1711080" y="236160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513"/>
            <p:cNvSpPr/>
            <p:nvPr/>
          </p:nvSpPr>
          <p:spPr>
            <a:xfrm>
              <a:off x="1695600" y="219240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4" name="Group 514"/>
            <p:cNvGrpSpPr/>
            <p:nvPr/>
          </p:nvGrpSpPr>
          <p:grpSpPr>
            <a:xfrm>
              <a:off x="1711440" y="2203200"/>
              <a:ext cx="500040" cy="339480"/>
              <a:chOff x="1711440" y="2203200"/>
              <a:chExt cx="500040" cy="339480"/>
            </a:xfrm>
          </p:grpSpPr>
          <p:sp>
            <p:nvSpPr>
              <p:cNvPr id="495" name="Oval 515"/>
              <p:cNvSpPr/>
              <p:nvPr/>
            </p:nvSpPr>
            <p:spPr>
              <a:xfrm>
                <a:off x="1711440" y="2203200"/>
                <a:ext cx="50004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Line 516"/>
              <p:cNvSpPr/>
              <p:nvPr/>
            </p:nvSpPr>
            <p:spPr>
              <a:xfrm>
                <a:off x="1711440" y="237348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Group 517"/>
          <p:cNvGrpSpPr/>
          <p:nvPr/>
        </p:nvGrpSpPr>
        <p:grpSpPr>
          <a:xfrm>
            <a:off x="1393920" y="4346640"/>
            <a:ext cx="515880" cy="350280"/>
            <a:chOff x="1393920" y="4346640"/>
            <a:chExt cx="515880" cy="350280"/>
          </a:xfrm>
        </p:grpSpPr>
        <p:sp>
          <p:nvSpPr>
            <p:cNvPr id="498" name="Freeform 518"/>
            <p:cNvSpPr/>
            <p:nvPr/>
          </p:nvSpPr>
          <p:spPr>
            <a:xfrm rot="10800000">
              <a:off x="1409400" y="45158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519"/>
            <p:cNvSpPr/>
            <p:nvPr/>
          </p:nvSpPr>
          <p:spPr>
            <a:xfrm>
              <a:off x="1393920" y="43466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520"/>
            <p:cNvGrpSpPr/>
            <p:nvPr/>
          </p:nvGrpSpPr>
          <p:grpSpPr>
            <a:xfrm>
              <a:off x="1409760" y="4357440"/>
              <a:ext cx="500040" cy="339480"/>
              <a:chOff x="1409760" y="4357440"/>
              <a:chExt cx="500040" cy="339480"/>
            </a:xfrm>
          </p:grpSpPr>
          <p:sp>
            <p:nvSpPr>
              <p:cNvPr id="501" name="Oval 521"/>
              <p:cNvSpPr/>
              <p:nvPr/>
            </p:nvSpPr>
            <p:spPr>
              <a:xfrm>
                <a:off x="1409760" y="4357440"/>
                <a:ext cx="50004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522"/>
              <p:cNvSpPr/>
              <p:nvPr/>
            </p:nvSpPr>
            <p:spPr>
              <a:xfrm>
                <a:off x="1409760" y="45277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03" name="Text Box 536"/>
          <p:cNvSpPr/>
          <p:nvPr/>
        </p:nvSpPr>
        <p:spPr>
          <a:xfrm>
            <a:off x="615960" y="3932280"/>
            <a:ext cx="6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539"/>
          <p:cNvSpPr/>
          <p:nvPr/>
        </p:nvSpPr>
        <p:spPr>
          <a:xfrm>
            <a:off x="3346560" y="462132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540"/>
          <p:cNvGrpSpPr/>
          <p:nvPr/>
        </p:nvGrpSpPr>
        <p:grpSpPr>
          <a:xfrm>
            <a:off x="5886000" y="2712960"/>
            <a:ext cx="503280" cy="340920"/>
            <a:chOff x="5886000" y="2712960"/>
            <a:chExt cx="503280" cy="340920"/>
          </a:xfrm>
        </p:grpSpPr>
        <p:sp>
          <p:nvSpPr>
            <p:cNvPr id="506" name="Freeform 541"/>
            <p:cNvSpPr/>
            <p:nvPr/>
          </p:nvSpPr>
          <p:spPr>
            <a:xfrm rot="10800000">
              <a:off x="5886000" y="288360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42"/>
            <p:cNvSpPr/>
            <p:nvPr/>
          </p:nvSpPr>
          <p:spPr>
            <a:xfrm>
              <a:off x="5889240" y="271296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Group 543"/>
            <p:cNvGrpSpPr/>
            <p:nvPr/>
          </p:nvGrpSpPr>
          <p:grpSpPr>
            <a:xfrm>
              <a:off x="5887440" y="2714040"/>
              <a:ext cx="500040" cy="339840"/>
              <a:chOff x="5887440" y="2714040"/>
              <a:chExt cx="500040" cy="339840"/>
            </a:xfrm>
          </p:grpSpPr>
          <p:sp>
            <p:nvSpPr>
              <p:cNvPr id="509" name="Oval 544"/>
              <p:cNvSpPr/>
              <p:nvPr/>
            </p:nvSpPr>
            <p:spPr>
              <a:xfrm>
                <a:off x="5887440" y="271404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Line 545"/>
              <p:cNvSpPr/>
              <p:nvPr/>
            </p:nvSpPr>
            <p:spPr>
              <a:xfrm>
                <a:off x="5887440" y="28843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1" name="Group 552"/>
          <p:cNvGrpSpPr/>
          <p:nvPr/>
        </p:nvGrpSpPr>
        <p:grpSpPr>
          <a:xfrm>
            <a:off x="8015400" y="2733840"/>
            <a:ext cx="505800" cy="339480"/>
            <a:chOff x="8015400" y="2733840"/>
            <a:chExt cx="505800" cy="339480"/>
          </a:xfrm>
        </p:grpSpPr>
        <p:sp>
          <p:nvSpPr>
            <p:cNvPr id="512" name="Freeform 553"/>
            <p:cNvSpPr/>
            <p:nvPr/>
          </p:nvSpPr>
          <p:spPr>
            <a:xfrm>
              <a:off x="8021520" y="273816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54"/>
            <p:cNvSpPr/>
            <p:nvPr/>
          </p:nvSpPr>
          <p:spPr>
            <a:xfrm rot="10800000">
              <a:off x="8015400" y="290340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4" name="Group 555"/>
            <p:cNvGrpSpPr/>
            <p:nvPr/>
          </p:nvGrpSpPr>
          <p:grpSpPr>
            <a:xfrm>
              <a:off x="8016840" y="2733840"/>
              <a:ext cx="499680" cy="339480"/>
              <a:chOff x="8016840" y="2733840"/>
              <a:chExt cx="499680" cy="339480"/>
            </a:xfrm>
          </p:grpSpPr>
          <p:sp>
            <p:nvSpPr>
              <p:cNvPr id="515" name="Oval 556"/>
              <p:cNvSpPr/>
              <p:nvPr/>
            </p:nvSpPr>
            <p:spPr>
              <a:xfrm>
                <a:off x="8016840" y="2733840"/>
                <a:ext cx="499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Line 557"/>
              <p:cNvSpPr/>
              <p:nvPr/>
            </p:nvSpPr>
            <p:spPr>
              <a:xfrm>
                <a:off x="8016840" y="290412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7" name="Group 546"/>
          <p:cNvGrpSpPr/>
          <p:nvPr/>
        </p:nvGrpSpPr>
        <p:grpSpPr>
          <a:xfrm>
            <a:off x="7937640" y="2773440"/>
            <a:ext cx="502560" cy="340920"/>
            <a:chOff x="7937640" y="2773440"/>
            <a:chExt cx="502560" cy="340920"/>
          </a:xfrm>
        </p:grpSpPr>
        <p:sp>
          <p:nvSpPr>
            <p:cNvPr id="518" name="Freeform 547"/>
            <p:cNvSpPr/>
            <p:nvPr/>
          </p:nvSpPr>
          <p:spPr>
            <a:xfrm rot="10800000">
              <a:off x="7937640" y="2944080"/>
              <a:ext cx="499680" cy="16920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548"/>
            <p:cNvSpPr/>
            <p:nvPr/>
          </p:nvSpPr>
          <p:spPr>
            <a:xfrm>
              <a:off x="7940520" y="2773440"/>
              <a:ext cx="499680" cy="16920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0" name="Group 549"/>
            <p:cNvGrpSpPr/>
            <p:nvPr/>
          </p:nvGrpSpPr>
          <p:grpSpPr>
            <a:xfrm>
              <a:off x="7938720" y="2774520"/>
              <a:ext cx="499680" cy="339840"/>
              <a:chOff x="7938720" y="2774520"/>
              <a:chExt cx="499680" cy="339840"/>
            </a:xfrm>
          </p:grpSpPr>
          <p:sp>
            <p:nvSpPr>
              <p:cNvPr id="521" name="Oval 550"/>
              <p:cNvSpPr/>
              <p:nvPr/>
            </p:nvSpPr>
            <p:spPr>
              <a:xfrm>
                <a:off x="7938720" y="2774520"/>
                <a:ext cx="49968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Line 551"/>
              <p:cNvSpPr/>
              <p:nvPr/>
            </p:nvSpPr>
            <p:spPr>
              <a:xfrm>
                <a:off x="7938720" y="294480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23" name="AutoShape 328"/>
          <p:cNvSpPr/>
          <p:nvPr/>
        </p:nvSpPr>
        <p:spPr>
          <a:xfrm>
            <a:off x="628560" y="2949480"/>
            <a:ext cx="995400" cy="750960"/>
          </a:xfrm>
          <a:custGeom>
            <a:avLst/>
            <a:gdLst>
              <a:gd name="textAreaLeft" fmla="*/ 307440 w 995400"/>
              <a:gd name="textAreaRight" fmla="*/ 687960 w 995400"/>
              <a:gd name="textAreaTop" fmla="*/ 286920 h 750960"/>
              <a:gd name="textAreaBottom" fmla="*/ 573840 h 750960"/>
            </a:gdLst>
            <a:ahLst/>
            <a:rect l="textAreaLeft" t="textAreaTop" r="textAreaRight" b="textAreaBottom"/>
            <a:pathLst>
              <a:path w="995363" h="750888">
                <a:moveTo>
                  <a:pt x="1" y="286813"/>
                </a:moveTo>
                <a:lnTo>
                  <a:pt x="380197" y="286815"/>
                </a:lnTo>
                <a:lnTo>
                  <a:pt x="497682" y="0"/>
                </a:lnTo>
                <a:lnTo>
                  <a:pt x="615166" y="286815"/>
                </a:lnTo>
                <a:lnTo>
                  <a:pt x="995362" y="286813"/>
                </a:lnTo>
                <a:lnTo>
                  <a:pt x="687776" y="464072"/>
                </a:lnTo>
                <a:lnTo>
                  <a:pt x="805266" y="750886"/>
                </a:lnTo>
                <a:lnTo>
                  <a:pt x="497682" y="573623"/>
                </a:lnTo>
                <a:lnTo>
                  <a:pt x="190097" y="750886"/>
                </a:lnTo>
                <a:lnTo>
                  <a:pt x="307587" y="46407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AutoShape 329"/>
          <p:cNvSpPr/>
          <p:nvPr/>
        </p:nvSpPr>
        <p:spPr>
          <a:xfrm>
            <a:off x="5705640" y="2513160"/>
            <a:ext cx="927000" cy="873000"/>
          </a:xfrm>
          <a:custGeom>
            <a:avLst/>
            <a:gdLst>
              <a:gd name="textAreaLeft" fmla="*/ 286560 w 927000"/>
              <a:gd name="textAreaRight" fmla="*/ 640440 w 927000"/>
              <a:gd name="textAreaTop" fmla="*/ 333360 h 873000"/>
              <a:gd name="textAreaBottom" fmla="*/ 667080 h 873000"/>
            </a:gdLst>
            <a:ahLst/>
            <a:rect l="textAreaLeft" t="textAreaTop" r="textAreaRight" b="textAreaBottom"/>
            <a:pathLst>
              <a:path w="927100" h="873125">
                <a:moveTo>
                  <a:pt x="1" y="333503"/>
                </a:moveTo>
                <a:lnTo>
                  <a:pt x="354123" y="333506"/>
                </a:lnTo>
                <a:lnTo>
                  <a:pt x="463550" y="0"/>
                </a:lnTo>
                <a:lnTo>
                  <a:pt x="572977" y="333506"/>
                </a:lnTo>
                <a:lnTo>
                  <a:pt x="927099" y="333503"/>
                </a:lnTo>
                <a:lnTo>
                  <a:pt x="640607" y="539618"/>
                </a:lnTo>
                <a:lnTo>
                  <a:pt x="750040" y="873122"/>
                </a:lnTo>
                <a:lnTo>
                  <a:pt x="463550" y="667004"/>
                </a:lnTo>
                <a:lnTo>
                  <a:pt x="177060" y="873122"/>
                </a:lnTo>
                <a:lnTo>
                  <a:pt x="286493" y="53961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AutoShape 330"/>
          <p:cNvSpPr/>
          <p:nvPr/>
        </p:nvSpPr>
        <p:spPr>
          <a:xfrm>
            <a:off x="7988400" y="2592360"/>
            <a:ext cx="900000" cy="763560"/>
          </a:xfrm>
          <a:custGeom>
            <a:avLst/>
            <a:gdLst>
              <a:gd name="textAreaLeft" fmla="*/ 277920 w 900000"/>
              <a:gd name="textAreaRight" fmla="*/ 622080 w 900000"/>
              <a:gd name="textAreaTop" fmla="*/ 291600 h 763560"/>
              <a:gd name="textAreaBottom" fmla="*/ 583560 h 763560"/>
            </a:gdLst>
            <a:ahLst/>
            <a:rect l="textAreaLeft" t="textAreaTop" r="textAreaRight" b="textAreaBottom"/>
            <a:pathLst>
              <a:path w="900113" h="763587">
                <a:moveTo>
                  <a:pt x="1" y="291663"/>
                </a:moveTo>
                <a:lnTo>
                  <a:pt x="343815" y="291666"/>
                </a:lnTo>
                <a:lnTo>
                  <a:pt x="450057" y="0"/>
                </a:lnTo>
                <a:lnTo>
                  <a:pt x="556298" y="291666"/>
                </a:lnTo>
                <a:lnTo>
                  <a:pt x="900112" y="291663"/>
                </a:lnTo>
                <a:lnTo>
                  <a:pt x="621960" y="471920"/>
                </a:lnTo>
                <a:lnTo>
                  <a:pt x="728207" y="763584"/>
                </a:lnTo>
                <a:lnTo>
                  <a:pt x="450057" y="583325"/>
                </a:lnTo>
                <a:lnTo>
                  <a:pt x="171906" y="763584"/>
                </a:lnTo>
                <a:lnTo>
                  <a:pt x="278153" y="4719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331"/>
          <p:cNvSpPr/>
          <p:nvPr/>
        </p:nvSpPr>
        <p:spPr>
          <a:xfrm>
            <a:off x="0" y="3343320"/>
            <a:ext cx="8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332"/>
          <p:cNvSpPr/>
          <p:nvPr/>
        </p:nvSpPr>
        <p:spPr>
          <a:xfrm>
            <a:off x="5813280" y="27543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Date Placeholder 33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9C7B-58DA-474A-BA50-155F6D6AF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- netHSM enabled Local deploy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545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30" descr="Smart Card Reader - USB 2.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10640" y="441972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1" descr="Smart Card Reader - USB 2.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55880" y="50925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MCj04349490000[1]"/>
          <p:cNvPicPr/>
          <p:nvPr/>
        </p:nvPicPr>
        <p:blipFill>
          <a:blip r:embed="rId10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45"/>
          <p:cNvSpPr/>
          <p:nvPr/>
        </p:nvSpPr>
        <p:spPr>
          <a:xfrm>
            <a:off x="784872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46"/>
          <p:cNvSpPr/>
          <p:nvPr/>
        </p:nvSpPr>
        <p:spPr>
          <a:xfrm>
            <a:off x="1447920" y="4038480"/>
            <a:ext cx="45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33" descr=""/>
          <p:cNvPicPr/>
          <p:nvPr/>
        </p:nvPicPr>
        <p:blipFill>
          <a:blip r:embed="rId11"/>
          <a:stretch/>
        </p:blipFill>
        <p:spPr>
          <a:xfrm>
            <a:off x="5638680" y="327672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65"/>
          <p:cNvSpPr/>
          <p:nvPr/>
        </p:nvSpPr>
        <p:spPr>
          <a:xfrm>
            <a:off x="5410080" y="39625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41" descr=""/>
          <p:cNvPicPr/>
          <p:nvPr/>
        </p:nvPicPr>
        <p:blipFill>
          <a:blip r:embed="rId12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MCj04352420000[1]"/>
          <p:cNvPicPr/>
          <p:nvPr/>
        </p:nvPicPr>
        <p:blipFill>
          <a:blip r:embed="rId13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MCj04352420000[1]"/>
          <p:cNvPicPr/>
          <p:nvPr/>
        </p:nvPicPr>
        <p:blipFill>
          <a:blip r:embed="rId14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MCj04352420000[1]"/>
          <p:cNvPicPr/>
          <p:nvPr/>
        </p:nvPicPr>
        <p:blipFill>
          <a:blip r:embed="rId15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MCj04352420000[1]"/>
          <p:cNvPicPr/>
          <p:nvPr/>
        </p:nvPicPr>
        <p:blipFill>
          <a:blip r:embed="rId16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6"/>
          <p:cNvSpPr/>
          <p:nvPr/>
        </p:nvSpPr>
        <p:spPr>
          <a:xfrm>
            <a:off x="4327560" y="595440"/>
            <a:ext cx="4541760" cy="571968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46"/>
          <p:cNvSpPr/>
          <p:nvPr/>
        </p:nvSpPr>
        <p:spPr>
          <a:xfrm>
            <a:off x="239760" y="4187880"/>
            <a:ext cx="4079880" cy="213660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Date Placeholder 5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5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A57B-A5A3-4D6B-9C1E-5203B44E4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5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5:32:39Z</dcterms:created>
  <dc:creator>helm</dc:creator>
  <dc:description/>
  <dc:language>en-US</dc:language>
  <cp:lastModifiedBy>helm</cp:lastModifiedBy>
  <dcterms:modified xsi:type="dcterms:W3CDTF">2009-05-12T10:40:12Z</dcterms:modified>
  <cp:revision>10</cp:revision>
  <dc:subject/>
  <dc:title>ESnet CA Cloning</dc:title>
</cp:coreProperties>
</file>