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2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sldNum" idx="1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867C4A-7953-4A2C-9CE9-E419D85AB0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5D9A51-170B-4F71-A2C4-5387E0B5B4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3FEF90C-316A-4ACB-B436-C3EE73981D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D08AB9-12E1-4BB8-B874-21C177840A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91238CD-E911-4521-BC75-F387ABE1A9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ED73DA-B8EC-4C47-9756-36443D6937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24AC2F-5A00-4B4F-8B86-22B0D3BCAB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 Termination: should define clearly in Charter how to terminate a CA if the operation project/institute ends before CA life tim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53993FF-BD5E-495A-8488-88E032D5A9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84963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4920" y="3765960"/>
            <a:ext cx="84963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4920" y="37659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48760" y="37659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7720" y="9075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40520" y="9075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4920" y="37659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7720" y="37659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40520" y="37659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94920" y="907560"/>
            <a:ext cx="8496360" cy="547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849636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619280" y="-235440"/>
            <a:ext cx="7415280" cy="55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94920" y="37659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4920" y="907560"/>
            <a:ext cx="8496360" cy="547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48760" y="37659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94920" y="3765960"/>
            <a:ext cx="84963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84963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94920" y="3765960"/>
            <a:ext cx="84963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94920" y="37659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48760" y="37659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67720" y="9075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40520" y="9075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94920" y="37659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67720" y="37659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40520" y="37659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94920" y="907560"/>
            <a:ext cx="8496360" cy="547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849636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849636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619280" y="-235440"/>
            <a:ext cx="7415280" cy="55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94920" y="37659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748760" y="37659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94920" y="3765960"/>
            <a:ext cx="84963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84963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94920" y="3765960"/>
            <a:ext cx="84963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94920" y="37659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748760" y="37659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67720" y="9075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40520" y="9075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94920" y="37659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67720" y="37659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40520" y="37659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94920" y="907560"/>
            <a:ext cx="8496360" cy="547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849636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1619280" y="-235440"/>
            <a:ext cx="7415280" cy="55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94920" y="37659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748760" y="37659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94920" y="3765960"/>
            <a:ext cx="84963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84963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94920" y="3765960"/>
            <a:ext cx="84963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94920" y="37659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748760" y="37659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67720" y="9075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40520" y="9075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394920" y="37659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67720" y="37659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40520" y="37659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19280" y="-235440"/>
            <a:ext cx="7415280" cy="55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4920" y="37659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48760" y="37659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4920" y="3765960"/>
            <a:ext cx="84963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94920" y="907560"/>
            <a:ext cx="849636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Rectangle 2"/>
          <p:cNvSpPr/>
          <p:nvPr/>
        </p:nvSpPr>
        <p:spPr>
          <a:xfrm>
            <a:off x="0" y="692280"/>
            <a:ext cx="9144000" cy="7272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cc00">
                  <a:alpha val="8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" name="Picture 4" descr=""/>
          <p:cNvPicPr/>
          <p:nvPr/>
        </p:nvPicPr>
        <p:blipFill>
          <a:blip r:embed="rId2"/>
          <a:stretch/>
        </p:blipFill>
        <p:spPr>
          <a:xfrm>
            <a:off x="6588000" y="6211800"/>
            <a:ext cx="2556000" cy="646200"/>
          </a:xfrm>
          <a:prstGeom prst="rect">
            <a:avLst/>
          </a:prstGeom>
          <a:ln w="0">
            <a:noFill/>
          </a:ln>
        </p:spPr>
      </p:pic>
      <p:pic>
        <p:nvPicPr>
          <p:cNvPr id="4" name="Picture 5" descr=""/>
          <p:cNvPicPr/>
          <p:nvPr/>
        </p:nvPicPr>
        <p:blipFill>
          <a:blip r:embed="rId3"/>
          <a:stretch/>
        </p:blipFill>
        <p:spPr>
          <a:xfrm>
            <a:off x="0" y="0"/>
            <a:ext cx="1547640" cy="655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394920" y="907560"/>
            <a:ext cx="849636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Rectangle 2"/>
          <p:cNvSpPr/>
          <p:nvPr/>
        </p:nvSpPr>
        <p:spPr>
          <a:xfrm>
            <a:off x="0" y="692280"/>
            <a:ext cx="9144000" cy="7272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cc00">
                  <a:alpha val="8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250560" y="44280"/>
            <a:ext cx="8496360" cy="63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4" name="Picture 4" descr=""/>
          <p:cNvPicPr/>
          <p:nvPr/>
        </p:nvPicPr>
        <p:blipFill>
          <a:blip r:embed="rId2"/>
          <a:stretch/>
        </p:blipFill>
        <p:spPr>
          <a:xfrm>
            <a:off x="6877080" y="6284880"/>
            <a:ext cx="2266920" cy="5731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3"/>
          <a:stretch/>
        </p:blipFill>
        <p:spPr>
          <a:xfrm>
            <a:off x="0" y="6337440"/>
            <a:ext cx="1116000" cy="520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1"/>
          <p:cNvSpPr/>
          <p:nvPr/>
        </p:nvSpPr>
        <p:spPr>
          <a:xfrm>
            <a:off x="0" y="692280"/>
            <a:ext cx="9144000" cy="7272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cc00">
                  <a:alpha val="8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2"/>
          <a:stretch/>
        </p:blipFill>
        <p:spPr>
          <a:xfrm>
            <a:off x="6588000" y="6211800"/>
            <a:ext cx="2556000" cy="6462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"/>
          <p:cNvPicPr/>
          <p:nvPr/>
        </p:nvPicPr>
        <p:blipFill>
          <a:blip r:embed="rId3"/>
          <a:stretch/>
        </p:blipFill>
        <p:spPr>
          <a:xfrm>
            <a:off x="0" y="0"/>
            <a:ext cx="1547640" cy="65556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body"/>
          </p:nvPr>
        </p:nvSpPr>
        <p:spPr>
          <a:xfrm>
            <a:off x="394920" y="907560"/>
            <a:ext cx="849636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1"/>
          <p:cNvSpPr/>
          <p:nvPr/>
        </p:nvSpPr>
        <p:spPr>
          <a:xfrm>
            <a:off x="0" y="692280"/>
            <a:ext cx="9144000" cy="7272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cc00">
                  <a:alpha val="8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2"/>
          <a:stretch/>
        </p:blipFill>
        <p:spPr>
          <a:xfrm>
            <a:off x="6588000" y="6211800"/>
            <a:ext cx="2556000" cy="6462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3" descr=""/>
          <p:cNvPicPr/>
          <p:nvPr/>
        </p:nvPicPr>
        <p:blipFill>
          <a:blip r:embed="rId3"/>
          <a:stretch/>
        </p:blipFill>
        <p:spPr>
          <a:xfrm>
            <a:off x="0" y="6134040"/>
            <a:ext cx="1547640" cy="72396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body"/>
          </p:nvPr>
        </p:nvSpPr>
        <p:spPr>
          <a:xfrm>
            <a:off x="394920" y="907560"/>
            <a:ext cx="849636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250560" y="44280"/>
            <a:ext cx="8496360" cy="63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3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image" Target="../media/image3.png"/><Relationship Id="rId20" Type="http://schemas.openxmlformats.org/officeDocument/2006/relationships/image" Target="../media/image4.png"/><Relationship Id="rId21" Type="http://schemas.openxmlformats.org/officeDocument/2006/relationships/image" Target="../media/image4.png"/><Relationship Id="rId22" Type="http://schemas.openxmlformats.org/officeDocument/2006/relationships/image" Target="../media/image4.png"/><Relationship Id="rId23" Type="http://schemas.openxmlformats.org/officeDocument/2006/relationships/image" Target="../media/image3.png"/><Relationship Id="rId24" Type="http://schemas.openxmlformats.org/officeDocument/2006/relationships/image" Target="../media/image4.png"/><Relationship Id="rId25" Type="http://schemas.openxmlformats.org/officeDocument/2006/relationships/slideLayout" Target="../slideLayouts/slideLayout1.xml"/><Relationship Id="rId2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3.png"/><Relationship Id="rId13" Type="http://schemas.openxmlformats.org/officeDocument/2006/relationships/image" Target="../media/image4.png"/><Relationship Id="rId14" Type="http://schemas.openxmlformats.org/officeDocument/2006/relationships/image" Target="../media/image3.png"/><Relationship Id="rId15" Type="http://schemas.openxmlformats.org/officeDocument/2006/relationships/image" Target="../media/image4.pn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1"/>
          <p:cNvSpPr/>
          <p:nvPr/>
        </p:nvSpPr>
        <p:spPr>
          <a:xfrm>
            <a:off x="0" y="112536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Updates of the APGrid PM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2"/>
          <p:cNvSpPr/>
          <p:nvPr/>
        </p:nvSpPr>
        <p:spPr>
          <a:xfrm>
            <a:off x="611280" y="2786040"/>
            <a:ext cx="792144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UGridPMA F2F@Berl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ptember 14, 200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1116000" y="4135320"/>
            <a:ext cx="698508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Yoshio Tanak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1"/>
          <p:cNvSpPr/>
          <p:nvPr/>
        </p:nvSpPr>
        <p:spPr>
          <a:xfrm>
            <a:off x="1619280" y="44280"/>
            <a:ext cx="741672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embers (16 + 3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 Box 2"/>
          <p:cNvSpPr/>
          <p:nvPr/>
        </p:nvSpPr>
        <p:spPr>
          <a:xfrm>
            <a:off x="179280" y="714240"/>
            <a:ext cx="4545000" cy="614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4 Accredited C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AIST (JP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APAC (AU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ASGC (TW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NIC (CN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GCA (IN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7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HEP (CN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8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KEK (JP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9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KISTI (KR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10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NAREGI (JP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1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NCHC (TW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1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NECTEC (TH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1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NGO/Netrust (SG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1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RAGMA-UCSD (US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1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HKU (HK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4648320" y="838080"/>
            <a:ext cx="4343400" cy="58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6"/>
              </a:buBlip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lan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7"/>
              </a:buBlip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haiGrid (TH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8"/>
              </a:buBlip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ongoli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9"/>
              </a:buBlip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General membershi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0"/>
              </a:buBlip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saka U. (JP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1"/>
              </a:buBlip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U. Hyderabad (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2"/>
              </a:buBlip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USM (M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3"/>
              </a:buBlip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verage by R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4"/>
              </a:buBlip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hilippine, Vietnam, Malaysia, Indonesia, New Zealand and Sri Lanka (so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1"/>
          <p:cNvSpPr/>
          <p:nvPr/>
        </p:nvSpPr>
        <p:spPr>
          <a:xfrm>
            <a:off x="1108080" y="44280"/>
            <a:ext cx="803592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me updates since Zurich mee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 Box 2"/>
          <p:cNvSpPr/>
          <p:nvPr/>
        </p:nvSpPr>
        <p:spPr>
          <a:xfrm>
            <a:off x="0" y="762120"/>
            <a:ext cx="9144000" cy="59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40000"/>
              </a:lnSpc>
              <a:spcBef>
                <a:spcPts val="499"/>
              </a:spcBef>
              <a:spcAft>
                <a:spcPts val="601"/>
              </a:spcAft>
              <a:buSzPct val="10279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OID status in APGridPM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SzPct val="102837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7 Completed : HKU, IGCA, KISTI, APAC, ASGCCA, NECTEC GOC-CA and NCHC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SzPct val="102837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7 In Progress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SzPct val="102837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AIST, KEK, NAREGI and PRAGMA-UCSD (wait for NAREGI new patch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SzPct val="102837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NIC, IHEP and NGO/Netrust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40000"/>
              </a:lnSpc>
              <a:spcBef>
                <a:spcPts val="499"/>
              </a:spcBef>
              <a:spcAft>
                <a:spcPts val="601"/>
              </a:spcAft>
              <a:buSzPct val="102792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IGTF RAT communication te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SzPct val="102837"/>
              <a:buBlip>
                <a:blip r:embed="rId7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hey need to reply within one business da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SzPct val="102837"/>
              <a:buBlip>
                <a:blip r:embed="rId8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ct time : Aug 25 – 2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SzPct val="102837"/>
              <a:buBlip>
                <a:blip r:embed="rId9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sult: all APGridPMA members completed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SzPct val="102837"/>
              <a:buBlip>
                <a:blip r:embed="rId10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4% responded within one day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SzPct val="102837"/>
              <a:buBlip>
                <a:blip r:embed="rId1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46% responded after the 2</a:t>
            </a:r>
            <a:r>
              <a:rPr b="0" lang="en-US" sz="16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nd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request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SzPct val="102792"/>
              <a:buBlip>
                <a:blip r:embed="rId1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PGridPMA Services migration to ASGC is under w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SzPct val="102837"/>
              <a:buBlip>
                <a:blip r:embed="rId1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eb site, Nagios, Mirror of IGTF distrib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SzPct val="102792"/>
              <a:buBlip>
                <a:blip r:embed="rId1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New member in Asia Pacif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SzPct val="102837"/>
              <a:buBlip>
                <a:blip r:embed="rId1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ongolia (Mongolian University of Science and Technology ) is preparing CP/CP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1560" indent="-227160">
              <a:lnSpc>
                <a:spcPct val="14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1560" indent="-227160">
              <a:lnSpc>
                <a:spcPct val="14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4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1"/>
          <p:cNvSpPr/>
          <p:nvPr/>
        </p:nvSpPr>
        <p:spPr>
          <a:xfrm>
            <a:off x="1619280" y="41400"/>
            <a:ext cx="7416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Next Ev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2"/>
          <p:cNvSpPr/>
          <p:nvPr/>
        </p:nvSpPr>
        <p:spPr>
          <a:xfrm>
            <a:off x="395280" y="907920"/>
            <a:ext cx="8497800" cy="54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Banff, Canada, in conjunction with OGF27 and Grid2009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pected participa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1560" indent="-28440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AIST, APAC/ARCS, ASGC, NAREGI/NI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1560" indent="-28440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KEK (mayb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Agenda from APGridPMA: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1560" indent="-28440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GTF Policy implemened in APGridPM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1560" indent="-28440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A/Membership Termination Iss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598760" indent="-22716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olls of APAC have been taken over by AR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1560" indent="-28440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ARCS (AU) SL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598760" indent="-22716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0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Key generation by a por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1T00:50:08Z</dcterms:created>
  <dc:creator>David Groep</dc:creator>
  <dc:description/>
  <dc:language>en-US</dc:language>
  <cp:lastModifiedBy>Yoshio Tanaka</cp:lastModifiedBy>
  <dcterms:modified xsi:type="dcterms:W3CDTF">2009-09-14T07:53:46Z</dcterms:modified>
  <cp:revision>131</cp:revision>
  <dc:subject/>
  <dc:title>International Grid Trust Federation Session  GGF 18 Washington, DC, USA</dc:title>
</cp:coreProperties>
</file>