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EF52F-C53C-4C34-A941-7CAC85C0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9D7EE-114E-4330-88D3-ED024A6E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B2838-2991-47EC-9660-32E13AB8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1F44B-9C3B-4CA6-B9BA-A5A0C7BF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E043E-295A-476B-867F-A322065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A8419-034C-4DD4-8716-192F56BE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0BFE1-3824-4898-9F08-729E05A4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1261E-8FE1-4214-83CB-B1C166D7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A13A0-47B9-48B9-8283-E0C405B3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90D06-89DB-418E-934F-25FBC66F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C9209-4B18-4005-9AEC-C7D55CAA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BE44E-B987-4C9F-AB75-279D63D7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scott.rea@dartmouth.edu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09DC-6DA7-4781-B777-CFCD2C0A86FC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441440" cy="13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A08D-BD54-4D22-B084-BE950D1583B1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2095560" cy="192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Scott Re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EuGridPMA Mtg, Berlin, D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Sept 13, 2009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87" name="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w 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ew Officers elected in Jul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Dartmout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Roger Impey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CANARI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retary: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oug Olson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OS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utgoing Offic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uch appreciation to our outgoing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Vinod Rebello (Chai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Jim Marsteller (V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rg Murray (Se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63640" y="1125360"/>
          <a:ext cx="6842160" cy="5115240"/>
        </p:xfrm>
        <a:graphic>
          <a:graphicData uri="http://schemas.openxmlformats.org/drawingml/2006/table">
            <a:tbl>
              <a:tblPr/>
              <a:tblGrid>
                <a:gridCol w="1943280"/>
                <a:gridCol w="504720"/>
                <a:gridCol w="1785960"/>
                <a:gridCol w="2608200"/>
              </a:tblGrid>
              <a:tr h="2829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vier Dia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g Murr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5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rtmouth/HEB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358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23 Members from North, Central and South Ame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15 IGTF Accredited 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9 Classic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TACC - US, UFF BrGrid &amp; UFF LACGrid - Brazil, UNLPGrid - Argentina, REUNA – Chile, ULAGrid – Venezuela, GridCanada, UNAM - Mexico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NOTE: DOE Grid accredited by EUGridP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4 SLCS (NCSA x 2, FermiLabs, and NERSC - U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MICS (NCSA and TACC - U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2 CAs pending accreditation, 2 more proposed &amp; a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Classic pending (SENAMHI – Peru, UNIANDES - Colombi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Classic proposed (ANSP – Br), 1 MICS proposed (SDSC – US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5 Relying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(OSG, TeraGrid, THEgrid, LCG, Dartmouth/HEBC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2 Members in suspended status due to ina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UVA (Jim Jokl), Purdue (Greg Barn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http://www.tagpma.or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till undergoing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and other IGTF aliases managed by ESn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Scott.Rea@Dartmouth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9th TAGPMA F2F at PSC, Pittsburgh, 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pril 30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– May 2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tails can be found here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indico.rnp.br/conferenceDisplay.py?confId=47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receded by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Federated Identity Day (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pril 29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http://indico.rnp.br/conferenceDisplay.py?confId=48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Recent Accredit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ACC (MI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NAL (SL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CSA (Federated SL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0th TAGPMA F2F at Banff, 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ptember 15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– 17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,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mbined with IGFT All-Hands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rrangements can be found here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indico.rnp.br/conferenceDisplay.py?confId=66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eceded by OGF #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cluding CA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e http://www.summit09.ca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23rd September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Scott</cp:lastModifiedBy>
  <dcterms:modified xsi:type="dcterms:W3CDTF">2009-09-14T11:05:04Z</dcterms:modified>
  <cp:revision>119</cp:revision>
  <dc:subject>EUGridPMA Berlin DE</dc:subject>
  <dc:title>TAGPMA Update</dc:title>
</cp:coreProperties>
</file>