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BCD-50FA-4674-813B-EDA55360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7CC-CDDC-4887-A6FF-3D4886F1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CCB-48AC-460C-9B39-B9FCA106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0C1-52E2-4025-8092-B2165090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321-845B-4F42-A751-6D3259C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A6A-4C77-4F72-A93D-2F31555B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8FE-2175-48FE-A126-FC20057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E15-CAAC-404C-82B1-BB43475A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57B-0062-4369-9367-E96C7574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E05-8F6F-4021-B5BF-9B99C97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5B8-3E2A-4120-B72A-DE7C39C1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2CA-1494-4566-ABF9-972B17B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309E0-95BE-4AF4-B93A-B8A9AC7D0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7ADF1-A6F7-4B91-9BAC-1E181FAC3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membership is open to all IGT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 igtf-rat@eugridpma.org to join and help with the risk assessmen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EBF83-74F4-4218-9F5E-F335F4CDF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May: 79 of 80 CAs respond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Aug: 80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B4A9E-001F-4399-B8E6-62C336C8F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CAs issued certificates containing (EC)DSA keys, which will all be expired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we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 CAs issued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CAs we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d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 IGTF CAs had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IGTF CAs had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0628B-4557-42E2-8980-7EB0BE2B2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ons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 Aug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Aug: 74 CAs responded within 24 hours; 20 CAs did not; follow-up request sent to non-responding 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ug: 15 more CAs responded; results posted to igtf-general, after which 1 more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ug: MD-Grid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ill no response fro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fee79b0 IU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42edd45 CAL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a661490 PolishG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85CA1-6780-4E41-980A-5CBC55211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L Issues In Aug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prior to the Next 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at least 3 days prior to the Next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f0e8352 Nordu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4c3ccde UNAMgrid-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fee79b0 IUC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d0d064a MARG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9f9f5a3 FNAL-SL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7bcb7b2 UNLP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254cc30 CERN-Roo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that could not be downloaded for over 24 hou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67b75c3 UKeScienceCA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e3b436b Austrian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b54708e Ma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8ef0ee5 UKeScienceRoot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with Last Update date in the fut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9D774-8B79-4EF9-8514-5A9787215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 issuing MD5 CR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12d831 APAC (CA cert expires Jan 20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43b9cc Grid-Ireland (CA cert expires Jul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7b75c3 UKeScienceCA-200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A cert expires Oct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e5501f3 RMKI (CA cert expires Oct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 certificates with MD5 sign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a509c3 CNRS-Projet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4ba8c8 CNR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075F5-3ECB-433B-AC96-582BF02BD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s://twiki.grid.iu.edu/bin/view/Security/Hash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eTLS in Java CoG Kit (jglobus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bugzilla.globus.org/globus/show_bug.cgi?id=67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-2 support in OpenSSL starting in RHEL5/SL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1 using RHEL4 throug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2 using RHEL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lusion: Grid middleware not ready for SHA-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34345-CCDA-43D1-8B38-A44EFC1B0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ll-Prefix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www.thoughtcrime.org/software/sslsni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ll character in subject of certificate requ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www.paypal.com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*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automated checks performed by 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TLS software hostname match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 on IGTF host certificate request verific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NCSA MICS does automated verification; existing sanity checks reject null-prefix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B8FCB-A62A-48E8-8726-8F345CBCC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37:02Z</dcterms:created>
  <dc:creator>Jim Basney</dc:creator>
  <dc:description/>
  <dc:language>en-US</dc:language>
  <cp:lastModifiedBy>Jim Basney</cp:lastModifiedBy>
  <dcterms:modified xsi:type="dcterms:W3CDTF">2009-09-10T17:56:30Z</dcterms:modified>
  <cp:revision>2</cp:revision>
  <dc:subject/>
  <dc:title>IGTF Risk Assessment Team</dc:title>
</cp:coreProperties>
</file>