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B238E5A-BA3E-4669-9661-86A5BA00E67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21FC144-B445-4447-BDBD-DA4548C447CD}"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993600" y="768240"/>
            <a:ext cx="5115240" cy="3837240"/>
          </a:xfrm>
          <a:prstGeom prst="rect">
            <a:avLst/>
          </a:prstGeom>
          <a:ln w="0">
            <a:noFill/>
          </a:ln>
        </p:spPr>
      </p:sp>
      <p:sp>
        <p:nvSpPr>
          <p:cNvPr id="585"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00612A51-638D-4173-8418-BB68F5306C08}"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459BD01A-8763-437A-A098-D2B0F1CC976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CE1AD77A-C884-43E8-8216-3C3D98B279A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562EF6B7-A8F7-4AC8-AB94-AAB97AFBF5C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F2F14F1-75F2-464B-98A3-A2377BAD88B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923E11DF-DE77-4518-B5AC-0ACE45C2D4E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4D469972-FAAA-4436-9031-07B42E890263}"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AD65F1A-CCA1-4D46-9606-52BD1C897EE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5ADB8610-316A-4503-8C65-2965885B2EA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C6EACB08-899E-46E8-9D93-BA8F389EF94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5E0955CF-8A0E-427E-9782-BDA70CD5CFF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Guidelines on </a:t>
            </a:r>
            <a:br>
              <a:rPr sz="4000"/>
            </a:br>
            <a:r>
              <a:rPr b="1" lang="en-US" sz="4000" spc="-1" strike="noStrike">
                <a:solidFill>
                  <a:srgbClr val="990000"/>
                </a:solidFill>
                <a:latin typeface="Lucida Sans"/>
              </a:rPr>
              <a:t>Private Key Projection</a:t>
            </a:r>
            <a:br>
              <a:rPr sz="4000"/>
            </a:br>
            <a:br>
              <a:rPr sz="4000"/>
            </a:br>
            <a:r>
              <a:rPr b="1" lang="en-US" sz="2000" spc="-1" strike="noStrike">
                <a:solidFill>
                  <a:srgbClr val="000066"/>
                </a:solidFill>
                <a:latin typeface="Lucida Sans"/>
              </a:rPr>
              <a:t>Towards Codifying Practice and </a:t>
            </a:r>
            <a:br>
              <a:rPr sz="2000"/>
            </a:br>
            <a:r>
              <a:rPr b="1" lang="en-US" sz="2000" spc="-1" strike="noStrike">
                <a:solidFill>
                  <a:srgbClr val="000066"/>
                </a:solidFill>
                <a:latin typeface="Lucida Sans"/>
              </a:rPr>
              <a:t>Enabling Central Repositories</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eview doc and text</a:t>
            </a:r>
            <a:endParaRPr b="1" lang="en-US" sz="3000" spc="-1" strike="noStrike">
              <a:solidFill>
                <a:srgbClr val="000066"/>
              </a:solidFill>
              <a:latin typeface="Lucida Sans"/>
            </a:endParaRPr>
          </a:p>
        </p:txBody>
      </p:sp>
      <p:sp>
        <p:nvSpPr>
          <p:cNvPr id="58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an we get rough consensus her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It is not an Authentication Profile, but has a role as traditional Guidelin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Can serve as a foundation for section 9 in the AP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PKP</a:t>
            </a:r>
            <a:endParaRPr b="1" lang="en-US" sz="4000" spc="-1" strike="noStrike">
              <a:solidFill>
                <a:srgbClr val="000066"/>
              </a:solidFill>
              <a:latin typeface="Lucida Sans"/>
            </a:endParaRPr>
          </a:p>
        </p:txBody>
      </p:sp>
      <p:sp>
        <p:nvSpPr>
          <p:cNvPr id="5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eed for guideline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abling new direction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eneration</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torage</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Private Key Protection</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rmal statement today</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ser must generate own key material</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Keep it private and not share with </a:t>
            </a:r>
            <a:r>
              <a:rPr b="0" i="1" lang="en-US" sz="2000" spc="-1" strike="noStrike">
                <a:solidFill>
                  <a:srgbClr val="000066"/>
                </a:solidFill>
                <a:latin typeface="Lucida Sans"/>
              </a:rPr>
              <a:t>anyon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Protect it with a strong 12+ character passphras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De-facto practice</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sers generate key material on shared login system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Store it on shared file systems (NFS, AFS, NT shar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Protect it with a 4+ character string of unknown qual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MyProxy stores contain proxies of arbitrary valid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Risk assessment and trade-off were never fully don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w directions</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entral credential repositori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Managed MyProxy stor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Generation of keys by the CA</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e-generated certificates by home organisation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redential generation by SLCS/MICS service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hoice of algorithms, quality of key material assurance</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tegrated portals </a:t>
            </a:r>
            <a:br>
              <a:rPr sz="2400"/>
            </a:br>
            <a:r>
              <a:rPr b="0" lang="en-GB" sz="2400" spc="-1" strike="noStrike">
                <a:solidFill>
                  <a:srgbClr val="000066"/>
                </a:solidFill>
                <a:latin typeface="Lucida Sans"/>
              </a:rPr>
              <a:t>with SLCS capabilities or back-ends</a:t>
            </a:r>
            <a:endParaRPr b="0" lang="en-US" sz="24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KP Guidelines</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ome up with a set of guide lines that deal with key material</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ncremental improvement on current practic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oable, without alienating users or admin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able central repositori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uide MyProxy stor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dify a ‘rough consensus’ risk analysis</a:t>
            </a:r>
            <a:endParaRPr b="0" lang="en-US" sz="20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Scope and aims</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This document describes guidelines on the generation and storage of end-user private key material, using secure hardware tokens and appropriate computer systems.</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It applies to all systems that store key material on which certificates issued by IGTF accredited authorities are based, and may be used as guidance for any system that holds private key material.</a:t>
            </a:r>
            <a:endParaRPr b="0" lang="en-US" sz="20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plit document in two parts</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  </a:t>
            </a:r>
            <a:r>
              <a:rPr b="0" lang="en-US" sz="2400" spc="-1" strike="noStrike">
                <a:solidFill>
                  <a:srgbClr val="000066"/>
                </a:solidFill>
                <a:latin typeface="Lucida Sans"/>
              </a:rPr>
              <a:t>generation</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  </a:t>
            </a:r>
            <a:r>
              <a:rPr b="0" lang="en-US" sz="2400" spc="-1" strike="noStrike">
                <a:solidFill>
                  <a:srgbClr val="000066"/>
                </a:solidFill>
                <a:latin typeface="Lucida Sans"/>
              </a:rPr>
              <a:t>storage</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Lucida Sans"/>
              </a:rPr>
              <a:t>Document available on the EUGridPMA Wiki</a:t>
            </a:r>
            <a:endParaRPr b="0" lang="en-US" sz="24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Generation</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Inside a secure hardware toke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Locally on an appropriate computer system of which the user is the sole user and administrator</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n appropriate computer system that is administered by the users home organisatio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n appropriate computer system that is administered by a </a:t>
            </a:r>
            <a:r>
              <a:rPr b="0" i="1" lang="en-US" sz="2400" spc="-1" strike="noStrike">
                <a:solidFill>
                  <a:srgbClr val="000066"/>
                </a:solidFill>
                <a:latin typeface="Lucida Sans"/>
              </a:rPr>
              <a:t>third party, provided that …</a:t>
            </a:r>
            <a:endParaRPr b="0" lang="en-US" sz="24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Storage</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secure hardware token from which it cannot be extracted, protected by a pass phras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local file system on an appropriate computer system of which the user is the sole user and administrator</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local or networked file system on an appropriate computer system that is administered by the users home organisation, protected by a pass phras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networked file system on an appropriate computer system that is administered by </a:t>
            </a:r>
            <a:r>
              <a:rPr b="0" i="1" lang="en-US" sz="2400" spc="-1" strike="noStrike">
                <a:solidFill>
                  <a:srgbClr val="000066"/>
                </a:solidFill>
                <a:latin typeface="Lucida Sans"/>
              </a:rPr>
              <a:t>third party, </a:t>
            </a:r>
            <a:r>
              <a:rPr b="0" i="1" lang="en-US" sz="2400" spc="-1" strike="noStrike">
                <a:solidFill>
                  <a:srgbClr val="c00000"/>
                </a:solidFill>
                <a:latin typeface="Lucida Sans"/>
              </a:rPr>
              <a:t>provided that</a:t>
            </a:r>
            <a:endParaRPr b="0" lang="en-US" sz="24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Lucida Sans"/>
              </a:rPr>
              <a:t>the key is </a:t>
            </a:r>
            <a:r>
              <a:rPr b="0" i="1" lang="en-US" sz="2000" spc="-1" strike="noStrike">
                <a:solidFill>
                  <a:srgbClr val="c00000"/>
                </a:solidFill>
                <a:latin typeface="Lucida Sans"/>
              </a:rPr>
              <a:t>only ever stored a. persistently in encrypted form …</a:t>
            </a:r>
            <a:endParaRPr b="0" lang="en-US" sz="2000" spc="-1" strike="noStrike">
              <a:solidFill>
                <a:srgbClr val="000066"/>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ending comments</a:t>
            </a:r>
            <a:endParaRPr b="1" lang="en-US" sz="3000" spc="-1" strike="noStrike">
              <a:solidFill>
                <a:srgbClr val="000066"/>
              </a:solidFill>
              <a:latin typeface="Lucida Sans"/>
            </a:endParaRPr>
          </a:p>
        </p:txBody>
      </p:sp>
      <p:sp>
        <p:nvSpPr>
          <p:cNvPr id="580" name=""/>
          <p:cNvSpPr txBox="1"/>
          <p:nvPr/>
        </p:nvSpPr>
        <p:spPr>
          <a:xfrm>
            <a:off x="838080" y="1162080"/>
            <a:ext cx="8040960" cy="5168880"/>
          </a:xfrm>
          <a:prstGeom prst="rect">
            <a:avLst/>
          </a:prstGeom>
          <a:noFill/>
          <a:ln w="0">
            <a:noFill/>
          </a:ln>
        </p:spPr>
        <p:txBody>
          <a:bodyPr lIns="90000" rIns="90000" tIns="46800" bIns="46800"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This doc does not differ between SSH and X.509 private key material. Should the doc explicitly state that it wants to cover both standards?</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Lucida Sans"/>
              </a:rPr>
              <a:t>1. Unclear </a:t>
            </a:r>
            <a:r>
              <a:rPr b="0" lang="en-US" sz="1400" spc="-1" strike="noStrike">
                <a:solidFill>
                  <a:srgbClr val="000066"/>
                </a:solidFill>
                <a:latin typeface="Lucida Sans"/>
              </a:rPr>
              <a:t>if the priv key needs to be protected by a password or the network needs to be protected by an encrypted tunnel (e.g. TLS or SSH) to still be allowed to send the key. Would any single one of these protections be enough to be allowed to send the priv key over any network? Would a dedicated network whose network cable is completely in a controlled, secured and trusted environment be enough protection to send the priv key other than that without a password set over an unencrypted network connection?</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2. If the passphrase itself is encrypted it can be send over any network. If the clear text password is send through an encrypted network tunnel (TLS or SSH) it is OK as well. Or do we mandate encrypted passwords over encrypted network connections?</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3. To clear this up, </a:t>
            </a:r>
            <a:r>
              <a:rPr b="0" lang="en-GB" sz="1400" spc="-1" strike="noStrike">
                <a:solidFill>
                  <a:srgbClr val="000066"/>
                </a:solidFill>
                <a:latin typeface="Lucida Sans"/>
              </a:rPr>
              <a:t>should read: </a:t>
            </a:r>
            <a:r>
              <a:rPr b="0" i="1" lang="en-US" sz="1400" spc="-1" strike="noStrike">
                <a:solidFill>
                  <a:srgbClr val="000066"/>
                </a:solidFill>
                <a:latin typeface="Lucida Sans"/>
              </a:rPr>
              <a:t>This document does - on purpose - not differ between priv keys for long-lived, short-lived, member-integrated, primary proxy (1st delegation of any of the before mentioned) and further proxy (any sub-delegations from primary proxy) certificates</a:t>
            </a:r>
            <a:r>
              <a:rPr b="0" lang="en-US" sz="1400" spc="-1" strike="noStrike">
                <a:solidFill>
                  <a:srgbClr val="000066"/>
                </a:solidFill>
                <a:latin typeface="Lucida Sans"/>
              </a:rPr>
              <a:t>. This turnes most Grid resources into an appropriate computer system that is administered by a third party in terms of this document, when it comes to the generation of key material for proxies. The document should state in footnote 4 that it covers also proxies and thus Credential Stores like MyProxy Stores as well as any Grid resource.</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Lucida Sans"/>
              </a:rPr>
              <a:t>4. </a:t>
            </a:r>
            <a:r>
              <a:rPr b="0" lang="en-US" sz="1400" spc="-1" strike="noStrike">
                <a:solidFill>
                  <a:srgbClr val="000066"/>
                </a:solidFill>
                <a:latin typeface="Lucida Sans"/>
              </a:rPr>
              <a:t>The doc should also explicitly state the max validity period (24hrs) of sub-delegations of certificates sitting on Grid resources, i.e. delegated proxies, since these most likely will not have passphrases to secure their priv key.</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Since these are presumably guidelines that end users ought to read, I think it would be helpful to add a sentence, perhaps at the end of 2.1, about systems that should not be used for private key generation. </a:t>
            </a:r>
            <a:endParaRPr b="0" lang="en-US" sz="14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09-09-13T08:11:37Z</dcterms:modified>
  <cp:revision>485</cp:revision>
  <dc:subject/>
  <dc:title>European Grid Policy Management Authority</dc:title>
</cp:coreProperties>
</file>