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FCE2-D87E-4CD9-AB29-9F453F9EF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640400"/>
            <a:ext cx="7772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E877-0141-49FD-A252-8F412555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30481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6404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6404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E8C9-B52A-48FB-B387-3DD1DF38D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304812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304812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64040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64040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64040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068E-FF78-4D8D-A432-71F09E844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714D-1633-4745-8246-1D1D0453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EC22-1D42-43BE-B66A-C070DE2F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3792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3048120"/>
            <a:ext cx="3792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40C4-7F3B-49A4-B443-1B2BBE4F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28FF-FF98-423A-A1DB-6AD45D22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15BA-CF5E-4C16-86EE-E1A0E8C4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3048120"/>
            <a:ext cx="3792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6404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1C7D-44CB-47A7-A0E8-57B8767F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3792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30481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6404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BA55-7D85-4F7D-8630-10208DCD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30481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640400"/>
            <a:ext cx="7772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032E-88D0-431E-ABE9-7EBCE37E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542160" indent="-20844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834120" indent="-1666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167840" indent="-16668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501560" indent="-16668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501560" indent="-16668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501560" indent="-16668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A1BA-46F8-4BED-BF2D-AB7B07B75F4B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" name="Picture 12" descr="SCI_PPT_templ4"/>
          <p:cNvPicPr/>
          <p:nvPr/>
        </p:nvPicPr>
        <p:blipFill>
          <a:blip r:embed="rId2"/>
          <a:stretch/>
        </p:blipFill>
        <p:spPr>
          <a:xfrm>
            <a:off x="0" y="0"/>
            <a:ext cx="7162920" cy="15177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gridpp2_logo"/>
          <p:cNvPicPr/>
          <p:nvPr/>
        </p:nvPicPr>
        <p:blipFill>
          <a:blip r:embed="rId3"/>
          <a:stretch/>
        </p:blipFill>
        <p:spPr>
          <a:xfrm>
            <a:off x="5572080" y="361800"/>
            <a:ext cx="3183120" cy="8924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ngs.jpg"/>
          <p:cNvPicPr/>
          <p:nvPr/>
        </p:nvPicPr>
        <p:blipFill>
          <a:blip r:embed="rId4"/>
          <a:stretch/>
        </p:blipFill>
        <p:spPr>
          <a:xfrm>
            <a:off x="5929200" y="5734080"/>
            <a:ext cx="2894040" cy="9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Private Robot Key Nam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J Jense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STFC Rutherford Appleton Lab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Berlin, Sep 2009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This Is.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Grande"/>
              </a:rPr>
              <a:t>Membership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of role enabl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Grande"/>
              </a:rPr>
              <a:t>authorised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use of key 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Grande"/>
              </a:rPr>
              <a:t>permitted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purposes of certific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ertificate is not necessarily persona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ertificate may be a prox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This is: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Grande"/>
              </a:rPr>
              <a:t>Owner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of Robot Certifica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Grande"/>
              </a:rPr>
              <a:t>delegates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role-to-use RC to oth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Grande"/>
              </a:rPr>
              <a:t>human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Grande"/>
              </a:rPr>
              <a:t>agen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Owner obtains commitment that certificate is used for permitted purpos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Usually restricted by owner beyond restrictions by CA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Two Separate Cases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Lucida Grande"/>
              </a:rPr>
              <a:t>(see also Soapbox)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gent is huma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cting via someone else’s certificat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r something else’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gent is automated (true robot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Role of Deleg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14240" y="2714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elegation of auz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(to do some smtg on behalf of sbdy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obots are more dynamic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n principl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ole access can be managed by someone else (delegation of delegation is delegated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Role of Proxy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elegation of all…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Escape the evil controlling clutches of the CA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ecall previous discussion re use of cer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Use cas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Grid monitoring jobs, Grid jobs (eg portal), Mailing list management, …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estricting use of cer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ow to restrict the access to authorised user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ow to log who the user was, if applicable (W&amp;F discussion later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ow to ensure certificate is used for permitted purpos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uthorisation is in system designer, admi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Logging, requires individual AuC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ermitted purposes restricted by CA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How to restrict further : by AuZ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hether a true cert or a proxy is irrelevan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lbeit proxying takes key out of CA’s remi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So…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14240" y="2714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revious comments on naming robots meaningfull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f a robot is a role then it should name a role (human backend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f a robot is an automated agent then it should name what it *is* (not what it does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ut…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Kihon - Private Key Protec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obots and robot nam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&amp;F revisit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me will reappear in soapbox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The W&amp;F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 W&amp;F: identify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Grande"/>
              </a:rPr>
              <a:t>Subscribe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istinguish Subscriber and E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ubscriber is responsible for cer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E is named in the cer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ersonal: EE == Subscribe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&amp;F revisited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5880" y="24998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 DN reasonably identifying Subscriber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Grande"/>
              </a:rPr>
              <a:t>all client certs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uthenticated use of certific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Viz., by the role membe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ssertions by the CA when po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Other means of AuC to cert could be us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Levels of exdirec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To State The Obviou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obots must of course conform to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in’l reqs, robot reqs (insofar as they exist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he CP/CPS of the issuing CA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GTF policy (insofar as it exists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42960" y="264276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t is OK to be confus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nfusion arises through lack of comprehens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Lack of comprehension is norma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Experience+cogitation-&gt;comprehens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mprehension-&gt;IGTF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Factor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lgorithm, Size of ke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Lifetime of corresponding certific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evocation timeliness of corresponding certific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Factor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ow private key is protect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rotecting host, filesystem, key, HSM, SSS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ow backups are protect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ow private key is activated/deactivat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Key Activ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14240" y="24998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uthentication to ke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.g. login as root, login on hos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Knowing a password/passphras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.g. HSM in FIPS140-2 L3: smartcard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uthorisation to ke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ole based authorisation =&gt; Robo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Threat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42960" y="257184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Unauthorised use of ke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ft of ke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Unnotic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Noticed, but key is still availabl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Key is gone!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artial theft of key”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estruction of ke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Mitig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42960" y="285768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ccess control to (use of) ke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Use of key logged securel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hysical controls, provable control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LOCKSS, ironicall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ngs are sometimes not as secure as they seem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Your Homework Assign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(&amp; Areas for Research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42960" y="278568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ocument best practices (eg via CAOPS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mprove following areas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cure logging use of ke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reventing use other than authoris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etter authorisation tool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Role Based Key Activ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 Other Type of Robo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9:55:48Z</dcterms:created>
  <dc:creator>Jens Jensen</dc:creator>
  <dc:description/>
  <dc:language>en-US</dc:language>
  <cp:lastModifiedBy>jj47</cp:lastModifiedBy>
  <dcterms:modified xsi:type="dcterms:W3CDTF">2009-09-15T11:22:28Z</dcterms:modified>
  <cp:revision>84</cp:revision>
  <dc:subject/>
  <dc:title>PowerPoint Presentation</dc:title>
</cp:coreProperties>
</file>