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337D-B239-4165-9E8F-194F590E4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 our experience people copy and tweak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criteria for exp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sampl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ighlight how we can compare auto-mapped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licy units = more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policy unit = length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ity of pa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nd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Requires versus required in analys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.1.4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 our experience people copy and tweak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criteria for exp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sampl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ighlight how we can compare auto-mapped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licy units = more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policy unit = length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ity of pa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nd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Requires versus required in analys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.1.4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licy units = more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policy unit = length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ity of pa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nd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Requires versus required in analys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.1.4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Trustworthiness of any PKI rests upon expectations for trust and the degree to which those expectations are 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olicies document expectations for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e-Science, financial institutions, U.S. Federal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Demand consistent processes, efficient, transparent, reproduc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urrent CP operations are time consuming, lack end user transparency, difficult to re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formed trust decisions should be based on processes that consistently estimate actual organization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urrently-practiced, manual CP operations are costly, time-consuming, lack end-user transparency, and are difficult to reprodu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Blacklist or whitelist individual pro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allow, coarse policy 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Ps are reference works, encode their referenc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The mechanisms for policy retrieval are largely unrelated to the mechanisms for citing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The mechanisms for policy retrieval are largely unrelated to the mechanisms for citing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 our experience people copy and tweak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Klobucar stated need for policy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0AC-4551-4BBD-8BB7-5477EA3B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AAB-49A6-4866-B9EF-9A27EE12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E9B-C961-49C3-A84C-95437128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54A-9215-4F5C-A9A3-C6D5EF5E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CC9-EB57-426F-B575-050AD252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833-8933-4A72-A336-7342448F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F93-90EE-46E3-BE50-3C4403E3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0CD-583A-49B2-B760-B0088459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A50-C3D2-426A-A953-4038420A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253-5D05-4140-9B0B-39FD6DB4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EE9-972E-4465-9E85-0B5B0E9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A01-86E4-4EE9-82C0-5A050657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0D13-09B0-4683-A875-A2D53426F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ts3.sourceforge.net/" TargetMode="External"/><Relationship Id="rId2" Type="http://schemas.openxmlformats.org/officeDocument/2006/relationships/hyperlink" Target="http://pkipolicy.appspot.com/" TargetMode="External"/><Relationship Id="rId3" Type="http://schemas.openxmlformats.org/officeDocument/2006/relationships/hyperlink" Target="mailto:gweave01@cs.dartmouth.edu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kipolicy.appspot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 Computational Framework for Certificate Policy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Gabriel A. Weaver, Scott Rea, Sean W. Smi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Dartmouth Colle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Repor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more, higher-quality information for comparing C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aring policy is a fundament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iven a set of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riteri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enerate a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policy provision, and a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ource Text:  Just grab the source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FC 2119:  Find discrepancies between significance of CP requi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689-26ED-4B8C-A249-270977E518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Reporter -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P comparison is subjective, so we timed how long it takes to aggregate information needed to compare C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Hypothesis: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tomated processes take less time and provide better-quality information than non-automated proc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Setup: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Given CPs in PDF on disk or loca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PKI Policy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ime to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ime to do RFC 2119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al benefit comes from value-added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DE5-49DE-4CCC-B3C1-5E5EC7B84F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534520" cy="2976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833148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Map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form the content of a CP/CPS in 2527 format into 3647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pping a 2527 to 3647 requires 20% more effort than two 3647 CPs.  Avg. mapping takes 80-120 hours in a bridge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FC 3647 defines tables, takes many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r mapping transforms 2527 to 3647 in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an flexibly configure the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scovered errors in the transformation table (2.1 -&gt; 2.6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B98-B52B-40AB-A3A7-EAD08EE8F4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ture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xtrac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rases, NLP for more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opic-driven extractions (eg. How does a policy handle Personnel?) (FPKIPA-CPW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pand the PKI Policy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alyze the policies to extract common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ntroll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ord senses (e.g. ‘reasonable’ as in Dutch law versus Englis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mparison of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47C-5B28-4133-B49C-2071082553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ture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Designing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licy annotation (annotate phrases or word sen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tomatically extracting mapping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pporting GU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ligning policy enforcement mechanisms with policy via re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Use the automatic certificate validation from Dublin (Dav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tract inputs to the cert. validator directly from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PM-backed servi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97120" y="3657600"/>
            <a:ext cx="539460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B66-3FA1-4189-AE63-747B97688B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anks/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4640" y="4495680"/>
            <a:ext cx="5103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cts3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pkipolicy.appspo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act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gweave01@cs.dartmouth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TS workshop in Washington D.C. in 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licies document expectations for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mand for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consisten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ertificate policy (CP)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pro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d in PKI Compliance Audit, Policy Mapping for Bridging, Grid Accred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signed, built, &amp; evaluated a computational framework for CP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ACC-3D53-4630-9949-677844471A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formalization of PKI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KI Policy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putational Tools &amp;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ture Research an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809-99C6-43C7-B434-086F502DF1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r Formalization of Certificate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Formalizing Certificate Poli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laim that computationally processing machine-actionable CPs would be mor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TS-UR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I-XML encoding of reference structure (2527, 364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chine-actionable, but human readable (FPK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lgorithms are consistent, unambiguous, reproduc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6705720" cy="142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0F7-3555-4E55-A91B-9D6B92821E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Reposi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KI audits, accreditation, and policy mapping depend upon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eference and retriev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C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avigate texts by logical reference (versus page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pository sets stage for processing CP cont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mi-automated process to extract and encode PD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mo!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nitial repository @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pkipolicy.appspo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8350200" cy="21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4BB-03E3-48BC-8A7D-425F222CF6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Enco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iginally, encoding PDF as XML took 4-6 hours.  Now down to 15 minutes at m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DF -&gt; Text -&gt; XML -&gt; 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tch missing/malformed pro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mo!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1B2-105E-45F5-9B77-A9D46668A4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utational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Tools:  PKI Policy Buil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hine-assisted policy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py and paste in the real world (IGT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ut may not fully understand poli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r approach:  Pull polici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KI Policy Repository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fill out 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clude references (CTS-URNs) to copied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e how many policy statements pulled from previously-approved C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99E-78A0-44D8-9B93-3EB13E5FB9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4:25:17Z</dcterms:created>
  <dc:creator>Michael Weaver</dc:creator>
  <dc:description/>
  <dc:language>en-US</dc:language>
  <cp:lastModifiedBy>Michael Weaver</cp:lastModifiedBy>
  <dcterms:modified xsi:type="dcterms:W3CDTF">2009-09-16T06:45:42Z</dcterms:modified>
  <cp:revision>16</cp:revision>
  <dc:subject/>
  <dc:title>A Computational Framework for Certificate Policy Operations</dc:title>
</cp:coreProperties>
</file>