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170-B24D-486B-B653-3E9C90F5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7FF-FCDD-4A69-983F-4AB38D2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BBB-6355-4681-A7F9-43160B5A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676-376B-40CF-8424-50ECAD24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301-A83A-491B-BDD2-48E9EC1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62A-27D4-4DEF-A5DF-76625ADD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1AB-E320-4EF8-ABD1-AFC73FD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209-530D-4ECF-8D0D-884B4C49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FAC-2207-4437-9AD6-E3D21C40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E06-675F-41C2-805D-47FDB3A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5FF-E8DC-499C-BA62-199C2F13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0A9-DFD8-4C4F-9C88-E3DDED5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3060C-721F-4F93-8A46-B7E43835E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493E8-2069-432A-B904-BB736D1F3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oxtyhouse.ie/" TargetMode="External"/><Relationship Id="rId2" Type="http://schemas.openxmlformats.org/officeDocument/2006/relationships/hyperlink" Target="http://www.odessa.i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lcome to Dubl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ID not broadcast: Cs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name and password on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 to web and you will be prompted fo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pop-up window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-con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ing name: EU Grid P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upload slides to the agend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lagher’s Boxty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xtyhouse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Irish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odessa.i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confirm numbers for today at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s / L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oyer outsid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p to Book of Kel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Science Gallery café has good coff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shop under the st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07:20Z</dcterms:created>
  <dc:creator>David O'Callaghan</dc:creator>
  <dc:description/>
  <dc:language>en-US</dc:language>
  <cp:lastModifiedBy>David O'Callaghan</cp:lastModifiedBy>
  <dcterms:modified xsi:type="dcterms:W3CDTF">2010-01-18T09:18:37Z</dcterms:modified>
  <cp:revision>1</cp:revision>
  <dc:subject/>
  <dc:title>Welcome to Dublin!</dc:title>
</cp:coreProperties>
</file>