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D6C4B-7A66-4740-B5AA-F559F5DFB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7700D-5BAC-43BC-9E61-B59B13A33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5655FA-EB64-445F-9CB7-B51DCCAF9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9C571-32EE-4CE0-B525-A795D32BF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7D30D5-0799-47B6-92BB-7B1D8F8A7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IHEP and PRAGMA data in statistics of Oct.’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9410A-3C22-43DF-819E-907BC68A5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3B6C7-D0BF-42E4-AE68-06716FCC3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560A8-A74C-4761-9668-BD2C4ADB9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29093C-D9A6-412E-A43C-AA4DDFA5F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98B43-91FD-4300-AF3C-BA7862628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4F9415-1C70-4819-B5E3-D45A57240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6360" cy="6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6877080" y="6284880"/>
            <a:ext cx="2266920" cy="57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0" y="6337440"/>
            <a:ext cx="1116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3"/>
          <a:stretch/>
        </p:blipFill>
        <p:spPr>
          <a:xfrm>
            <a:off x="0" y="6134040"/>
            <a:ext cx="1547640" cy="723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6360" cy="6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3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3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0" y="1125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Updates of APGrid P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611280" y="3192480"/>
            <a:ext cx="79214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EUGridPMA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8 January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116000" y="4572000"/>
            <a:ext cx="6985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ric Y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SGCCA Taiw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mbers (14 + 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179280" y="714240"/>
            <a:ext cx="454500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4 Accredited 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IST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PAC (AU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SGC (TW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NIC (C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GCA (I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HEP (C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EK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ISTI (K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AREGI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CHC (TW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ECTEC (TH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GO/Netrust (S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RAGMA-UCSD (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HKU (H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4648320" y="838080"/>
            <a:ext cx="44956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6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7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ongolia (under accredit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8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aiGrid (T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9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verage by 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0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hilippine, Vietnam, Malaysia, Indonesia, New Zealand and Pakistan &amp; Sri Lanka (so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4814280" y="5048280"/>
            <a:ext cx="2594880" cy="1191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: 9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A: + 7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w: +1 Count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p-to-date certificate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85840" y="928800"/>
          <a:ext cx="8286840" cy="5257800"/>
        </p:xfrm>
        <a:graphic>
          <a:graphicData uri="http://schemas.openxmlformats.org/drawingml/2006/table">
            <a:tbl>
              <a:tblPr/>
              <a:tblGrid>
                <a:gridCol w="2071440"/>
                <a:gridCol w="2071800"/>
                <a:gridCol w="2071800"/>
                <a:gridCol w="207180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 Na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id user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id host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voked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IST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A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GC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EK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NI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DG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KU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G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ISTI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REGI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CH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CTEC GOC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GO-Netrust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HE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AGMA-UCS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1" name="矩形 4"/>
          <p:cNvSpPr/>
          <p:nvPr/>
        </p:nvSpPr>
        <p:spPr>
          <a:xfrm>
            <a:off x="285840" y="639612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dated at : 14, January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TextBox 4" descr=""/>
          <p:cNvPicPr/>
          <p:nvPr/>
        </p:nvPicPr>
        <p:blipFill>
          <a:blip r:embed="rId1"/>
          <a:stretch/>
        </p:blipFill>
        <p:spPr>
          <a:xfrm>
            <a:off x="4322880" y="3608280"/>
            <a:ext cx="457200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p-to-date certificate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57120" y="1143000"/>
          <a:ext cx="8358120" cy="5200560"/>
        </p:xfrm>
        <a:graphic>
          <a:graphicData uri="http://schemas.openxmlformats.org/drawingml/2006/table">
            <a:tbl>
              <a:tblPr/>
              <a:tblGrid>
                <a:gridCol w="2089080"/>
                <a:gridCol w="2090880"/>
                <a:gridCol w="2089080"/>
                <a:gridCol w="2089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 Na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id user ce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id host ce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voked ce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IST GRID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AC Grid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GC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EK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NIC Grid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DG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KU Grid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G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ISTI Grid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REGI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CHC Grid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CTEC GOC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GO-Netrust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5" name="文字方塊 5"/>
          <p:cNvSpPr/>
          <p:nvPr/>
        </p:nvSpPr>
        <p:spPr>
          <a:xfrm>
            <a:off x="357120" y="63961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d : October 15, 200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TextBox 4" descr=""/>
          <p:cNvPicPr/>
          <p:nvPr/>
        </p:nvPicPr>
        <p:blipFill>
          <a:blip r:embed="rId1"/>
          <a:stretch/>
        </p:blipFill>
        <p:spPr>
          <a:xfrm>
            <a:off x="5522760" y="4595760"/>
            <a:ext cx="246888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1108080" y="44280"/>
            <a:ext cx="80359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GridPMA VTC meeting on 16 Dec.’09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0" y="762120"/>
            <a:ext cx="9144000" cy="59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ten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79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13 participants and 2 abs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ID status in APGridP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79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13 Completed : HKU, IGCA, KISTI, APAC, ASGCCA, NECTEC GOC-CA, NCHC, AIST, KEK, NAREGI, PRAGMA-UCSD, CNIC, IHEP, NGO/Netrus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outine Self-audit report from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792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3-4 CAs at every F2F meeting based on latest Audit Guideline do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rrection of .info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792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heck all CAs information at APGridPMA Web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SzPct val="102884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ote for next F2F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792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rch 8 , Taipei Taiwan, collocation with ISGC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SzPct val="102792"/>
              <a:buBlip>
                <a:blip r:embed="rId1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1619280" y="41400"/>
            <a:ext cx="7416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xt F2F me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395280" y="838080"/>
            <a:ext cx="849780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aipei, Taiwan, is co-located with ISGC 2010 ev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SzPct val="10279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ime: March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SzPct val="10279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n-line Registration http://event.twgrid.org/isgc2010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SzPct val="10279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raft agenda from APGridPMA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GTF Introd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pdates from EUGridPMA and TAGP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A status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ew CA Presentation: Mongol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elf-audit repor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PAC and the other thr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iew Mongolia SSSCA CP/C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1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GT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1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rivate key 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1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AT and cyber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1619280" y="41400"/>
            <a:ext cx="7416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GC Piggyback Ev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95280" y="838080"/>
            <a:ext cx="849780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Lite Training for Trainers (5-7 Marc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cial Simulation Tutorial (7 Marc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RODS Workshop (8 Marc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GC Symposium (9-12 Marc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urity Workshop (7 Marc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SzPct val="102792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ity policies, David Kelsey, 30 minu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SzPct val="10279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 security and handle security incident, Mingchao, 45-60 minu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SzPct val="102792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you were hacked and what you should do, Romain, 45-60 minu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SzPct val="102792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ddleware Security, David Groep, 45-60 minu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ct val="100000"/>
              </a:lnSpc>
              <a:spcBef>
                <a:spcPts val="700"/>
              </a:spcBef>
              <a:buSzPct val="102792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ity Service Challenge and Security Monitoring, Jinny, 45-60 minu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01:20:39Z</dcterms:created>
  <dc:creator>David Groep</dc:creator>
  <dc:description/>
  <dc:language>en-US</dc:language>
  <cp:lastModifiedBy>mac</cp:lastModifiedBy>
  <dcterms:modified xsi:type="dcterms:W3CDTF">2010-01-18T09:52:20Z</dcterms:modified>
  <cp:revision>173</cp:revision>
  <dc:subject/>
  <dc:title>International Grid Trust Federation Session  GGF 18 Washington, DC, USA</dc:title>
</cp:coreProperties>
</file>