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220-E35E-403C-B1AE-798E06D5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67E-A3DC-4C6F-AC4F-92C079A0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5B65-2B41-417E-91CD-5DFBC723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218B-81DF-416C-A35E-C01B3CCB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1FD-C5FD-40E5-97A3-9027C59D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6B4-06B7-45EF-81A7-BD6F579E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5D8-C34B-4B0E-AF44-E5C2F57C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175-C6E5-4425-B7D3-4CAE17D1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B533-BC6F-4316-962C-01C8BEA3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61D-635E-4B55-B3D4-C5A99D60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86E-9969-4301-8208-3EEAFCD6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8DC-86B9-49CE-A712-68DABADE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CC852-B4E7-4793-A773-EC2EA3D88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EU GridPMA Dub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 – TLS reneg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t another middlewar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nnouncements from Glo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t necessarily seen by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not specifically a Globus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bounces not unhear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sponding members not unhear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sponding CAs definitely heard o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the R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ing all P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n theory, round the clock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ing CA stuff, not other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affecting P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up on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report at PMA(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action – testing CA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revious Six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2009: Apache mod_s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TMCP: Yet Another “Too Many CAs”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oo f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ally IGTF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ed issuing a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didn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– finishing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(DSA) and MD5 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mms test to igtf-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– NUL ch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middlewar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heck for embedded NUL ch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– Another comm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 CAs responded within 24 h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20 that didn't, six responded after a quick p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relinquished role as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s took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not taken a step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TF A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-ish – RAT comms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secure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ut two members responded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