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103-EF94-4579-B157-A749A087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EBE-B9EE-4CF3-BCA4-82DBC358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857-DBAC-4A5B-930D-7E8EE623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F3C-7CFD-43AA-B183-DCAE742B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D3F-3679-4AEB-80EC-5FAEA10B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EE7-3882-4344-9AE4-BAEF5BC2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E76-754D-4CC2-9725-7F05EEE7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1E4-716A-4545-96D2-8B8AF629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4A3-E3DA-4FE0-85FE-6AE5521D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6CA-53A3-4FAB-B93B-196420A0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480-3005-4BA0-A0CA-C094B065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B34-6880-4C58-80C2-15EC463D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54A6-20B3-4692-B004-6F2DB71CEB74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RENA eScience Personal 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38862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ccreditatio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logo-sigma-stor.png"/>
          <p:cNvPicPr/>
          <p:nvPr/>
        </p:nvPicPr>
        <p:blipFill>
          <a:blip r:embed="rId1"/>
          <a:stretch/>
        </p:blipFill>
        <p:spPr>
          <a:xfrm>
            <a:off x="285840" y="6192720"/>
            <a:ext cx="1285920" cy="474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34520" y="571500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Jan Meijer, TCS 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235280" y="5715000"/>
            <a:ext cx="164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uGridPM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8-20 Jan.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ub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TERENA Logo.gif"/>
          <p:cNvPicPr/>
          <p:nvPr/>
        </p:nvPicPr>
        <p:blipFill>
          <a:blip r:embed="rId2"/>
          <a:stretch/>
        </p:blipFill>
        <p:spPr>
          <a:xfrm>
            <a:off x="4000680" y="5643720"/>
            <a:ext cx="10285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CS technical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tcs_all_cas_in_one_picture.png"/>
          <p:cNvPicPr/>
          <p:nvPr/>
        </p:nvPicPr>
        <p:blipFill>
          <a:blip r:embed="rId1"/>
          <a:stretch/>
        </p:blipFill>
        <p:spPr>
          <a:xfrm>
            <a:off x="857160" y="1500120"/>
            <a:ext cx="742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legated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personal_ca_responsibility_hierarchy.png"/>
          <p:cNvPicPr/>
          <p:nvPr/>
        </p:nvPicPr>
        <p:blipFill>
          <a:blip r:embed="rId1"/>
          <a:stretch/>
        </p:blipFill>
        <p:spPr>
          <a:xfrm>
            <a:off x="785880" y="1428840"/>
            <a:ext cx="75294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t using contr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personal_ca_overview_contracts.png"/>
          <p:cNvPicPr/>
          <p:nvPr/>
        </p:nvPicPr>
        <p:blipFill>
          <a:blip r:embed="rId1"/>
          <a:stretch/>
        </p:blipFill>
        <p:spPr>
          <a:xfrm>
            <a:off x="428760" y="1143000"/>
            <a:ext cx="807228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legated respons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NRE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responsible for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ubscri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greement TERENA - N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Subscriber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responsible for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greement NREN – Subscri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n all agree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adhere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to 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GB" sz="4000" spc="-1" strike="noStrike" u="sng">
                <a:solidFill>
                  <a:srgbClr val="ff0000"/>
                </a:solidFill>
                <a:uFillTx/>
                <a:latin typeface="Calibri"/>
              </a:rPr>
              <a:t>C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posi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257184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http://www.terena.org/activities/tcs/re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entity V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2.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uthentication of Individual Ident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identity of a Requester in a Subscriber's IdP has been validated by the Subscriber. During the validation process or during processes supporting that validation process the identity of the requester was confirmed with a </a:t>
            </a:r>
            <a:r>
              <a:rPr b="1" lang="en-GB" sz="3000" spc="-1" strike="noStrike">
                <a:solidFill>
                  <a:srgbClr val="00b050"/>
                </a:solidFill>
                <a:latin typeface="Calibri"/>
              </a:rPr>
              <a:t>face-to-face meeting and valid photo identific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nd/or similar official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ser author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2.3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Authentication of Individual Ident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Subscriber expresses that an identity has been properly validated by setting a specific value in the </a:t>
            </a:r>
            <a:r>
              <a:rPr b="0" i="1" lang="en-GB" sz="3000" spc="-1" strike="noStrike">
                <a:solidFill>
                  <a:srgbClr val="00b050"/>
                </a:solidFill>
                <a:latin typeface="Calibri"/>
              </a:rPr>
              <a:t>eduPersonEntitlement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ttribute of the Requester's identity in the Subscriber's Id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istently unique D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3.1.1 Type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N: A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reasonable representation of the 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of the Requester appended with an Identifier that uniquely and persistent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represents the Requester in the Subscriber's Id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described in section 3.1.5 Uniquenes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1.5 Uniqueness of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ubject Distinguished Name of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RENA eScience Personal C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issued Certificate is unique for each Requester by including an Identifier that uniquely and persistently represents the Requester in the IdP of its Subscriber. A Subscriber will ensure the persistence and uniqueness of the aforementioned Identifier that its IdP releases to the TERENA eScience Personal CA.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he Identifier must be traceable to a Requester for at least as long as the certificate issued to the Requester is val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9.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 can Request Rev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mber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quest the revocation of any certificate within its constituency of Subscribe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ubscriber can request the revocation of any certificate within its constituency of Requeste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Requester can request the revocation of its own certific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vocation request can be initiated by other entities. Such a revocation request has to be properly and convincingly documen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9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rcumstances for Rev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quester's IdP account is compromised, revoked or its password is compromised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has been a modification of the information pertaining to the Requester that is contained within the certific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ocation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.9.4 Revocation Request Grac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ny of the parties defined in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Section 4.9.2 “Who can request revocation”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hat becomes aware of circumstances that require revocation of a certificate is obliged to initiate a revocation request as soon as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Manual and automated revocation with Confusa portal softw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t’s a 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personal--ca-with-federation_kaal2.png"/>
          <p:cNvPicPr/>
          <p:nvPr/>
        </p:nvPicPr>
        <p:blipFill>
          <a:blip r:embed="rId1"/>
          <a:stretch/>
        </p:blipFill>
        <p:spPr>
          <a:xfrm>
            <a:off x="1071720" y="1214280"/>
            <a:ext cx="71085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dP data 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6.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scriber Representations and Warran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on signing and accepting the Subscriber Agreement, the Subscriber represents to TCS and to relying parties that at the time of acceptance and until further noti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All representations made by the Subscriber to TCS regarding the information contained in the certificate of its Requesters are accurate and tr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agrees with the terms and conditions of this CPS and other agreements and policy statements of T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abides by the laws applicable in its country or territory including those related to intellectual property protection, viruses, accessing computer systems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ubscriber complies with all export laws and regulations for dual usage goods as may be applic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The Subscriber agrees to on request provide full documentation to Member and/or TERENA about the procedures used to populate and maintain the identity related information in its I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hotoId requirement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eduPersonEntit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ent unique Id requiremen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ePP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vocation requiremen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i="1" lang="en-GB" sz="3200" spc="-1" strike="noStrike">
                <a:solidFill>
                  <a:srgbClr val="00b050"/>
                </a:solidFill>
                <a:latin typeface="Calibri"/>
              </a:rPr>
              <a:t>NREN, Subscriber,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dP data quality requirem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9.6.3 Subscriber Representations and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arran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self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 backend audit part of WebTrust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ked Comodo to do audit of issuing process similar to Web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fusa software will be security aud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pen issue: IDM management &amp; securing (deze dus nog bet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file say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P/CPS that covers the MICS, the following processes must be described, and must be compliant with th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the primary identity management system is managed and secu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: 9.6.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 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ve 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loyment: centralised por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zech Republic, Denmark,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Netherlands, Norway, Sweden, Fin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RENA: financial clearing 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NINETT: project coordin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URFnet: portal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ses ‘Confusa’ softw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rtal up and running since Octo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eps to 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PS/EuGridPMA accred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ish reviews, 2 week comment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PS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modo, NRENs final comment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fusa portal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D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entralised portal up and ru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st accredi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CS PMA representative to attend EUGridPMA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CS eScience Personal: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eun Nij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akk for m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ttp://www.terena.org/activities/tc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pecial MICS: sh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grid_ca_with_federations_comodo_backendv4.png"/>
          <p:cNvPicPr/>
          <p:nvPr/>
        </p:nvPicPr>
        <p:blipFill>
          <a:blip r:embed="rId1"/>
          <a:stretch/>
        </p:blipFill>
        <p:spPr>
          <a:xfrm>
            <a:off x="428760" y="1500120"/>
            <a:ext cx="82152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roject timeline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Jan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oject public, Cyprus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y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Zurich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p 2009: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erlin EuGridPMA pres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EuGrid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p - Oct 2009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uGridPMA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ajjad Asgh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-Reimer Karlsen-Mas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-David Kels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irst portal oper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v 2009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NR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REN information meeting he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ec 2009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view comments pro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view round commen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odo review initi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Jan 2010: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ost 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review round comments pro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PS circulated to EuGridP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RENA Certificate Service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T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REN collaboration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joint procurement &amp; 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.509 certificate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od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urrent service provi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ENA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tificat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tcs_timelinev2.png"/>
          <p:cNvPicPr/>
          <p:nvPr/>
        </p:nvPicPr>
        <p:blipFill>
          <a:blip r:embed="rId1"/>
          <a:stretch/>
        </p:blipFill>
        <p:spPr>
          <a:xfrm>
            <a:off x="0" y="1785960"/>
            <a:ext cx="8858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ERENA Certificate Ser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tcs_all_cas_in_one_picture.png"/>
          <p:cNvPicPr/>
          <p:nvPr/>
        </p:nvPicPr>
        <p:blipFill>
          <a:blip r:embed="rId1"/>
          <a:stretch/>
        </p:blipFill>
        <p:spPr>
          <a:xfrm>
            <a:off x="857160" y="1500120"/>
            <a:ext cx="742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CS 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ERENA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ractual party, financial clearinghouse, contact conduit to Como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Representa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 per NREN, Formal deci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R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ay to day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TCS PMA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ponsible for poli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Kent Engstrom, Jan Meijer, Kevin Meynell,, Teun Nijssen, Milan So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NREN commun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arious other tasks (portal software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 rot="16200000">
            <a:off x="-2293200" y="286452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rticipating NR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57240" y="357120"/>
          <a:ext cx="6715440" cy="6701040"/>
        </p:xfrm>
        <a:graphic>
          <a:graphicData uri="http://schemas.openxmlformats.org/drawingml/2006/table">
            <a:tbl>
              <a:tblPr/>
              <a:tblGrid>
                <a:gridCol w="1928880"/>
                <a:gridCol w="1500120"/>
                <a:gridCol w="1071720"/>
                <a:gridCol w="1071720"/>
                <a:gridCol w="1143000"/>
              </a:tblGrid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ber or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 Sig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O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-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o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NE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N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C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IR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6:40:19Z</dcterms:created>
  <dc:creator>Jan Meijer</dc:creator>
  <dc:description/>
  <dc:language>en-US</dc:language>
  <cp:lastModifiedBy>davidg</cp:lastModifiedBy>
  <dcterms:modified xsi:type="dcterms:W3CDTF">2010-01-18T11:17:55Z</dcterms:modified>
  <cp:revision>109</cp:revision>
  <dc:subject/>
  <dc:title>TERENA eScience Personal CA</dc:title>
</cp:coreProperties>
</file>